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569C-7129-441D-A731-7070E152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2096-AC1E-4924-B516-31EF7E43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2EA5-8297-4980-BBD8-8B9FDA55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F8F8-B8F7-4302-AA09-2D496DF4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CC3A-7E7F-4071-9850-D5A7AC0D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1999-34A3-48BE-962C-0E7CA0C6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BE6-4EF9-4886-8639-757D5842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5A0-B54B-4DA4-AAA3-5C8AAE87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616-3DD5-4916-ACEC-1D9E3682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7ABD-C308-46F1-BC7E-C12762A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7DA4-6A3E-4595-BDD2-19A15D5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AE70-8DFC-48FF-A0E8-495D00C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59D7-689A-41D5-BB3D-19D2905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7B4F-B12B-4BE8-BACD-C1EBC497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5A3B-CCAE-4F21-9885-C4DE7279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5339-45A5-49B3-99AC-3AB4F058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4EE-670F-42D5-9333-5013CB4A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0E97-B9CE-4248-95D1-B698A10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D480-481C-49EC-8A04-A9F4DEE0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9F84-FCFA-48B7-A22C-D12777D8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5487-F8EF-4318-B601-1C2C0991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B085-FBF1-4BA3-99B1-5094E74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A839-9B8C-4CF6-B3D0-90524C7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7A0C-FA18-45E3-835E-BB864221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1FFC-CCEC-4567-AD44-FB22313E9E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5759-D95C-44F0-9C42-CD2967D6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BFC9-D53A-4E77-870D-64F06BE16DD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9F48-CDFA-4495-B48D-77F3AC524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مفهوم نظم المعلومات و فوائدها و دورها في حل المشكلات في منظمات الأعمال و المشاكل التي تواجه هذه الأنظمة وخصائص نظام المعلومات الفعال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أنواع نظم المعلومات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عناصر و متطلبات تشغيل نظم المعلوم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وفقاً لوظائف التنظيم نجد النظم الفرعية للمعلومات تكون كما يلي منها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نظم الإنتاج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تتمثل في نظم تخطيط الإنتاج، ونظم الرقابة على الإنتاج، ونظم تحليل تكلفة الإ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نظم التسويق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تشمل تخطيط المبيعات، وتحليل ورصد المبيعات، وتوزيع المبيعات، وكذلك نظم بحوث التسويق ورغبات العملا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نظام المشتريات والمخزون، وتوزيع المستودعات والأرصد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نظام الأفراد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يشمل تخطيط القوى العاملة، وتحديد الإحتياجات منها، وتحليل الأداء، وإدارة نظم الأجو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النظم المالية والمحاسبية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تشمل نظام المحاسبة، والتحليل المالي، وتحليل التكلفة وكل ما يتعلق بالنواحي المال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... الخ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نواع نظم المعلومات وفقا للمستوى الإداري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وجد ثلاثة مستويات من نظم المعلومات تدعم المستويات الإدارية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perational level system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ستوى التشغيل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ystem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anagement level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ستوىالإداري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rategic level Syst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ستوى الاستراتيج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operational level system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Garamond"/>
              </a:rPr>
              <a:t>نظم تشغيلية تعمل على مراقبة النشاطات المختلفة والمعاملات التجارية في المنظمة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دعم الادارة التشغيلية فيما يتعلق بالحركات اليومية والنشاطات البسيطة التي تقوم بها المؤسسة مثل المبيعات، الايداعات، تدفق المواد في المخازن، الرواتب....الخ</a:t>
            </a: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System  Management lev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Garamond"/>
              </a:rPr>
              <a:t>نظم معلومات تعمل على دعم مراقبة ومراجعة، اتخاذ القرار، وإدارة الأنشطة في الإدارة الوسطى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</a:t>
            </a:r>
            <a:r>
              <a:rPr b="1" lang="ar-SY" sz="4000" spc="-1" strike="noStrike">
                <a:solidFill>
                  <a:srgbClr val="ffff00"/>
                </a:solidFill>
                <a:latin typeface="Garamond"/>
              </a:rPr>
              <a:t>قدم ملخص روتيني يهدف إلى السرعة في إنجاز التقارير المطلوب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Strategic level System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نظم معلومات 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تخدم</a:t>
            </a: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 نشاطات التخطيط طويل الأجل والاستراتيجي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(القضايا الاستراتيجية)</a:t>
            </a: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 ل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ل</a:t>
            </a: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إدارة العليا في المنظمة</a:t>
            </a: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و البيئة المحيطة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" spc="-1" strike="noStrike">
                <a:solidFill>
                  <a:srgbClr val="ffff00"/>
                </a:solidFill>
                <a:latin typeface="Garamond"/>
                <a:ea typeface="Times New Roman"/>
              </a:rPr>
              <a:t>  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عناصر و متطلبات تشغيل نظم المعلومات(البنية التحتية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لتشغيل نظم المعلومات في منظمات الأعمال يجب توفر مجموعة من العناصر منها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عناصر الماد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شمل : محطات الطاقة، المخدمات، أجهزة الحاسوب، نظم الحماية الكهربائية ، نظم الاتصال، نظام الشبك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عناصر البرمجية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تشمل (نظام التشغيل،البرمجيات المساندة،التطبيقات الجاهزة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قوى البشرية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تشمل (المتخصصين في نظم المعلومات،المستخدمي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69720" y="408240"/>
            <a:ext cx="5973480" cy="493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أهم مشكلات استخدام نظم المعلومات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عتقاد بعض الإدارات بعدم الحاجة إلى تطبيق نظام 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عدم استخدام موارد المعلومات والمتوفرة في المؤسسات الاستخدام الأمثل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عدم اكتمال البنية التحتية للاتصالات و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خلل في نشر ثقافة تكنولوجيا المعلومات داخل المؤسسات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خلل في الاستفادة من الموارد البشرية المؤهلة داخل المؤسس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نعدام التخطيط والتنسيق والرقابة على الأنشطة المتعلقة باستخدام نظم 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602400"/>
            <a:ext cx="28958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AutoShape 2"/>
          <p:cNvSpPr/>
          <p:nvPr/>
        </p:nvSpPr>
        <p:spPr>
          <a:xfrm rot="16200000">
            <a:off x="1115640" y="765000"/>
            <a:ext cx="1368720" cy="1368360"/>
          </a:xfrm>
          <a:prstGeom prst="cube">
            <a:avLst>
              <a:gd name="adj" fmla="val 7768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32000" y="1125360"/>
            <a:ext cx="11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إدارة المشاريع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4"/>
          <p:cNvSpPr/>
          <p:nvPr/>
        </p:nvSpPr>
        <p:spPr>
          <a:xfrm rot="16200000">
            <a:off x="3708360" y="213336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5"/>
          <p:cNvSpPr/>
          <p:nvPr/>
        </p:nvSpPr>
        <p:spPr>
          <a:xfrm rot="16200000">
            <a:off x="971640" y="270792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6"/>
          <p:cNvSpPr/>
          <p:nvPr/>
        </p:nvSpPr>
        <p:spPr>
          <a:xfrm rot="16200000">
            <a:off x="4356000" y="25992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7"/>
          <p:cNvSpPr/>
          <p:nvPr/>
        </p:nvSpPr>
        <p:spPr>
          <a:xfrm rot="16200000">
            <a:off x="7164360" y="155700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5651640" y="2997360"/>
          <a:ext cx="2801880" cy="313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2997360"/>
                    <a:ext cx="28018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9"/>
          <p:cNvSpPr/>
          <p:nvPr/>
        </p:nvSpPr>
        <p:spPr>
          <a:xfrm>
            <a:off x="1476360" y="3860640"/>
            <a:ext cx="4214880" cy="2160720"/>
          </a:xfrm>
          <a:prstGeom prst="cloudCallout">
            <a:avLst>
              <a:gd name="adj1" fmla="val 73203"/>
              <a:gd name="adj2" fmla="val -5653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عبت وأنا أجمع معلومات عن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منظم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كيف يمكن أن أحل المشكلة؟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rc 10"/>
          <p:cNvSpPr/>
          <p:nvPr/>
        </p:nvSpPr>
        <p:spPr>
          <a:xfrm flipH="1" flipV="1">
            <a:off x="5795280" y="1052640"/>
            <a:ext cx="1297080" cy="288720"/>
          </a:xfrm>
          <a:prstGeom prst="pie">
            <a:avLst/>
          </a:prstGeom>
          <a:noFill/>
          <a:ln w="12708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rc 11"/>
          <p:cNvSpPr/>
          <p:nvPr/>
        </p:nvSpPr>
        <p:spPr>
          <a:xfrm flipV="1" rot="11137800">
            <a:off x="2555640" y="980640"/>
            <a:ext cx="1511280" cy="647640"/>
          </a:xfrm>
          <a:prstGeom prst="pie">
            <a:avLst/>
          </a:prstGeom>
          <a:noFill/>
          <a:ln w="10152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rc 12"/>
          <p:cNvSpPr/>
          <p:nvPr/>
        </p:nvSpPr>
        <p:spPr>
          <a:xfrm flipH="1" rot="11020800">
            <a:off x="5291640" y="2348640"/>
            <a:ext cx="1655640" cy="792360"/>
          </a:xfrm>
          <a:prstGeom prst="pie">
            <a:avLst/>
          </a:prstGeom>
          <a:noFill/>
          <a:ln w="19368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2411280" y="2708280"/>
            <a:ext cx="1224000" cy="720720"/>
          </a:xfrm>
          <a:prstGeom prst="pie">
            <a:avLst/>
          </a:prstGeom>
          <a:noFill/>
          <a:ln w="190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427640" y="549360"/>
            <a:ext cx="115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إدارة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شئون المالي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7451640" y="1916280"/>
            <a:ext cx="115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إدارة شئون الموظفي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24360" y="2349360"/>
            <a:ext cx="118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رئيس المؤسسة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14400" y="2997360"/>
            <a:ext cx="13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إدارة العلاقات العام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حل في إستخدام 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مفهوم نظام المعلومات 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نظام يقوم بجمع وتنظيم وإيصال وعرض المعلومات لاستعمالها في عمليات المنظمة من قبل الأفراد العاملين فيها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</a:rPr>
              <a:t>النظام الذي يقوم بتزويد المنظمة بالمعلومات الضرورية اللازمة لأداء أنشطنها واتخاذ القرارات وذلك في الوقت المناسب وعند المستوى الإداري الملائم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Garamond"/>
              </a:rPr>
              <a:t>النظام يتكون من مجموعة من الأجزاء(معلومات،أفراد،تجهيزات،اجراءات) المترابطة التي تعمل على (تجميع،تخزين،معالجة،تحليل) وعرض المخرجات و النتائج بالاشكال المختلفة للمعلومات(نقارير،اشكال،رسومات،مخططات) للمستفيدين من النظام في منظمات الاعمال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حوجة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لنظم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علومات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في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جال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أعمال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دعم نظم المعلومات العمليات وطرق تنفيذها من حيث السرعة والدقة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YE" sz="4400" spc="-1" strike="noStrike">
                <a:solidFill>
                  <a:srgbClr val="ffff00"/>
                </a:solidFill>
                <a:latin typeface="Garamond"/>
              </a:rPr>
              <a:t>متابعة التغيرات التي تتم في 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بيئة</a:t>
            </a:r>
            <a:r>
              <a:rPr b="1" lang="ar-YE" sz="4400" spc="-1" strike="noStrike">
                <a:solidFill>
                  <a:srgbClr val="ffff00"/>
                </a:solidFill>
                <a:latin typeface="Garamond"/>
              </a:rPr>
              <a:t> المنظمة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دعم نظم المعلومات الانشطة الإدارية في مجال الأعمال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  من خلال توفير المعلوم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نمو في حجم منظمة الأعمال وتوزع فروع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خصائص نظم المعلومات الفعال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تكامل بين اجزاء المنشأة الداخلية و البيئة الخارج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وفير البيانات و المعلومات التي تحتاجها المنشأة (مقننة، محدثة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ستخدام اساليب متقدمة في تحليل البيان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رون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نواع نظم المعلومات من حيث طبيعته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نظم المعلومات اليدوية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: هي النظم التي تجري جميع عملياتها بشكل يدوي دون إستخدام أي أداة تكنولوجي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نظم المعلومات المحوسبة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 : هي النظم التي تعتمد على الأجهزة الالكترونية في عمليات الادخال و المعالجة و الاخراج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نظم المعلومات المتكاملة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: تطبيق لمجموعة من النظم بنفس الوقت داخل منظمة واحدة أو عدة منظمات لتجنب تكرار إستخدام نظم المعلوم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بعض أشكال 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إدارية: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معلومات تختص بمعالجة و تشغيل العمليات الإدار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محاسب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عالج المعلومات المتعلقة بالمحاسب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معلومات جغراف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جمع وتنظم و تصنف وتبوب وتعالج المعلومات الجغراف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طب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حتوي على معلومات طبية وتخدم العاملين في الحقل الطبي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هندس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حتوي على معلومات هندسية وتخدم العاملين في الحقل الهندسي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وظيفة  نظم المعلومات في منظمات الأعما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إدخال كافة البيانات ومعالجتها، للحصول على المعلومات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وذلك من خلال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جميع، وتحليل وتبويب وتلخيص البيانات، إلى جانب حفظ سجلات المعلومات، واستخراج المعلومات وفق طلب الجهات المستخدمة للمعلومة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وصيل المعلومات لكافة المستفيدين منها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أنظمة الفرعية لنظام المعلومات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ي نظام يتكون من مجموعة من الأنظمة الفرعية، والتي تتفاعل فيما بين جزئياتها من جهة، لتحقيق هدف نظامها الفرعي، كما تتفاعل أيضاً مع الأنظمة الفرعية الأخرى، لتحقيق هدف النظام الكلي للمنظمة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يتفاعل نظام المنظمة بدوره مع الأنظمة المختلفة بالبيئة الخارجية تحقيقاً لأهدافه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4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 111</cp:lastModifiedBy>
  <dcterms:modified xsi:type="dcterms:W3CDTF">2021-11-12T13:17:47Z</dcterms:modified>
  <cp:revision>229</cp:revision>
  <dc:subject/>
  <dc:title>Internet Application </dc:title>
</cp:coreProperties>
</file>