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533D-2395-4106-9025-BABC6064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0DC6-665A-4911-8354-1A3A0A83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9262-D901-4131-A6DC-D3A1877C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4E6F-B22E-4D25-AFE6-D3478BE5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41FD-992A-4125-A9D5-364BD530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900-1A47-419F-8314-20A190C6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E65-2EB4-49F7-ABF5-30E7B7C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696-2881-4AC3-8A71-2C3DD69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B2F-0D0E-4261-BE79-1402049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650-D799-403A-AA95-A98FA6E1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23DD-4629-4E2F-A66A-A750B18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8167-3A62-4947-8BC0-F5EA8C1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DCB8-3107-40E2-BE86-CFE800F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F2D8-A3FC-4F7A-B92D-B36EE56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F5E2-1B71-4E42-8EF5-20E8AD7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803D-6135-44A4-9E1B-8FBBE507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3320-07B1-4BF4-A83B-135B4CA5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C82C-164D-4AB4-A0C3-15762816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7064-EE87-4E76-A446-E26DC330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11EB-3829-4018-B52B-3FCE031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31F7-5E4E-495B-96E2-BA9CD60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B575-9E56-4E7B-A36D-6EFC6D6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7BB9-EA7E-4586-9567-F3FC940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8DD2-1A1F-4433-9DD8-EF97E61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65C-9E00-403D-BC9D-3A906F15DE1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670-5231-4E0E-BF9C-3656F5CAE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894-B861-4A49-A56A-21C3573181A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F06-74B8-403A-9C9E-D986DAF84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أهداف 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فهوم نظم دعم القرا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واصفات نظام دعم القرار الناج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خصائص ، فوائد ، امكانيات وتطبيقات 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كونات 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فرق بين نظم دعم القرار و نظم المعلومات الإدار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نظم دعم القرار ودعم القرارات الاستراتيج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قييم نجاح وفشل نظم دعم القرار و دور الادارة العليا في نظم دعم القرار.</a:t>
            </a: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ffff00"/>
                </a:solidFill>
                <a:latin typeface="Garamond"/>
              </a:rPr>
              <a:t>مكونات نظم دعم القرار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ar-AE" sz="3200" spc="-1" strike="noStrike">
                <a:solidFill>
                  <a:srgbClr val="ffff00"/>
                </a:solidFill>
                <a:latin typeface="Garamond"/>
              </a:rPr>
              <a:t>- قاعدة البيان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هى مخزن لكافة البيانات ذات الأهمية و القيمة بالنسبة للمستخدمين و نظام دعم القرارات و الخاصة بمنشأة معينة أو نشاط محدد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.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تكون قاعدة البيانات من عناصر البيانات المخزنة بطريقة مرتبطة ومنظمة فى شكل ملفات و سجلات و حقول بيانات تتلاءم مع احتياجات و متطلبات المستخدمين ، و يتم تدأولها بواسطة نظم إدارة قواعد البيان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3- </a:t>
            </a: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قاعدة النماذج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تضمن جميع نماذج الطرق الكمية فى الإدارة و التى توفر لمتخذ القرار تنوعاً هائلا من نماذج بحوث العمليات التي تساعد فى دراسة مجموعة البدائل و الاختيارات المختلف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 </a:t>
            </a: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مثل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برمجة الخطي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محاكا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نقل والتخصي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نظم الفرعية المكونة ل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 : النظام الفرعي لإدارة قاعدة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يوفر المعلومات التي تستخدمها النماذج في التحليل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مكن المدير من القيام باستفسارات مباشرة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نياً : النظام الفرعي لإدارة قاعدة النماذج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فاعل مع النظام و إدارة الحوار لتمكين المدير من رؤية النماذج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إدارة النماذج و التاكد من توفر النماذج التي يطلبها المدير بشكل متجان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فاعل مع نظام إدارة قواعد البيانات للحصول على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 : النظام الفرعي لإدارة الحوار البين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قوم بتوليد و إدارة الحوار بين مستخدم نظام دعم القرار و قاعدة النماذج و قاعدة البيانات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سهل عملية إستخدام نظام دعم القرار  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جعل النظام مرن في التعامل مع البيانات و النماذج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عض الفرق بين نظم المعلومات الإدارية و نظم دعم القرار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نظم دعم القر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نظم المعلومات الإدار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مكن استعماله لعنونة المشاكل غير المتوقعة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اثيره الرئيس يكون في الأعمال المهيكل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قارير تعبر عن مواقف محددة وغير روتيني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قارير موحدة و تجيب على امور عام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الفاعل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الكف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سهولة الإستعمال و التكيف و المرون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تدفق المعلومات.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دعم القرار و القرارات الاستراتيج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يوفر نظم دعم القرار المعلومات الاستراتيجية والتي تستخدم من قبل الادارة العليا في عملية التخطيط الاستراتيجي للمنظم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يدعم الادارة العليا في قراراتها الاستراتيجية من خلال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Garamond"/>
              </a:rPr>
              <a:t>توفير التكنولوجيا</a:t>
            </a: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 أو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Garamond"/>
              </a:rPr>
              <a:t>في البحث عن المشاكل وحلها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دور الادارة العليا في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عتمد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نجاح و فشل نظم دعم القرار على تفاعل الإدارة العليا مع هذا النظام. من خلال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شاركة في تقييم النظام المقترح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وافقة على قبول وادخال النظام في المنظم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وضع و متابعة السياسات الخاصة ب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شاركة في تطوير و تشغيل نظام دعم القرار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تقييم مدى نجاح أو فشل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مكن الحكم على نجاح نظام دعم القرار في المنظمة من خلال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رضا عن النظام من قبل المستخدمين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قبول أو رفض المدير متخذ القرار للنظا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كرار استخدام النظام  اذا كان استخدام النظام اختياريا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نظام في حالات معينة غير مكرر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مشكلة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تطور في مجال الحاسب وكافة مجالات الحياة ادى الى التوسع في الانشطة التجارية وغير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تخاذ القرارات السريعة يحتاج لمعلومات جيدة في اسرع وق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ادارة العليا لايوجد لديها الوقت الكافي في عملية جمع المعلومات وتحليلها واصدار قرارات بناء على هذه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يمكن مساعدة الادارة العليا في حل هذه المشكل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دعم القرار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cision Support System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يعرف نظم دعم القرار على انه مجموعة من البيانات و معدات المعالجة التي تستخدم في التعامل مع البيانات للإجابة عن الأسئلة المجهولة و غير المهيكلة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ام معلومات مبني على الحاسب يساعد متخذ القرار على اتخاذ قرار أفضل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ام معتمد على الحاسوب يوفر امكانيات متنوعة تساعد في حل المشكلات التي تواجه المستخد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مواصفات نظام دعم القرار الناج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بسيط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هل السيطر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هل الاتصا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كتمل على مواضيع مهم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قوي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تكي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خصائص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ساعدة متخذ القرار في اتخاذ القرارات  خاصة غير المهيكلة وشبه المهيكل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حسين فعالية عملية اتخاذ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دعم عملية اتخاذ القرار لا استبدال صاحب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كون تحت سيطرة صاحب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نماذج مع الطرق التقليدية لاسترجاع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فوائد الرئيسية ل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لقدرة على دعم حلول المشاكل المعقد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ردود الفعل السريعة للمواقف غير المتوقع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وفير التكلف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نتاج قرارات اكثر ايجاب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ساعد في تدريب المدراء غير الخبيرين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حسين فعالية الإدار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مكانيات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وفير الوسائل التحليلية المساعدة في اتخاذ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توفير التقاري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رسوم البيان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البحث عن الهد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عامل مع القرارات المتكررة والقرارات الخاصة بحالات معين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اسئلة ماذا – لو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طبيقات نظم دعم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ستخدم المنظمات نظم دعم القرار في عدة تطبيقات منه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خطيط الاستراتيج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خطيط المالي الاستراتيج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حليل المخاط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إدارة الانتاج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ffff00"/>
                </a:solidFill>
                <a:latin typeface="Garamond"/>
              </a:rPr>
              <a:t>مكونات نظم دعم القرار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omponent of Decision Support System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اجهة المستخدمين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أوجه التداخل بين المستخدمين و نظام دعم القرار من خلال شبكات الحاسبات، وهي الطريقة التي يتم بها الحوار و كيفية إدخال الأوامر و الحصول على استفسارات و استخراج معلومات ، ويتم إدخال الأوامر بطرق متنوعة عن طريق لوحة المفاتيح أو ملىء مربعات حوار أما المخرجات فتكون في تقارير أو رسوم بيانية 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0-22T08:32:24Z</dcterms:modified>
  <cp:revision>329</cp:revision>
  <dc:subject/>
  <dc:title>Internet Application </dc:title>
</cp:coreProperties>
</file>