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242E-886E-44B7-BCEA-34D1D394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111E-B3B3-4214-A6B4-4AC57D59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7E20-A031-48C3-9BAA-ADA90A84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1CBF-DB96-4C46-95AF-DD9A83F0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7942-C0AD-495B-B607-C510F973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4200-9424-4E0F-AE5F-A81C59E8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F49C-13A6-4D4A-A6AE-6EECA19A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751E-94FC-4D4D-A933-E688EA14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BA5B-0BAB-4F29-8EE2-C581F84E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ABDF-4CA4-4C03-BE43-40B34735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96A1-DDF7-47A1-A568-019CEF49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6CAB-E9ED-4067-A7E9-5786526A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3F15-A1F3-4631-933B-C91830EA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1913-3B05-4F2D-B3A3-1CBB994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AB85-1F8C-46F8-B83F-EC44072C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C524-DCB1-439A-9DD3-A711B01F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F2DC-F583-41A0-8A82-713488AA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440F2-E4A1-42A6-BA0E-517B8A67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D872-C895-4466-9EE2-DBA7D2B2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50168-58F9-4986-B2C1-FA391AFA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120D-E5A8-4E7B-9246-8C9B4D5E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F13F-3F89-4DE7-AFB0-569EBF52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B5BA-FEC7-44A3-AB29-AC6C77F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C305-9D02-4250-A826-1C6AC0AE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12ED-4F02-4C5A-88C9-882043E7601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D625-243E-4897-AF3E-831A5FBEE0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0775-0F66-42FA-8B2A-8FEB795B4D1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2514-1F8C-440E-A5DD-DF7CA09408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أهداف 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التعرف على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:</a:t>
            </a: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الطرق الممكنة لدعم الإدارةلحل مشكلة ما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أنواع نظم دعم القرا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نظم مستودعات البيانات ودورها في دعم عملية اتخاذ القرا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نظم التنقيب عن البيانات ودورها في دعم عملية اتخاذ القرار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نظم مستودعات البيانا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ي </a:t>
            </a: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أنظمة تستعمل تقنيات جديدة في تخزين كميات كبيرة من المعلومات الغير متشابهة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Heterogeneous</a:t>
            </a: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 بهدف إستعمالها في سرعة اتخاذ القرار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600" spc="-1" strike="noStrike">
                <a:solidFill>
                  <a:srgbClr val="ffffff"/>
                </a:solidFill>
                <a:latin typeface="Garamond"/>
              </a:rPr>
              <a:t>عبارة عن آلية لتخزين البيانات الكبيرة الحجم، خاصة الغير متشابهة و التي تخص منظمات الأعمال، ذات الفرع الواحد أو التي لها عدد من الفروع ذات الأنشطة المختلفة.</a:t>
            </a:r>
            <a:r>
              <a:rPr b="0" lang="ar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نوعية البيانات التي تخزن في مخازن البيانات وفترات معالجتها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تحتوي مخازن البياتات على البيانات التالية للمنظمة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البيانات التاريخ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البيانات التشغي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البيانات الخارج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200" spc="-1" strike="noStrike">
                <a:solidFill>
                  <a:srgbClr val="ffff66"/>
                </a:solidFill>
                <a:latin typeface="Garamond"/>
              </a:rPr>
              <a:t>البيانات المخزنة في مخازن البيانات تعالج بفترات محددة (يومياً، اسبوعياً، شهرياً، ...الخ) و تختلف مستودعات البيانات عن قواعد البيانات في انه </a:t>
            </a:r>
            <a:r>
              <a:rPr b="1" lang="ar" sz="3200" spc="-1" strike="noStrike" u="sng">
                <a:solidFill>
                  <a:srgbClr val="ff0000"/>
                </a:solidFill>
                <a:uFillTx/>
                <a:latin typeface="Garamond"/>
              </a:rPr>
              <a:t>لاتخزن فيها البيانات التي تستخدم لمعالجة العمليات اليومية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4000" spc="-1" strike="noStrike">
                <a:solidFill>
                  <a:srgbClr val="ffffff"/>
                </a:solidFill>
                <a:latin typeface="Garamond"/>
              </a:rPr>
              <a:t>الحاجة لإستخدام مخازن البيانات في منظمات الأعمال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4000" spc="-1" strike="noStrike">
                <a:solidFill>
                  <a:srgbClr val="ffff00"/>
                </a:solidFill>
                <a:latin typeface="Garamond"/>
              </a:rPr>
              <a:t>نتيجة للتوسع الكبير الذي طرأ على منظمات الأعمال في كل من نشاطها و زيادة فروعها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4000" spc="-1" strike="noStrike">
                <a:solidFill>
                  <a:srgbClr val="ffff00"/>
                </a:solidFill>
                <a:latin typeface="Garamond"/>
              </a:rPr>
              <a:t>ان الانظمة التشغيلية غير مهيئة لاجراء التحليلات المعقدة على البيان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4000" spc="-1" strike="noStrike">
                <a:solidFill>
                  <a:srgbClr val="ffff00"/>
                </a:solidFill>
                <a:latin typeface="Garamond"/>
              </a:rPr>
              <a:t>تتوزع البياتات داخل ارجاء المنظمة كما تتعدد انظمة انتاجها وادراتها فمن صور الى ورقات عمل الى بيانات مال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دور نظم مستودعات البيانات في دعم عملية إتخاذ القرار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200" spc="-1" strike="noStrike">
                <a:solidFill>
                  <a:srgbClr val="ffffff"/>
                </a:solidFill>
                <a:latin typeface="Garamond"/>
              </a:rPr>
              <a:t>يعمل على تأمين المعلومات المطورة و المحسنة، بغرض حصول المخططين و صانعي القرارات عليها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غير محدود من حيث المستويات و المجاميع التي يقدم الخدمات لها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مساهمة في ترشيد القرارات الإدارية في مختلف المستويات، و ذلك بإسترجاع معلومات مستقاه من مجموعة مختلفة من قواعد البيانا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تتيح للتنفيذيين النظر للمنظمة ككل. كما تتيح إمكانية إستخدام نماذج البيانات للإستعلام عن المهام و العمليات الصعبة المعالجة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شكلة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77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تطور في العلم، الاقتصاد و تكنولوجيا المعلومات و الإتصالات أدى الى زيادة كمية البيانات الرقمية في الاونة الاخيرة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الكميات الهائلة من البيانات لم تعد وسائل التحليل التقليدية (الاحصائية مثلاُ) قادرة على التعامل معها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كيف يمكن مساعدة منظمات الاعمال في  تحليل البيانات و استخراج المعلومات و المعارف منها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؟؟؟؟؟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فهوم نظم التنقيب عن البيان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43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تقوم بعملية بحث داخل مستودع البيانات عن معرفة غير مكتشفة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يعتبر التنقيب عن البيانات جزءاً مكملاً من إكتشاف المعرفة في قواعد البيانات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تقوم بالكشف و البحث عن البيانات تساعد الإدارة في تقسيم المعلومات للاستفادة منها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تنقيب عن البيانات ودعم عملية إتخاذ القرار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5500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ساعد نظم التنقيب وتقنيات التنقيب عن البيانات في دعم عملية إتخاذ القرار من خلال عدة أوجه منها :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تساعد متخذي القرار في تحليل البيانات و وايجاد الأنماط المخفية والغير متوقعة في البيانات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إستخدامها يوفر لمتخذي القرار  القدرة على إستكشاف والتركيز على أهم البيانات في قواعد البيان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إستخدامها يساعد في  بناء التنبؤات المستقبلية واستكشاف السلوك والاتجاهات، مما يسمح بتقدير القرارات الصحيحة و إتخاذها في الوقت المناسب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400" spc="-1" strike="noStrike">
                <a:solidFill>
                  <a:srgbClr val="ffff00"/>
                </a:solidFill>
                <a:latin typeface="Garamond"/>
              </a:rPr>
              <a:t>أنواع تنقيب البيانات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ypes of Data Mining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43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تنقيب التنبؤي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edictive Data Mining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يحاول إيجاد أفضل التنبؤات إعتماداً على المعطيات ويعتمد هذا النوع من أنواع التنقيب على إستخدام المعلومات القديمة لتوقع ما سيحدث في المستقبل وتكون لمثل هذه البيانات هدف محدد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ffff00"/>
                </a:solidFill>
                <a:latin typeface="Garamond"/>
              </a:rPr>
              <a:t>التنقيب الوصفي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scriptive Data M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يعتمد على إعادة تنظيم البيانات، والتنقيب في أعماقها لإستخراج النماذج الموجودة فيها ولايستوجب وجود هدف لهذه البيان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خطوات إستكشاف المعرفة من قواعد البيان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43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إختيار البيانات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ata Sel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في هذه المرحلة يتم تحديد وإسترجاع البيانات الملائمة من مجموعة البيان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هيئة البيانات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ata Preprocessing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يتم فيها تجهيز وعزل البيانات التي تحتوي على بيانات مبهمة أو مفقودة  أو شوائب من مجموعة البيانات كإلغاء المعلومات المتكررة، التصحيح الشكلي، معالجة المعلومات الناقصة وجعلها جاهزة للتطبيق و تشمل هذه المرحلة عدة خطوات ( تنظيف البيانات، إزالة البيانات المفقودة ،إشتقاق البيانات، دمج البيانات).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خطوات إستكشاف المعرفة من مخازن البيانات (متابعة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686800" cy="52722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نقل البيانات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ata Trans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مثل عملية نقل البيانات التي تم إختيارها الى شكل ملائم لإجراءات البحث والإسترجا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نقيب البيانات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ata Mining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في هذه المرحلة سيتم تطبيق اسلوب ذكي لإستخراج نماذج مفيدة قدر الإمكان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قييم النماذج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attern Evaluation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بعد إستخراج النماذج المهمة والتي تمثل المعرفة يتم تقيمها إستناداً الى مقاييس محدد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طرق نظم دعم الإدارة الممكنة لحل مشكلة ما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دف نظم المعلومات المبنية على الحاسوب بأنواعها المختلفة هو </a:t>
            </a: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مساعدة الإدارة في حل المشكلات بصورة اسر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طرق نظم دعم الإدارة الممكنة  لحل مشكلة ما: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** استخدام أداة بصورة مستقلة لحل جانب من المشكل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** استخدام عدة أدوات غير محكمة التكامل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**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ستخدام عدة أدوات محكمة التكامل(تظهر الأداة للمستخدم كوحدة واحدة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أنواع نظم دعم القرار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 – </a:t>
            </a:r>
            <a:br>
              <a:rPr sz="3200"/>
            </a:b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ولاً : نظم دعم القرار ونظم دعم القرارات الجماعية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ي أنظمة معلومات حاسوبية موجهة لمساعدة المستخدم في تحليل المشكلات المعقدة والوصول إلى القرارات اللازمة لحلها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صممت لتزويد الإدارة التكتيكية بالمعلومات الضرورية و الحيوية والحديث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عد مصدراً حيويا ورئيسياً من مصادر المعلومات لنظم معلومات دعم منفذي الإدارة العليا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SS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نظم دعم القرارات الجماعية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Group Decision Support System (GDS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عبارة عن النظام المصمم تكنولوجيا لمساعدة مجموعة من المدراء الذين يعملون كفريق ويواجهون اتخاذ قرارات بشكل جماعي بشان قضايا مبرمجة او شبه مبرمجة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مصادر المعلومات في نظم دعم القرار ونظم دعم القرارات الجماعية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مصادر داخلية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من البيئة الداخلية مثل معلومات نظم معالجة المعاملات ، معلومات نظم التقارير الإدارية، وغيرها من الانظمة وجميع المعلومات المتاحة في المنظمة يتم استخلاص المفيد من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مصادر خارجية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مثل المعلومات التي يتم الحصول عليها من البيئة الخارجية مثل معلومات المنافسين و معلومات الأسواق المحلية والعالم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خصائص نظم دعم القرارات الجماعية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متعدد الاطراف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: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يستخدم من قبل مجموعة من المدراء الذين يعملون كفريق لاتخاذ قرار جماعي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مصمم للمساعدة في القرارات الغير روتينية والشبيهة بالروتينية لزيادة فاعليتها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مصمم ليتلائم مع المستوى التكتيكي ويمكن استخدامه في المستوى الاستراتيجي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يعتبر حلقة الوصل المعلوماتية: تستسقي جزء من معلوماتها من المستوى الفني وتمد نظم دعم القرار العليا بالمعلوم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شكال نظم دعم القرارات الجماع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غرفة القرار الداخلي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عبارة عن غرفة قرارات جماعية توجد بها اجهزة بها نظم دعم القرارات الجماعية حيث يقوم المدراء بتبادل الاراء والافكار ويقوم النظام بتحليلها وفرزها وتلخيص النتائج المتوصل الي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شبكة الاتصالات المحلية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يوجد مجموعة من المدراء وغير موجودين في مكان واحد بل عبر شبكة ويقومون بالاتصال عبر شبكة ويقوم نظام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دعم القرارات الجماعية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بتحليل وفرز وتلخيص النتائج المتوصل الي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غرفة القرار عبر شبكة الاتصالات العاليمة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فيها يكون المدراء في أماكن متباعدة جدا ويستخدمون شبكة الاتصالات العالمية في التواصل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ويقوم نظام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دعم القرارات الجماعية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بتحليل وفرز وتلخيص النتائج المتوصل اليه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ثانياً: نظم دعم القرار الذكي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6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Garamond"/>
              </a:rPr>
              <a:t>ترتبط بمجال الذكاء الاصطناعي مثل الشبكات العصبية والمنطق الغامض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ثالثاً: فئة نظم دعم القرار الاخرى ومنها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:-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نظم مستودعات البيانات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المعالجة التحليلية الفور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التنقيب عن البيانات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المعلومات الادار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اتمتة المكاتب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القرار المعتمدة على الانترنت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نظم دعم قرارات الزبائن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ud</cp:lastModifiedBy>
  <dcterms:modified xsi:type="dcterms:W3CDTF">2015-11-19T06:01:50Z</dcterms:modified>
  <cp:revision>411</cp:revision>
  <dc:subject/>
  <dc:title>Internet Application </dc:title>
</cp:coreProperties>
</file>