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51F0-B7C1-47A9-94DA-F17EEC04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98B9-295E-46CC-89BC-FEE7BF3C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A121-B01A-43D3-B14B-73B622B1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3F4E-28C2-4DD3-BBFA-175C34B8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45CE-20C0-4389-B40B-B05362F9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A19-C85A-495B-830B-5C383DB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EE82-DD6E-478A-A73F-DF8304C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E602-99A7-4145-8128-F5B8EB3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744-F7A1-4B42-8F2D-7B0A00F1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236D-A7B0-4A18-9434-ED9D374E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B59-5EB6-414D-A8FA-0271E3D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AA50-23CB-4DBF-AF22-126D301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067C-495C-4F99-BAAC-26E87FF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436-4993-4213-A2A6-7269F5D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0940-93F4-4BC0-96E8-E0BB583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245-C9A7-47FF-BBED-49A583CD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02A6-18B2-444B-A494-6AFBA5EF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3E4A-01AD-450D-9515-52CEDF9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6861-BDB7-417C-8B6E-F3543C0D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EDAC-B4E3-4E5C-9672-5EF955B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10EF-D6BA-41CB-BCC8-CA91BF4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FA8E-2F51-4DD6-A86C-4FC3605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8D9C-E1D6-4A4B-AB6F-95E3FEE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169A-110A-4EF1-8643-3D66C9B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CC35-A411-4F5A-9153-40D338FC6AD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35E-616D-43D0-8310-15EC5FCDAF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78DE-A26E-41C0-9A1F-CBFE256299E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F3B1-58E3-4B6A-BA2E-480F73193F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تطوير نظا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هدف المحاضرة للتعرف على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مراحل تطوير نظام دعم القرار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اسلوب التطويري لبناء نظم دعم القرا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فوائد الاسلوب التطويري لبناء نظم دعم القرار</a:t>
            </a:r>
            <a:r>
              <a:rPr b="0" lang="ar-SA" sz="3200" spc="-1" strike="noStrike">
                <a:solidFill>
                  <a:srgbClr val="ff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ثامناً: مرحلة الملائمة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66"/>
                </a:solidFill>
                <a:latin typeface="Garamond"/>
              </a:rPr>
              <a:t>استجابة لحوجات المستخدمين المتغيرة يعاد تدوير الخطوات السابقة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اسلوب التطويري لبناء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هدف من الاسلوب التطويري هو بناء نظام دعم القرار من خلال خطوات قصيرة مع معلومات من قبل المستخدمين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عملية التصميم المتكرر تشمل الاتي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ختيار مشكلة فرعية مهمة لبنائها اولاً ثم بناء نظام دعم القرار علي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تطوير نظام صغير ويمكن استخدامه في المساعدة لاتخاذ القرا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تقييم النظام بشكل منتظم وتقييمه من قبل المستخدم و القائمين على بناء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توسيع وتحسين دورات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فوائد الاسلوب التطويري لبناء نظام دعم القرا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وقت القصير للتطوي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تكلفة القليل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وقت القصير لرد فعل المستخدم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تحسن مفهوم المستخدم للنظام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قدمة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حوجة المدراء من المعلومات لحل المشاكل الغير مهيكلة و الشبه مهيكلة تتغير تبعا للمشاكل التي تطرحها نظم دعم القرار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كيف يمكن بناء نظام دعم قرار ليواكب هذه التغيرات ؟؟؟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راحل تطوير نظا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أولاً: مرحلة التخطي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** التخطيط يبحث في تقييم الاحتياجات و تحليل المشكل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** أهم خطوة في عملية التخطيط لنظام دعم </a:t>
            </a: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القرارهو في </a:t>
            </a: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معرفة مفتاح القرار في نظام دعم القرار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راحل تطوير نظام دعم القرار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ثانياً: مرحلة البحث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** </a:t>
            </a:r>
            <a:r>
              <a:rPr b="1" lang="ar-SA" sz="5400" spc="-1" strike="noStrike">
                <a:solidFill>
                  <a:srgbClr val="ffff66"/>
                </a:solidFill>
                <a:latin typeface="Garamond"/>
              </a:rPr>
              <a:t>تشمل ايجاد الاسلوب المناسب لاظهار احتياجات المستخدم و المصادر المتوفرة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Garamond"/>
              </a:rPr>
              <a:t>** يتم مراجعة طبيعة نظام دعم القرار بشكل اقرب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ثالثاً: مرحلة التحليل و التصميم الأول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تشمل هذه المرحلة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**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إيجاد الأسلوب المناسب و المصادر المطلوبة كالتقنية، العمالية ، المادية و التنظيم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عمل التصميم الأولي ثم دراسة الجدوى و تشمل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      - دراسة الجدوى الفن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      - دراسة الجدوى التظيم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       - دراسة الجدوى الاقتصاد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تحديد النماذج المثالية التي يمكن ان تعطى معلومات لمفتاح القرا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رابعاً : مرحلة التصمي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في هذه المرحلة يتم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إيجاد مواصفات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مكونات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 هيكل النظام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Garamond"/>
              </a:rPr>
              <a:t>و يمكن تقسيم مرحلة التصميم الى الأجزاء التالية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نظام تخزين المعلومات و إ دارت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نظام قاعدة النماذج و إدارت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النظام الفرعي للتحاو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نظام للثقافة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خامساً : مرحلة البناء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Garamond"/>
              </a:rPr>
              <a:t>هو التطبيق التقني للتصميم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Garamond"/>
              </a:rPr>
              <a:t>يتم بناء نظام دعم القرار اعتمادا على فلسفة التصميم و الأدوات التي تم إستخدامها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سادساً: مرحلة التطبي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بعد أن أصبح النظام جاهزاً لتطبيقه و تحتوي مرحلة التطبيق على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إختبار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: يتم فيها تقييم النظام لمعرفة كيف يتناسب مع احتياجات المستخدم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عرض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يتم عرض قدرات النظام على المستخدمي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توجيه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تشمل ارشادات المدراء المستخدمين في تشغيل وقدرات النظا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تدريب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تدريب المشغلين المستخدمين على هيكل النظا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نشر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نشر النظام لجميع أعضاء المنظمة و المهتمي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سابعاً: مرحلة الصيانة و التوثي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صيانة</a:t>
            </a: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 : تشمل التخطيط للدعم المستمر للنظام و المستخدمين 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توثيق</a:t>
            </a: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: يشمل توثيق كل مرحلة من مراحل النظام في شكل مسودة يتم الرجوع اليها  عند الحوجة اليها او لفهم طبيعة عمل النظام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1-12T06:45:59Z</dcterms:modified>
  <cp:revision>389</cp:revision>
  <dc:subject/>
  <dc:title>Internet Application </dc:title>
</cp:coreProperties>
</file>