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3FC2-B2E1-4035-AB85-B0131FCE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0CFE-792C-4C9A-83B6-58C1437D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7CF5-9037-4B2F-B0F8-14B044EA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3D7DD-4634-46AF-843D-EE559076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B89C-4A76-4B35-8B2A-D1761DD7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E6A7-1101-4847-845C-8AE3C6B7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9539-2CDD-44F6-A5B0-1AB92114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B0C1-0E0F-458A-9EE3-741463CF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DE46-8496-4F5E-8227-F2F3624C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BB7C-942B-46C8-A125-85B748E7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4891-3063-4908-9765-BA5CF68F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45E5-90B8-4402-A434-A282BDEA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4CD3-0DDF-44AD-B61D-E4F908A9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CAF2-7144-4F00-8E31-1B2CC578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06CD-5CBB-4C7B-8A84-EADB1617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A312-6C5A-4961-92AE-5E53E05A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0F63-DF71-4D45-B3FD-9F27E142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B8527-551F-499F-88AD-52CEE161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CE4C-6DD9-41EF-85B6-54354949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63BA-463F-4185-8686-74522479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BA97-5650-4DC0-AD80-68077CE4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1E3FC-709B-4FE3-8FCD-D747B815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051CF-96C3-4C4A-B4F9-70942289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03EE-75D1-42A0-8B1C-58DFCCCE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510E-3698-4AC7-8CAC-3F443E15217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D044-B30F-4EC9-8404-BCED09535F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B610-78AC-4145-98C6-FBD0FA1D75F4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C0C2-016C-4DD7-822C-920AE4311B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أهداف</a:t>
            </a: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محاض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التعرف على 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:</a:t>
            </a: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مفهوم الأداء، الفاعلية و الكفاءة في إتخاذ القرار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عوامل التي تؤثر على فاعلية القرار و كيفية زيادة الفاعلية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بعض الأساليب الكمية التي تحسن كفاءة إتخاذ القرار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سلوب المحاكاة مميزاته و عيوبه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مميزات وعيوب الأساليب الكمية في إتخاذ القرارا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مقارنة بين الفاعلية و الكفاء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Garamond"/>
                          <a:cs typeface="Arial"/>
                        </a:rPr>
                        <a:t>الكفاء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Garamond"/>
                          <a:cs typeface="Arial"/>
                        </a:rPr>
                        <a:t>الفاعلي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عمل الأشياء بشكل صحيح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عمل الأشياء الصحيحة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تؤدي الى الإستخدام الأمثل للموارد في تحقيق الأهداف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درجة تحقيق الأهداف المرغوبة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تشير الى البعد الإقتصادي في تحقيق الأهداف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الفاعلية = الأهداف المحققة/ الأهداف المتوقعة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بعض </a:t>
            </a:r>
            <a:r>
              <a:rPr b="1" lang="ar" sz="3200" spc="-1" strike="noStrike">
                <a:solidFill>
                  <a:srgbClr val="ff0000"/>
                </a:solidFill>
                <a:latin typeface="Garamond"/>
              </a:rPr>
              <a:t>النماذج الكمية التي تؤدي الى تحسين كفاءة إتخاذ القرارات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لغرض من هذه الطرق ا</a:t>
            </a:r>
            <a:r>
              <a:rPr b="1" lang="ar" sz="3600" spc="-1" strike="noStrike">
                <a:solidFill>
                  <a:srgbClr val="ffff00"/>
                </a:solidFill>
                <a:latin typeface="Garamond"/>
              </a:rPr>
              <a:t>لمساعدة في عملية الاختيار من بين البدائل .تلك العملية التي تمثل قلب عملية إتخاذ القرارات و بصفة عامة فان هذه الطرق تفترض ان كل البدائل قد تم بحثها و تم تجميع كل المعلومات اللآزمة عنها . يمكن تقسيم هذه الطرق الى عدة مجموعات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منها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أساليب التعظيم    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2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 . </a:t>
            </a:r>
            <a:r>
              <a:rPr b="0" lang="ar" sz="3200" spc="-1" strike="noStrike">
                <a:solidFill>
                  <a:srgbClr val="ffff00"/>
                </a:solidFill>
                <a:latin typeface="Garamond"/>
              </a:rPr>
              <a:t>مصفوفة العائد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   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. اشجار القرارات    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4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4400" spc="-1" strike="noStrike">
                <a:solidFill>
                  <a:srgbClr val="ff0000"/>
                </a:solidFill>
                <a:latin typeface="Garamond"/>
              </a:rPr>
              <a:t>أولاً : اساليب التعظيم في ظل التاك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3200" spc="-1" strike="noStrike">
                <a:solidFill>
                  <a:srgbClr val="ffff00"/>
                </a:solidFill>
                <a:latin typeface="Garamond"/>
              </a:rPr>
              <a:t>تفترض كل الأساليب الخاصة بتعظيم دالة معينة ان كل البدائل و نتائجها معروفة تماماً للفرد الذي يقوم بإتخاذ القرار و تكون المشكلة الحسابية في ظل هذه الأساليب هي حساب و تحديد البديل الأمثل للوصول الى دالة هدف محددة و هنالك عدة اساليب تستخدم للوصول الى هذا البديل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منها</a:t>
            </a:r>
            <a:r>
              <a:rPr b="0" lang="a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** 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نظم المعادلات  ، اسلوب البرمجة الخطية ، نماذج الصفوف  ، نماذج المخزون ،   تحليل التعادل</a:t>
            </a:r>
            <a:r>
              <a:rPr b="0" lang="a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ثانياً : </a:t>
            </a:r>
            <a:r>
              <a:rPr b="1" lang="ar" sz="4400" spc="-1" strike="noStrike">
                <a:solidFill>
                  <a:srgbClr val="ff0000"/>
                </a:solidFill>
                <a:latin typeface="Garamond"/>
              </a:rPr>
              <a:t>نموذج المحاكا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يعتبر اسلوب المحاكاة احد الاساليب الكمية التي يمكن استخدامها في التنبؤ و إتخاذ القرارات حيث يتم بناء نموذج يمثل الواقع ثم استخدام هذا النموذج في التنبؤ و إتخاذ القرارات ، وذلك عن طريق الحصول على حلول تقريبية عن طريق المحاكاة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مميزات النمذجة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مكن سرعة عملية المحاكاة من اختبار عدد كبير من البدائل عن طريق توفير مقدرة تقويم تاثير القرارات في فترة زمنية قصيرة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aramond"/>
              </a:rPr>
              <a:t>توفر النماذج قوة تنبؤية، نظرة مستقبلية لاتقدمها اي طريقة اخرى لانتاج المعلومات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كون النماذج اقل تكلفة عن طريق المحأولة و الخطأ. و تكون عملية النمذجة مكلفة بالنسبة لوقت التطوير و نظم البرامج و نظم المكونات اللآزمة للمحاكاة ، الا ان التكلفة لاتكون مرتفعة مقارنة بإتخاذ قرارات رديئ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عيوب النمذج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تلزم درجة كبيرة من المهارات الرياضية لتطوير نماذج اكثر تعقيداً كما تلزم مثل المهارة لتفسير المخرجات تفسيراً مناسباً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ينتج من صعوبة نمذجة نظام الاعمال نموذجاً لايحتوي على كل التاثيرات على الكينونة وهذا يعني انه يجب عمل احكام كثيرة عند تنفيذ القرارات المعتمدة على نتائج المحاكاة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Garamond"/>
              </a:rPr>
              <a:t>محاسن إستخدام الأساليب الكمية في إتخاذ القرارت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ساعد الأساليب الكمية متخذ القرار أو الإدارة في تبسيط الكثير من المشاكل المعقدة و تنظيمها بشكل علمي مدروس بعيداً عن الأراء الشخصية، و تجعل احتمالات الوقوع في الخطأ اقل بكثير من استخدام الأساليب الأخرى في إتخاذ القرا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تساعد الأساليب الكمية متخذ القرار أو الإدارة على تطوير نماذج واساليب رياضية تصلح لمعالجة المشكلات الإدارية التي يمكن التعبير عنها بصورة كمية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ن النماذج و المعادلات التي يتم وضعها بصورة ملائمة ، كثيراً ما تساعد متخذ القرار على رؤية الحقائق و الأساليب وإتخاذ القرار المناسب الأكثر موضوعية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عيوب إستخدام الأساليب الكمية في إتخاذ القرار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لايمكن اخضاع جميع المشكلات الإدارية لأساليب التحليل الكمي لانه لا يمكن التعبير بصورة كمية عن الكثير من خصائصها الأساسية كما في دراسة معنويات العاملين و رضاهم في العمل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يعتبر استخدام الأساليب الكمية مكلفاً من وجهة نظر الإدارة لان القليل من الإدارات تستطيع تطوير النماذج الكمية بنفسها ، فتحتاج للإستعانة بفريق من الباحثين أو شراء نماذج جاهزة و تعديلها حسب متطلبات عملها و بالرغم من إنتشار الحاسوب الا ان شراء البرامج الجاهزة مكلف ايضاً ويحتاج الى خبراء لاستخدامها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مفهوم الأداء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لأداء : المخرجات أو الأهداف التي يسعى النظام الى تحقيقها اضافة الى ذلك يعرف بانه مدى تحقيق الأهداف، و يتحقق من خلال مقارنة الأداء الفعلي مع الأهداف التي خطط لها مسبقاً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و النتيجة أو الحصيلة التي تسعى المؤسسات و الشركات و المرافق الحكومية و غيرها من المنشآت الأخرى الى تحقيقها و الوصول اليها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أساليب قياس الأداء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aramond"/>
              </a:rPr>
              <a:t>اساليب القياس الكمي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: 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و تتصف بالسهولة في قياس أداء المنظمات، إلا ان ما يعيبها هو انها تقييس الماضي، و الحاضر فقط و يصعب إستخدامها للتنبؤ في المستقبل و من أمثلتها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aramond"/>
              </a:rPr>
              <a:t>معايير الأداء المالي مثل: العائد على راس المال، هامش الربح معدل المبيعات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نسب المالية مثل نسبة التدأول =الاصول المتدأولة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/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 الخصوم المتدأول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نسب التسويقية مثل المبيعات في الإعلان= المبيعات الإجمالية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/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 ميزانية الإعلان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أساليب قياس الأداء(متابعة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aramond"/>
              </a:rPr>
              <a:t>أساليب القياس النوعية أو الوصفي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و هي الأكثر في تنفيذها و من امثلتها، معايير خدمة المستفيدين اضافة الى المسؤولية الخاصة بالمنظمة تجاه المجتمع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و هنالك عدة مجالات يمكن من خلالها الحكم على مستوى الأداء منها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انتاج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ربح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مركز السوقي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كفاءة 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fficiency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هي مقياس لدرجة الإستخدام الرشيد للموارد المتاحة و الذي يحقق أقل مستوى للتكلفة دون التضحية بجودة مخرجات النظام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إستخدام الحكيم للموارد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Resources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 المتاحة و على النحو الذي يؤدي الى خفض التكاليف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قدرة على أداء الاشياء بطريقة صحيحة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Doing things in write way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، ومن ثم فهي تعتمد على مفهوم المدخلات – المخرجات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aramond"/>
              </a:rPr>
              <a:t>فالنظام الكفء هو الذي يتمكن من تحقيق مخرجات (أو نتائج) تفوق المدخلات المستخدمة (موارد بشرية ،مواد ،معدات وآلات) في الحصول على على هذه المخرجات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فاعلية 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ffectiveness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تتعلق بالمخرجات و النتائج النهائية</a:t>
            </a:r>
            <a:r>
              <a:rPr b="0" lang="ar-SA" sz="40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Garamond"/>
              </a:rPr>
              <a:t>تعبير عن مدى القدرة على تحقيق الأهداف.  أو هي أداء الأشياء الصحيحة 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Doing the right thing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تقيس  مدى تحقيق الوحدة للأهداف المخطط لها مسبقاً و يتم ذلك عن طريق مقارنة الهدف المحقق فعلياً مع الهدف المخطط له.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Garamond"/>
              </a:rPr>
              <a:t>فاعلية القرار</a:t>
            </a:r>
            <a:r>
              <a:rPr b="0" lang="ar-SA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تعني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مدى نجاح القرار في تحقيق أهدافه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44680" y="1828800"/>
          <a:ext cx="82296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1828800"/>
                    <a:ext cx="8229600" cy="457200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بعض ا</a:t>
            </a:r>
            <a:r>
              <a:rPr b="1" lang="ar" sz="4400" spc="-1" strike="noStrike">
                <a:solidFill>
                  <a:srgbClr val="ff0000"/>
                </a:solidFill>
                <a:latin typeface="Garamond"/>
              </a:rPr>
              <a:t>لعوامل التي تؤثر على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فاعلية</a:t>
            </a:r>
            <a:r>
              <a:rPr b="1" lang="ar" sz="4400" spc="-1" strike="noStrike">
                <a:solidFill>
                  <a:srgbClr val="ff0000"/>
                </a:solidFill>
                <a:latin typeface="Garamond"/>
              </a:rPr>
              <a:t> القرار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3600" spc="-1" strike="noStrike">
                <a:solidFill>
                  <a:srgbClr val="ffff00"/>
                </a:solidFill>
                <a:latin typeface="Garamond"/>
              </a:rPr>
              <a:t>غياب المعلومات اللازمة لإتخاذ القرار السليم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3600" spc="-1" strike="noStrike">
                <a:solidFill>
                  <a:srgbClr val="ffff00"/>
                </a:solidFill>
                <a:latin typeface="Garamond"/>
              </a:rPr>
              <a:t>عدم وضوح المشكلة المطلوب إتخاذ قرار بشأنها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3600" spc="-1" strike="noStrike">
                <a:solidFill>
                  <a:srgbClr val="ffff00"/>
                </a:solidFill>
                <a:latin typeface="Garamond"/>
              </a:rPr>
              <a:t>مركزية إتخاذ القرار وعدم التفويض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3600" spc="-1" strike="noStrike">
                <a:solidFill>
                  <a:srgbClr val="ffff00"/>
                </a:solidFill>
                <a:latin typeface="Garamond"/>
              </a:rPr>
              <a:t>نقص الإمكانات المطلوبة لتنفيذ القرار</a:t>
            </a:r>
            <a:r>
              <a:rPr b="0" lang="a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عوامل زيادة فعالية إتخاذ القرار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يمكن تقسيم العوامل التي تزيد من فعالية إتخاذ القرار الى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aramond"/>
              </a:rPr>
              <a:t>اولاً: عوامل عملياتي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: 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تمثل العوامل العملياتية بتتبع الخطوات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منطقية و العملية في إتخاذ القرار دون إهمال نوع القرار و العوامل المؤثرة عليه</a:t>
            </a:r>
            <a:r>
              <a:rPr b="0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ثانياً:  العوامل المعلوماتية</a:t>
            </a:r>
            <a:r>
              <a:rPr b="0" lang="ar-SA" sz="40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0" lang="ar-SA" sz="4000" spc="-1" strike="noStrike">
                <a:solidFill>
                  <a:srgbClr val="ffff00"/>
                </a:solidFill>
                <a:latin typeface="Garamond"/>
              </a:rPr>
              <a:t>فتتعلق بالمعلومات، البيانات و التقنيات الواجب توفيرها لزيادة هذه الفاعلية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ud</cp:lastModifiedBy>
  <dcterms:modified xsi:type="dcterms:W3CDTF">2016-01-03T07:34:31Z</dcterms:modified>
  <cp:revision>275</cp:revision>
  <dc:subject/>
  <dc:title>Internet Application </dc:title>
</cp:coreProperties>
</file>