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نظم العلومات الإدارية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7352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E6C9F1B-3E09-48A6-A72F-362333105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نظم ال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نظم ال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A12C-8F04-4C14-AE33-B2B77408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7513-0147-4726-ADBB-D671346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76EF-A535-45D2-8E08-4301654D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098A-7AC2-4D9F-95AE-50F0BAD6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04F2-4A63-4BCC-837F-944C452F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590E-AC16-4B3C-A827-BF22E3B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4146-9EF7-4AE5-8F3F-6EE09456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A2C-6F2B-4ED8-9969-6017DF6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2AF-5231-43EA-8D03-EA90135F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E2AA-6BA4-4056-BBDC-E537FCE3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03B3-FEF4-4F6F-BC30-637F8D6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76C5-14E8-41C5-A87E-EB050D0B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C212-51E8-479F-8393-9B0F594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980A-4B59-4786-9997-9930967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A4B7-0330-4389-9435-FAFF3C10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58D-FF00-4D1D-9BE6-3091F3E0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2F1-4FE5-4C75-B02D-64455DF7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D146-C29C-4F09-A51C-AD4B7763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BB7E-2EA6-4C5F-B6AA-DA0CA95B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0A04-3D29-4FC8-B52C-6EF86745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92F8-48B1-4A9E-B58F-F7F6A0FF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538C-0CC1-4627-BEA0-5D2F258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D4A6-2599-499A-938A-62508AB4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8D0C-7CE7-4422-BF4F-8F47CE9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4C94-8425-4D8F-BBD5-CD3889C124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B672-22D3-40B2-9906-24A4E1E9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A0A9-7012-47B1-B13F-EEDA1DF2F62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BA0-EF27-4E33-AA9F-8BD958A6E5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أنظمة أتمتة المكاتب ،فوائدها، مميزاتها ،انواعها والبرامج المستخدمة في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لعلاقة بين الانظمة الرئيسية الاربع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نظم المعلومات بناء على وظيفة التنظي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النظره التقليديه لنظم المعلومات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00"/>
                </a:solidFill>
                <a:latin typeface="Garamond"/>
              </a:rPr>
              <a:t>دعم تكامل و تنسيق كامل للاجراءات التي تقوم ب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0" lang="ar-JO" sz="3200" spc="-1" strike="noStrike">
                <a:solidFill>
                  <a:srgbClr val="ffff00"/>
                </a:solidFill>
                <a:latin typeface="Garamond"/>
              </a:rPr>
              <a:t>ا المنظمة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نظام إدارة موارد المنشاة، نظام إدارة سلسلة التزويد، نظام إدارة العلاقة مع الزبون و نظم إدارة المعرف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نظم المعلومات بناء على وظيفة التنظي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ولاً:  نظم معلومات التسويق و المبي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3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مسؤولة عن تشغيل جميع عمليات التسويق والمبيعات تكنولوجي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3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</a:t>
            </a: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تعرف بأنها النظم المحوسبة المصممة تكنولوجيا لتشغيل عمليات التسويق والمبيعات في المنظم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++ من تطبيقات نظم معلومات التسويق و المبيع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تنبؤ باتجاه المبيعات (المستوى الاستراتيج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حليل الاسعار(التكتيك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حليل السوق (الفن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نفيذ طلبات الشراء (التشغيل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e5ff"/>
                </a:solidFill>
                <a:latin typeface="Garamond"/>
              </a:rPr>
              <a:t>مصادر معلومات نظم معلومات التسويق والمبيعات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Garamond"/>
              </a:rPr>
              <a:t>المصادر الداخلية</a:t>
            </a:r>
            <a:r>
              <a:rPr b="0" lang="ar-SA" sz="6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من بيانات المنظمة الخاصة عن عمليات التسويق والمبيعات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مصادر الخارجية :من بيانات من خارج المنظمة مثل معلومات المنافسين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فوائد نظم معلومات التسويق و المبيع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تنبؤ باتجاه المبيع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وثيق جميع عمليات المبيع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حليل وتحديد اسعار السلع و الخد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حليل وتحديد الحصة السوقي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نظم معلومات التصنيع و العملي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عرف بانها نظم مصممه تكنولوجيا لدعم وتشغيل نشاطات الانتاج والتصنيع و العملي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قوم نظم التصنيع والعمليات بتوفير تطبيقات حاسوبية تساعد في إنجاز عمليات ونشاطات الانتاج في كافة مراحله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طبيقات نظم معلومات التصنيع و العملي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515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مستو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وصف النظا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سم التطبي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استراتيج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قرير اماكن وضع المصان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ختيار الموق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تكتيك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قرير اين وكيف سيتم الانتا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خطيط المنتج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فن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صميم المنتجات الجدي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نظام التصمي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تشغيل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مراقبة نشاطات الال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مراقبة الال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النظره التقليديه لنظم المعلومات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في الاعمال : هنالك مجموعه من الوظائف ( التصنيع و الانتاج , الماليه و المحاسبه , المبيعات و التسويق , الموارد البشريه ) كل منها لها أستخدامها في نظم المعلومات ( نظام التصنيع و الانتاج , نظام الماليه و المحاسبه , نظام المبيعات و التسويق , نظام الموارد البشريه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خارج حدود المنظمه : هنالك العميل و البائ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لوظائف ( الانظمه الوظيفي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)  تعمل منفصل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في الشركات التقليدية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ذة الانظمة تكون منفصلة عن بعض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البعض مما يسبب العديد من المشاكل الناتجة عن عدم سلاسة أنسياب المعلومات و تضارب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نتيجة تكرار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في الانظمة المختلف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في الشركات الرقمية الحديثة الانواع المختلفة للانظمة مرتبطة ببعض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البعض بأحكام. و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ذة الفكرة الاساسية في الشركات الرقمية الحديث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كيف يتم 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دعم تكامل و تنسيق كامل للاجراءات التي تقوم ب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المنظمة ( الداخلية و الخارجية 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لدعم التنسيق و التكامل بين  الانظمة الوظيفية الاربع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( نظام التسويق و المبيعات و نظام التصنيع و الانتاج و نظام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مالي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و المحاسب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و نظام الموارد البشرية ) بالاضافة الى الى نظام المعرفة و نظام الاتمتة 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للوصول الى نظام موحد للمعلومات الداخلي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الخاص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بالمنظم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لتعظيم قيمة المنظم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 و ربط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ه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ا و مشاركت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ه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ا  مع أنظمة الاطراف ( المنظمات ) الخارجية الاخرى ذات العلاقة (المتعلقة بالزبون و المورد و الموزع ) وذلك من خلال مجموعة من التطبيقات أو الانظمة.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أنظمة المستخدمة ل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لتنسيق و التكامل بين  الانظمة الوظيفية الاربع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أنظم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Enterpris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و تدعى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ERP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)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Systems    Enterprise Resource Planning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( الخاصة بالتكامل و التنسيق بين الأنظمة الوظيفية للمنظمة )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أنظمة أدارة سلسلة التزويد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Supply Chain Management Systems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SCM ) System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( الخاصة بربط المنظمة مع الاطراف الخارجية – المورد و الموزع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نظام خدمة الزبائن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Customer Relationship Management Systems 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CRM ) System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نظام أدارة المعرف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KMS ) Knowledge management system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lang="ar-JO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نظام تخطيط موارد المؤسسة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ERP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)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Enterprise Resources Planning Syst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برامج جاهزة تحتوي علي مجموعة متكاملة من تطبيقات الحاسب الآلي التي تلبي إحتياجات المعلومات للوظائف المختلفة مثل المحاسبة و العمليات و الموارد البشرية و التسويق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الغرض منها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: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تقوم بتوحيد كامل الانظمة الداخلية للمنظمة في نظام موحد للمعلومات الخاصة بنشاطات المنظمة بما يمكن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ذ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المعلومات التي سبق معالجتة في الانظمة الوظيفية المختلفة من الانسياب بس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ولة مما يحقق مشاركت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ا في كافة أجراءات النشاطات الوظيفية للمنظمة ( أجراءات العمل الخاصة بالبيع و التصنيع و المالية و الموارد البشرية و الوظائف الاخرى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50640"/>
            <a:ext cx="91440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  <a:cs typeface="Times New Roman"/>
              </a:rPr>
              <a:t>نظم معلومات المكاتب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  <a:ea typeface="Times New Roman"/>
              </a:rPr>
              <a:t>Office Information System(OIS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بارة عن نظم محوسبة و مدعومة تكنولوجيا و اتصاليا لتشغيل وانجاز مهام و امور المكتب الكترونيا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خدم جميع المستويات الإدارية في المنظمة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بدا عمل نظم تخطيط موارد المنشأة (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RP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وجود قاعدة بيانات مركزية يتم فيها إدخال البيانات، حيث يتم ربط بين المنشأة و مورديها و عملائها. كما تربط عمليات المنشأة في المواقع المختلفة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أنظمة أدارة سلسلة التزويد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Supply Chain Management Systems</a:t>
            </a: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SCM ) Systems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 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قوم بالتنسيق و الربط بين النشاطات المتعلقه بشراء و عمل و تحريك المنتج لتحقيق التكامل بين المزود و المصنع و الموزع و المستهلك ليشكل شبكه من المنظمات التي تعمل مع بعضها البعض مما يحقق الوفر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 في الوقت و الجهد و كلفة المخزون و المساعده في الحصول على المواد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و 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قديم خدمات ما بعد البيع و  كذلك أرجاع مردودات المبيعات  في الاتجاه العكسي من المشتري للبائع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فوائد و مزايا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SCM System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 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  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قر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ر متى و ما سيتم أنتاجه و تخزينه و تحريك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رعة الاستجاب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اوامر البيع و طلبات خدمات ما بعد البي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هولة تتبع الوضع الحالي للاوام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هولة مراقبة توفر المخزون و مستويات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خفيض المخزون و النقل و كلفة التخزي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هولة تتبع الشح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خطيط الانتاج على أساس طلبات عملاء فعلي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رعة الاتصال و الاستجاب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لتغيير في تصميم المنت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إ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دارة خدمة الزبائن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Customer Relationship Management 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CRM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 ) 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 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دارة  كافة الطرق المستخدم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من قبل المنظم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لتعامل مع المستهلك الحالي و المتوقع معتمده على التكنولوجيا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يتم ا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ستخدام معلومات النظام لتنسيق أجراءات عمل المنظم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 لتزويد الزبون بنهاية الخدم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 و أعطاء صوره موحده للزبون من خلال الشرك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 التي تقوم بتوحيد معلومات الزبون من مصادر متعدده و تزويد أدوات التحليل الاجابات على الاسئل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تعظيم قيمة المنظمه من خلال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Garamond"/>
                <a:ea typeface="MS PGothic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Garamond"/>
                <a:ea typeface="MS PGothic"/>
              </a:rPr>
              <a:t>CRM</a:t>
            </a:r>
            <a:r>
              <a:rPr b="1" lang="ar-JO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يصعب خدمة كل عميل على حده ( بشكل فردي ) و عليه يتم تجميع العملاء في مجمو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حويل العملاء من عميل عادي الى عملاء لهم ولاء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loyalty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لمنظمه التي تنتج المنتج ( حيث تبنى على رضاء العميل على منتجات المنظمه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Costumer Satisfaction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CRM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  أصبح مرتبطا بالمستوى الاسترلتيجي للمنظمه و يؤثر على كل الوظائف للمنظم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قاعدة البيانات موجوده في كل المستوي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أدارة علاقات الزبائن حديثا أصبحت في المستوى الاداري الاستراتيجي حيث أنه يؤثر على كامل المنظمه و أنشطتها الوظيفي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e5e5ff"/>
                </a:solidFill>
                <a:latin typeface="Garamond"/>
              </a:rPr>
              <a:t>لماذا تحتاج المنشآت إلى أتمتة الوظائف المتعلقة بالزبون؟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الحاجة إلى المعلومة بهدف فهم استراتيجيات المنافسة والعمل على تطوير المزيج التسويقي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4P’s</a:t>
            </a: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 المناسب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ffff"/>
              </a:buClr>
              <a:buSzPct val="70000"/>
              <a:buFont typeface="Wingdings 2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تسويق أفضل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ffff"/>
              </a:buClr>
              <a:buSzPct val="70000"/>
              <a:buFont typeface="Wingdings 2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معلومات أفضل عن البي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ffff"/>
              </a:buClr>
              <a:buSzPct val="70000"/>
              <a:buFont typeface="Wingdings 2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عناية أفضل بالزبون وهذا يقود في النهاية إلى الاحتفاظ به وانتقاله إلى مرحلة الولاء والإخلا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مراقبة تطورات السوق بشكل أفضل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توفير خدمة أفضل للزبون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ضمان التوافق بين متطلبات الزبون وخطة العرض المقدمة له</a:t>
            </a:r>
            <a:r>
              <a:rPr b="1" lang="ar-SA" sz="1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نظام أدارة المعرفه   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KMS ) Knowledge management systems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 )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نظام يقوم على جمع المعرف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و جعلها متاحه للجميع في أي مكان وزمان يتم الاحتياج اليها لدعم نشاطات ال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أ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عمال و القرارات الاداري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و كذلك يعمل على ربط المنظم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بمصادر معرفه خارجي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بهدف  تقديم و أكتساب و تخزين و توزيع و أستعمال المعرف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فوائد نظم معلومات المكات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سرعة: في انجاز المعاملات و المهام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دقة: في الحصول على المعلو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فعالية : تحسين نوعية الانجا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انتاجية : زيادة انتاجية الموظ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قليل التكلف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زيادة معنوية العاملي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ميزات نظم معلومات  المكات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سهولة الاستخدام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لائمة: ملائمة التطبيق لجميع المستويات الاداري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بساطة التكلف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أنواع نظم معلومات المكات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ولاً: نظم معالجة الوثائق :نظم تقوم بمعالجة المعاملات المحررة ورقيا وتحريرها حاسوبيا. من هذه التطبيقات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نامج معالج النصو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امج الجداول الالكتروني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امج معالجة الصور و الرسو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امج الارشيف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ثانياً: نظم الاتصال و المراسلة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برامج البريد الالكترون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برامج البريد الصوت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برامج الفاكس الالكتروني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لثاً: نظم الاجتماع عن بع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رامج الالتقاء عن بع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رامج المؤتمرات عن بع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رامج العمل التشاركي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رابعاً: نظم التنظيم المكتب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رامج قواعد البيان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رامج العرض التقديمي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رامج التنسيق المكتبي (يستخدم لمساعدة الاداريين في استعمال الادوات المكتبية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علاقة بين الانظمة الرئيسية الاربع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838080" y="1325520"/>
            <a:ext cx="6743880" cy="5532480"/>
            <a:chOff x="838080" y="1325520"/>
            <a:chExt cx="6743880" cy="5532480"/>
          </a:xfrm>
        </p:grpSpPr>
        <p:pic>
          <p:nvPicPr>
            <p:cNvPr id="136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562040" y="2400480"/>
              <a:ext cx="537228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6"/>
            <p:cNvSpPr/>
            <p:nvPr/>
          </p:nvSpPr>
          <p:spPr>
            <a:xfrm>
              <a:off x="838080" y="6286680"/>
              <a:ext cx="6743880" cy="3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5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علاقات المتبادلة بين الانظمة الاربعة    ( </a:t>
              </a: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TPS  MIS  DSS  ESS</a:t>
              </a: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  )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Interrelationships among systems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 flipH="1">
              <a:off x="1104480" y="5029200"/>
              <a:ext cx="61722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 flipH="1">
              <a:off x="1104480" y="3314880"/>
              <a:ext cx="61722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6010200" y="528588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مستوى التشغيلي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3733560" y="388620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مستوى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الاداري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6134040" y="228780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مستوى الاستراتيجي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Rectangle 12"/>
            <p:cNvSpPr/>
            <p:nvPr/>
          </p:nvSpPr>
          <p:spPr>
            <a:xfrm>
              <a:off x="4876560" y="514368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Rectangle 13"/>
            <p:cNvSpPr/>
            <p:nvPr/>
          </p:nvSpPr>
          <p:spPr>
            <a:xfrm>
              <a:off x="2819160" y="5143680"/>
              <a:ext cx="685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Rectangle 14"/>
            <p:cNvSpPr/>
            <p:nvPr/>
          </p:nvSpPr>
          <p:spPr>
            <a:xfrm>
              <a:off x="2904840" y="363852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Rectangle 15"/>
            <p:cNvSpPr/>
            <p:nvPr/>
          </p:nvSpPr>
          <p:spPr>
            <a:xfrm>
              <a:off x="6010200" y="3124440"/>
              <a:ext cx="685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</a:t>
              </a:r>
              <a:r>
                <a:rPr b="1" lang="ar-SA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Rectangle 16"/>
            <p:cNvSpPr/>
            <p:nvPr/>
          </p:nvSpPr>
          <p:spPr>
            <a:xfrm>
              <a:off x="1552320" y="315288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Rectangle 17"/>
            <p:cNvSpPr/>
            <p:nvPr/>
          </p:nvSpPr>
          <p:spPr>
            <a:xfrm>
              <a:off x="6248520" y="4686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562040" y="4686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Rectangle 19"/>
            <p:cNvSpPr/>
            <p:nvPr/>
          </p:nvSpPr>
          <p:spPr>
            <a:xfrm>
              <a:off x="4876560" y="365760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2933640" y="2400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Rectangle 21"/>
            <p:cNvSpPr/>
            <p:nvPr/>
          </p:nvSpPr>
          <p:spPr>
            <a:xfrm>
              <a:off x="4991040" y="2400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AutoShape 22"/>
            <p:cNvSpPr/>
            <p:nvPr/>
          </p:nvSpPr>
          <p:spPr>
            <a:xfrm rot="16200000">
              <a:off x="4062240" y="1985400"/>
              <a:ext cx="342720" cy="3711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Rectangle 23"/>
            <p:cNvSpPr/>
            <p:nvPr/>
          </p:nvSpPr>
          <p:spPr>
            <a:xfrm>
              <a:off x="3343320" y="1325520"/>
              <a:ext cx="1714320" cy="610200"/>
            </a:xfrm>
            <a:prstGeom prst="rect">
              <a:avLst/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أقتراحات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12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خاصة بقرارات الاستراتيجية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3276360" y="1945080"/>
              <a:ext cx="685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5"/>
            <p:cNvSpPr/>
            <p:nvPr/>
          </p:nvSpPr>
          <p:spPr>
            <a:xfrm>
              <a:off x="4419360" y="194508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 111</cp:lastModifiedBy>
  <dcterms:modified xsi:type="dcterms:W3CDTF">2021-10-19T05:04:22Z</dcterms:modified>
  <cp:revision>396</cp:revision>
  <dc:subject/>
  <dc:title>Internet Application </dc:title>
</cp:coreProperties>
</file>