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0B74-CC58-42B4-9419-D8DB8A1A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55BC-E362-456E-B7CF-F35AB3C6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4814-6F0E-49CB-B933-BF2DEC31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AA2D-4D29-4E35-A9BD-F1A76E66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F02F-11C0-4A2E-997E-96044E2C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50EB-8CC2-40D4-BFCA-29EAC585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098E-AE81-4FF1-AC67-0754E0AE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8F44-9C25-467F-8C93-8D91F9A4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60D5-3361-413B-B00E-06C956A1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8871-149A-4942-8FC7-CEFF9339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CCDD-AEBC-4F6E-B8E2-A2FCDC01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B5F9-6FF1-4C62-B1EC-375EB02B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F3A0-5870-4105-BD54-9D735DEC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1518-DC68-43BE-BFBC-01355E80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2EB5-DF67-43FA-BB40-87C5F5FD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E08E-1FC2-49D6-B827-A1D52C69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6385-7ABC-4A15-9114-7CB07E3A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3DD5-11BF-4068-A29A-24C3F2E8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F076-D7D4-4D57-885F-774080B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5437-ACEB-44D1-B2AA-8D05014F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2137-46CA-486C-A99A-5B651139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3903-FFAF-4B0F-AB08-06A34C38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4DF1-428F-4190-AD36-CCC7E48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2C12-77E3-41EE-8D91-5C86D36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6098-29A4-45C1-B097-8941E5B309F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5879-04E5-49B2-AD4C-489F33ACCE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9326-D954-491F-BC4A-7E285A7C43A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5C4A-0528-4C96-BF9C-50D1034CAD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هداف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Garamond"/>
              </a:rPr>
              <a:t>تهدف المحاضرة للتعرف على التالي:-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Garamond"/>
              </a:rPr>
              <a:t>مفهوم المزايا التنافسية ودور نظم المعلومات فيها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فهوم الخطة الاستراتيجية لنظم المعلومات و الفرص، التحديات و الحلول في إمتلاك نظم المعلومات في منظمات الاعمال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راحل التخطيط الاستراتيجي لنظم المعلومات و التحديات التي تواجهه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B083-D97B-4FB9-A173-779DB513BCB5}" type="slidenum">
              <a:t>1</a:t>
            </a:fld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 u="sng">
                <a:solidFill>
                  <a:srgbClr val="ff0000"/>
                </a:solidFill>
                <a:uFillTx/>
                <a:latin typeface="Garamond"/>
              </a:rPr>
              <a:t>مراحل التخطيط الإستراتيجي لنظم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ولاً: تحليل البيئة الداخلية و الخارج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ثانياً: تحديد الرسالة في نظم المعلوم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ثالثاً: تحديد أهداف نظم المعلوم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رابعاً: تحديد نظم المعلومات المطلوبة و أولويات النظ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خامساً: تقدير موارد نظم المعلوم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سادساً: تحديد السياس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72F2-5460-435A-BDB1-5B137CD84DC8}" type="slidenum">
              <a:t>10</a:t>
            </a:fld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ff"/>
                </a:solidFill>
                <a:uFillTx/>
                <a:latin typeface="Garamond"/>
              </a:rPr>
              <a:t>اولاً: 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تحليل الب</a:t>
            </a:r>
            <a:r>
              <a:rPr b="1" lang="ar-SA" sz="4400" spc="-1" strike="noStrike" u="sng">
                <a:solidFill>
                  <a:srgbClr val="ffffff"/>
                </a:solidFill>
                <a:uFillTx/>
                <a:latin typeface="Garamond"/>
              </a:rPr>
              <a:t>يئ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ة الداخلية و الخارج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تحليل البيئة الداخلية لتحديد مصادر القوة و الضعف التي تملكها المنظمة في نظم المعلومات ، و تحليل البيئة الخارجية و التي تشمل جميع العوامل التي تحيط بالمنظمة للوقوف على الفرص و التهديدات التي يمكن أن تواجه نظم المعلومات في المنظمة مستقبلا 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5249-06A0-49A1-9660-190A5424FCE6}" type="slidenum">
              <a:t>11</a:t>
            </a:fld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ff"/>
                </a:solidFill>
                <a:uFillTx/>
                <a:latin typeface="Garamond"/>
              </a:rPr>
              <a:t>ثانياً: 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تحديد الرسالة في نظم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تصف الرؤية الإستراتيجية الإجابة عن تساؤل مقدرة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نظمة </a:t>
            </a: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 في الوصول الى أهدافها ؟ و هي غالبا متمثلة في رسالة المنظمة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و الرسالة في نظم المعلومات تعمل على إتمام الدور الرئيسي في تطوير رسالة المنظمة بواسطة العمل التضامني مع الإدارة العليا لتنفيذ تكنولوجيا معلومات مناسبة للوصول الى الغايات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والاهداف.</a:t>
            </a: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A7A8-DE3B-40CA-A15A-E9A6DE47A71F}" type="slidenum">
              <a:t>12</a:t>
            </a:fld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ff"/>
                </a:solidFill>
                <a:uFillTx/>
                <a:latin typeface="Garamond"/>
              </a:rPr>
              <a:t>ثالثاً: 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تحديد أهداف نظام المعلومات</a:t>
            </a:r>
            <a:r>
              <a:rPr b="1" lang="ar-JO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الهدف الأساسي من نظام المعلومات هو مساعدة المنظمة على تحقيق أهدافها . لذا فإن تحقيق أهداف النظام يتم في ضوء إستراتيجية المنظمة و أهدافها</a:t>
            </a:r>
            <a:r>
              <a:rPr b="0" lang="ar-J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من خلال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تحليل و فهم الخطة الإستراتيجية للمنشأة و أهدافها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ربط أهداف نظام المعلومات بالأهداف العامة للمنشأة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دراسة الهيكل التنظيمي للمنشأة و مهام الإدارات و الأقسام المختلفة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5D39-401F-4F26-8757-2A9464324D22}" type="slidenum">
              <a:t>13</a:t>
            </a:fld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ff"/>
                </a:solidFill>
                <a:uFillTx/>
                <a:latin typeface="Garamond"/>
              </a:rPr>
              <a:t>رابعاً: </a:t>
            </a:r>
            <a:r>
              <a:rPr b="1" lang="ar-JO" sz="4000" spc="-1" strike="noStrike" u="sng">
                <a:solidFill>
                  <a:srgbClr val="ffffff"/>
                </a:solidFill>
                <a:uFillTx/>
                <a:latin typeface="Garamond"/>
              </a:rPr>
              <a:t>تحديد نظم المعلومات المطلوبة و أولويات النظم</a:t>
            </a:r>
            <a:r>
              <a:rPr b="1" lang="ar-JO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تجميع الأفكار و المعلومات لمشاريع نظم المعلومات من خلال </a:t>
            </a: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تبادل</a:t>
            </a: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افكار.</a:t>
            </a:r>
            <a:r>
              <a:rPr b="0" lang="ar-JO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دراسة خيارات </a:t>
            </a: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</a:t>
            </a: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بدائل التقنية المختلفة من خلال اعتماد أسلوب تخصيص الأسبقيات كأساس منطقي في اختيار مشاريع نظم المعلومات </a:t>
            </a: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A40C-1A30-4426-A0F2-0266ACDC64F3}" type="slidenum">
              <a:t>14</a:t>
            </a:fld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خامساً: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تقدير موارد نظم المعلومات</a:t>
            </a:r>
            <a:r>
              <a:rPr b="1" lang="ar-JO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تحديد العناصر الأساسية لنظم المعلومات مع تحديد طاقتها التشغيلية و متطلباتها و لا بد من تحديد القرارات الإدارية الرئيسة حول الأجهزة ، الإمتلاك ، الإتصالات المركزية و اللامركزية ، السلطات ، البيانات ، البرمجيات ، و متطلبات إدارة التغيير</a:t>
            </a: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0" lang="ar-JO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8470-2D35-4397-B2A4-139435EA2092}" type="slidenum">
              <a:t>15</a:t>
            </a:fld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سادساً: 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السياسات</a:t>
            </a:r>
            <a:r>
              <a:rPr b="1" lang="ar-JO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هي آليات تنفيذ الاستراتيجيات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تهدف الى ضمان إنجاز عملية التنفيذ بشكل يتماشى و صياغة الإستراتيجية ، و التأكد من أن العاملين يأخذون قراراتهم و تصرفاتهم بشكل يعزز رسالة نظم المعلومات و أهدافها و استراتيجياتها و التي تنطلق أصلا من الرسالة العامة للمنظمة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9AC3-2197-4FB5-A825-4CF4F42B4A44}" type="slidenum">
              <a:t>16</a:t>
            </a:fld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دور نظام المعلومات في تحقيق المزايا التنافسية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عرف 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المزايا التنافسية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على أنها الوضع الذي يتيح للمنظمة الفرصة لتحقيق الأرباح العالية مقارنة مع المنافسين و ذلك من خلال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تمييز منتجات المنظمة عن منتجات المنافسين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الاقتصا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د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على الإنتاج أو قنوات التوزيع</a:t>
            </a:r>
            <a:r>
              <a:rPr b="0" lang="ar-JO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7F6D-12DA-4BFA-8AA3-4E75048DB140}" type="slidenum">
              <a:t>2</a:t>
            </a:fld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كيف تساعد نظم وتكنولوجيا المعلومات المنظمة لتحقيق ميزة تنافسية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ستخدام نظم وتكنولوجيا المعلومات يساعد في الحصول على المعلومات الضرورية لعمليات إتخاذ القرار عند المفاضلة بين البدائل و انشطة المنظم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تحسن من أدائها بإستخدام نظم المعلومات خاصة عند اختراق أسواق جديد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الوصول الى عالم  أوسع من المستهلكين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و فهم احتياجاتهم و توقعاتهم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كذلك زيادة القدرة على تقديم الخدمة للمستهلك بشكل أسرع مما يؤدي الى زيادة رضا المستهلك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مراقبة أفضل على التشغيل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وتحسين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إختصار وقت تسويق المنتج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21D7-A170-4362-B60C-C54F8C7E4785}" type="slidenum">
              <a:t>3</a:t>
            </a:fld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ff"/>
                </a:solidFill>
                <a:latin typeface="Garamond"/>
              </a:rPr>
              <a:t>التخطيط الإستراتيجي لنظم المعلومات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trategic Planning of Inform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الحاجة للتخطيط الاستراتيجي لنظم المعلوم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ي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عتبر التخطيط الإستراتيجي ضرورة حتمية في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منظمات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سواء كانت صغيرة أم كبيرة</a:t>
            </a:r>
            <a:r>
              <a:rPr b="0" lang="ar-JO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ff"/>
                </a:solidFill>
                <a:latin typeface="Garamond"/>
              </a:rPr>
              <a:t>إن تطوير و بناء نظم جيدة للمعلومات له علاقة مباشرة بنمو و تطوير العمل بالمنشأة </a:t>
            </a: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إن الحاجة الى إنتاج معلومات أصبحت من المتطلبات الأولية و الأساسية للبقاء و الإستمرا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تكنولوجيا المعلومات تتغير سريعا فإن هذا يخلق تحدي لإدارة التكنولوجيا لذا لا بد من متابعة هذا التغيير و السيطرة عليه</a:t>
            </a:r>
            <a:r>
              <a:rPr b="0" lang="ar-J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8AF8-6083-4163-9A4D-BA24A9A15DCA}" type="slidenum">
              <a:t>4</a:t>
            </a:fld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 u="sng">
                <a:solidFill>
                  <a:srgbClr val="ff0000"/>
                </a:solidFill>
                <a:uFillTx/>
                <a:latin typeface="Garamond"/>
              </a:rPr>
              <a:t>مفهوم استراتيجية نظم المعلومات</a:t>
            </a:r>
            <a:r>
              <a:rPr b="1" lang="ar-JO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تعرف بأنها:-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ffff00"/>
                </a:solidFill>
                <a:latin typeface="Garamond"/>
              </a:rPr>
              <a:t>الإستراتيجية التي تحدد النظم التي تحتاجها المنظمة ، لإستكمال احتياجات المعلومات لديها 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ffffff"/>
                </a:solidFill>
                <a:latin typeface="Garamond"/>
              </a:rPr>
              <a:t>إنها خريطة الطريق  التي تؤثر باتجاه تطوير النظم</a:t>
            </a:r>
            <a:r>
              <a:rPr b="0" lang="ar-JO" sz="5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ar-SA" sz="5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C5E8-894D-4AE2-AFAC-E462C83C1F19}" type="slidenum">
              <a:t>5</a:t>
            </a:fld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الفرص، التحديات و الحلول في إمتلاك نظم المعلومات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 u="sng">
                <a:solidFill>
                  <a:srgbClr val="ffffff"/>
                </a:solidFill>
                <a:uFillTx/>
                <a:latin typeface="Garamond"/>
              </a:rPr>
              <a:t>فرص الادار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  <a:ea typeface="ＭＳ Ｐゴシック"/>
              </a:rPr>
              <a:t>Management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منظمات الاعمال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تواجه مجموعه متدفق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من 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الفرص المبنيه على تكنولوجيا المعلومات للاستفاده منها للوصول الى تحقيق أهداف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ff"/>
                </a:solidFill>
                <a:uFillTx/>
                <a:latin typeface="Garamond"/>
              </a:rPr>
              <a:t>تحديات الادار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  <a:ea typeface="ＭＳ Ｐゴシック"/>
              </a:rPr>
              <a:t>Management Challe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بعض الشركات تواجه عقبات كبيره في تطبيق ال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أ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نظم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المعاصر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في حالة تحقيق المزايا يكون هنالك 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صعوبه في الم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ح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افظه على هذه المزاي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المنظمات عادة لا تستطيع تحقيق التغيير السريع و الكافي لمواكبة التقنيات الحديث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0" lang="ar-JO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الحلول العريض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Solution Guidel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التفكير في كيفية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دارة التحولات الاستراتيجي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من خلال 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البحث عن تطبيق أنظم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 تعود بالفوائد و المزايا التنافسي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 على الشرك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FDB4-89F5-4FAA-9B00-8E464845C48D}" type="slidenum">
              <a:t>6</a:t>
            </a:fld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 u="sng">
                <a:solidFill>
                  <a:srgbClr val="ff0000"/>
                </a:solidFill>
                <a:uFillTx/>
                <a:latin typeface="Garamond"/>
              </a:rPr>
              <a:t>الخطة الإستراتيجية لنظام المعلومات</a:t>
            </a:r>
            <a:r>
              <a:rPr b="1" lang="ar-JO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ff"/>
                </a:solidFill>
                <a:latin typeface="Garamond"/>
              </a:rPr>
              <a:t>تخطيط استراتيجي رسمي لنظام المعلومات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JO" sz="3600" spc="-1" strike="noStrike">
                <a:solidFill>
                  <a:srgbClr val="ff0000"/>
                </a:solidFill>
                <a:latin typeface="Garamond"/>
              </a:rPr>
              <a:t>يوفر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خطة استراتيجية للمعلومات تنسجم مع الخطة الإستراتيجية العامة للمنشأة بما يترجم استراتيجياتهاو يعمل على تحقيق أهداف و غايات المنشأة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يؤدي الوصول الى تصميم نظام فعال للمعلومات من وجهة نظر 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المستفيدين و أفراد النظام الى تعاظم الفوائد من النظام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، و عندها يمكن الوصول الى دقة و تكامل في المعلومات و سرعة الحصول عليها و زيادة كفاءة العاملين و تحسين الخدمات العامة و تحسين الإتصالات الإدارية و تطوير و تحسين الأداء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561D-D49A-4353-AD70-7F6C974B69DB}" type="slidenum">
              <a:t>7</a:t>
            </a:fld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 u="sng">
                <a:solidFill>
                  <a:srgbClr val="ff0000"/>
                </a:solidFill>
                <a:uFillTx/>
                <a:latin typeface="Garamond"/>
              </a:rPr>
              <a:t>التحديات التي تواجه التخطيط الإستراتيجي لنظم المعلومات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الكيفية التي تدار بها المنشأة ، و السياسات المختلفة التي تتبعها في التعامل مع نظم المعلومات كمورد رئيس من موارد المنشأة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مدى 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التناسق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 بين التخطيط الإستراتيجي لنظم المعلومات ، و الخطة الإستراتيجية العامة للمنظم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صعوبة بناء النظم المعقدة في المؤسسات الكبيرة ، و طول الفترة الزمنية اللازمة لإنجازها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مدى القدرة على إدامة نظام المعلومات في تقديم الدعم المطلوب منه للمنظم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مدى التعاون بين متخصصي نظم المعلومات و مستخدمي النظام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القدرة على تقييم الفرص المتاحة من خلال الإعتماد على نظام المعلومات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699F-AFD9-463B-8CE0-41C0B09FB55E}" type="slidenum">
              <a:t>8</a:t>
            </a:fld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 u="sng">
                <a:solidFill>
                  <a:srgbClr val="ff0000"/>
                </a:solidFill>
                <a:uFillTx/>
                <a:latin typeface="Garamond"/>
              </a:rPr>
              <a:t>مراحل التخطيط الإستراتيجي لنظم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  <a:ea typeface="Times New Roman"/>
              </a:rPr>
              <a:t>  اولاً يجب الإجابة على الأسئلة التالية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ما هو نطاق التخطيط الإستراتيجي المطلوب 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أين نحن الآن 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أين نريد أن نكون 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كيف نصل الى الهدف المنشود 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4F38-68B8-4866-A8D7-67BC0A844115}" type="slidenum">
              <a:t>9</a:t>
            </a:fld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ud</cp:lastModifiedBy>
  <dcterms:modified xsi:type="dcterms:W3CDTF">2015-11-04T06:28:21Z</dcterms:modified>
  <cp:revision>214</cp:revision>
  <dc:subject/>
  <dc:title>Internet Application </dc:title>
</cp:coreProperties>
</file>