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4792A-D751-4165-A944-7930BAFA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1B701-CD0A-4313-A8A9-FACED731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FD3FD-06BD-49F9-8C22-88A8F3F4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86855-019D-4754-93F3-A04762F0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9E5E-16ED-4C35-B432-CC7695CF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1E2E-F591-4A52-8614-135AB248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0F44-FAF4-40A2-B604-79AD2396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D12D-F7F6-44F5-B351-C62243FC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9BA8-A68E-496F-A8F4-E13864D6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320C-CC73-4DC0-A021-21153C67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8139-D7D0-4773-82B9-B1A673EB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FAADE-09BA-43A9-A09D-6F30CA3E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D8EA-B9C1-4724-9AF7-69F68797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9647-5FDB-4E0C-B2D1-EE573E9C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079B-5C85-4487-94BA-B5BC0E63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D980-7364-4D3F-8BF3-F03B474B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2CDC-8AAC-4A76-BA1F-1F10E16F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65041-C11C-4CE6-9DAB-03029937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3C41-F264-4948-8CC8-BDD500DD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BB9C-09B0-4187-8BF7-29C52F24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42B45-C18D-4806-B3AE-50FA43B8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E88C6-558D-4264-BE54-A0D8EB0A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C3269-238D-4639-8865-B783AF3B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B655D-D27D-4DC4-AC0B-C4393225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CB3D-00CB-4F06-96EB-3F9027E2FE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67A5-7DDC-429B-9F19-1E3E79AF0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F476-1B4A-4C83-BDF2-C7F4018DB6D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0FCA-2EAD-468B-A999-C9C369C1FD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مفاهيم المتعلقة بالبيانات و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هدف من المحاضرة(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تعرف على مفهوم البيانات و المعلومات، المعرفة و الخبر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تعرف على مفهوم جودة المعلومات وخصائصها ومصادر الاخطاء فيها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تعرف على شرائح المعلومات داخل المنظم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حوجة للمعلومات في منظمات الاعمال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تعرف على تحديات التعامل مع المعلومات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طرق جمع البيانات و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Garamond"/>
              </a:rPr>
              <a:t>الطرق المكتبية : تعتمد على الرجوع للكتب و المراجع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طرق الميدانية : (اسلوب المسح الشامل، المسح بالعينة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خصائص المعلومات الجيد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-49356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Garamond"/>
              </a:rPr>
              <a:t>جودة المعلومة : خصائص المعلومات التي تقابل أو تتخطى توقعات المستفيد منها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الشمولية : بحيث تغطي هذه المعلومات جميع جوانب الموضوع قيد الدراس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الدقة : بحيث تخلو هذه المعلومات من الأخطاء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المناسبة زمنياً: بحيث تتوفر هذه المعلومات في الوقت المناسب للإستفادة منها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الواقعية: و تمثل واقع عمل المستفيد لتكون ذات فائدة في التعامل مع هذا الموضو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الكلفة : وتكون كلفة المعلومات اقل من فائدتها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المرونة و القابلية للقياس: اي قابليتها للإستخدام لاكثر من مستخدم(المرونة ) كما يمكن اجراء مقارنات أو تحليل كمي للربط بين المعلومات وبالتالي نتائج اكثر دقة(القابلية للقياس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عدم التضارب : كل جزء من المعلومة لديه معنى واحد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سهولة والوضوح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: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بمعني أن تكون المعلومات واضحة ومفهومة لمستخدميها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SimSun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 وخالية من الرموز و الكلمات الغير واضح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سرية المعلوم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يقصد بها عدم السماح  للاشخاص غير المصرح لهم بالاطلاع على المعلومة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اخفاؤها ومنع تسربها الى افراد غير مخول لهم الحصول عليها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أمن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مجموعة الاجراءات الوقائية المتخذه لحماية المعلومات من السرقة أو الضياع أو التلف و وضعها في شكل أمن لحمايتها من أي اعتداء عليها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مصادر الأخطاء في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خطاء جمع البيانات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خطاء المعالجة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خطاء الادخال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خطاء المتعمدة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المعلومات الإدار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تعتبر المعلومة اهم واضخم مورد للمنظمة لانها المحور و الركيزة لكافة العمليات الإداري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أنواع المعلومات الإدارية حسب الوظائف الإدارية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** المعلومات الانتاجية و التصنيع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** معلومات الافراد و القوى البشر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** معلومات التمويل و المحاس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** المعلومات التسويقية و البيعي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أنواع المعلومات الإدارية حسب المستويات الإدارية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معلومات الإستراتيجية (للمستوى الاستراتيجي)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معلومات التكتيكية (للمستوى التكتيكي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معلومات الفنية (للمستوى الفني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معلومات التشغيل (للمستوى التشغيلي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هيكلية المعلومات الادارية في المنظم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48" name="Diagram 5"/>
          <p:cNvGrpSpPr/>
          <p:nvPr/>
        </p:nvGrpSpPr>
        <p:grpSpPr>
          <a:xfrm>
            <a:off x="2400480" y="1982520"/>
            <a:ext cx="4343400" cy="3760560"/>
            <a:chOff x="2400480" y="1982520"/>
            <a:chExt cx="4343400" cy="3760560"/>
          </a:xfrm>
        </p:grpSpPr>
        <p:sp>
          <p:nvSpPr>
            <p:cNvPr id="149" name="_s1028"/>
            <p:cNvSpPr/>
            <p:nvPr/>
          </p:nvSpPr>
          <p:spPr>
            <a:xfrm flipV="1">
              <a:off x="3848040" y="1982160"/>
              <a:ext cx="1447920" cy="1253880"/>
            </a:xfrm>
            <a:custGeom>
              <a:avLst/>
              <a:gdLst>
                <a:gd name="textAreaLeft" fmla="*/ 519480 w 1447920"/>
                <a:gd name="textAreaRight" fmla="*/ 928440 w 1447920"/>
                <a:gd name="textAreaTop" fmla="*/ 450000 h 1253880"/>
                <a:gd name="textAreaBottom" fmla="*/ 803880 h 125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5400" spc="-1" strike="noStrike">
                  <a:solidFill>
                    <a:srgbClr val="ff0000"/>
                  </a:solidFill>
                  <a:latin typeface="Garamond"/>
                </a:rPr>
                <a:t>1</a:t>
              </a:r>
              <a:endParaRPr b="0" lang="en-US" sz="5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_s1029"/>
            <p:cNvSpPr/>
            <p:nvPr/>
          </p:nvSpPr>
          <p:spPr>
            <a:xfrm flipV="1">
              <a:off x="3124080" y="3236760"/>
              <a:ext cx="2895840" cy="1254240"/>
            </a:xfrm>
            <a:custGeom>
              <a:avLst/>
              <a:gdLst>
                <a:gd name="textAreaLeft" fmla="*/ 636840 w 2895840"/>
                <a:gd name="textAreaRight" fmla="*/ 2259000 w 2895840"/>
                <a:gd name="textAreaTop" fmla="*/ 275760 h 1254240"/>
                <a:gd name="textAreaBottom" fmla="*/ 97848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7200" spc="-1" strike="noStrike">
                  <a:solidFill>
                    <a:srgbClr val="ff0000"/>
                  </a:solidFill>
                  <a:latin typeface="Garamond"/>
                </a:rPr>
                <a:t>2</a:t>
              </a:r>
              <a:endParaRPr b="0" lang="en-US" sz="7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_s1030"/>
            <p:cNvSpPr/>
            <p:nvPr/>
          </p:nvSpPr>
          <p:spPr>
            <a:xfrm flipV="1">
              <a:off x="2400480" y="4490280"/>
              <a:ext cx="4343400" cy="1252440"/>
            </a:xfrm>
            <a:custGeom>
              <a:avLst/>
              <a:gdLst>
                <a:gd name="textAreaLeft" fmla="*/ 753840 w 4343400"/>
                <a:gd name="textAreaRight" fmla="*/ 3589560 w 4343400"/>
                <a:gd name="textAreaTop" fmla="*/ 217440 h 1252440"/>
                <a:gd name="textAreaBottom" fmla="*/ 1035000 h 12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6600" spc="-1" strike="noStrike">
                  <a:solidFill>
                    <a:srgbClr val="ff0000"/>
                  </a:solidFill>
                  <a:latin typeface="Garamond"/>
                </a:rPr>
                <a:t>3</a:t>
              </a:r>
              <a:endParaRPr b="0" lang="en-US" sz="6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شرائح المعلومات داخل المنظمة(متابعة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شريحة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3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(في قاعدة الهرم):تحتوي الشريحة الأولى على المعلومات الخاصة بالعمليات داخل المنظمة ، و تتميز هذه الشريحة باحتوائها على معلومات يومية تتميز باحجامها الكبير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شريحة 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2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(في وسط الهرم): تحتوي على معلومات تم استخلاصها بعناية من مستوى المعلومات الأدنى لمساعدة الإدارة في تنفيذ النشاطات التكتيكية و حل المشاكل التي تواجه الإدارة في هذا المستوى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شريحة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 (في قمة الهرم):تحتوي المعلومات الإستنتاجية و التحليلية التي تم إستخلاصها من المستوى الادنى و التي يستفاد منها في إتخاذ القرارات الإستراتيجية للتخطيط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80880" y="3276720"/>
            <a:ext cx="853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حاجة إلى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Garamond"/>
              </a:rPr>
              <a:t>تعتبر المعلومة هامه للإدارة وذلك لانه يمكن استخدامها في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Garamond"/>
              </a:rPr>
              <a:t>***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عكس المعلومات واقع الأداء بأقسام وأنشطة المنظمة المختلفة، وبالتالي تمكن الإدارة ما معرفة ما هو حديث في أداء المنظمة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Garamond"/>
              </a:rPr>
              <a:t>***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 تعتبرعنصراُ رئيسياً في اتخاذ القرارات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Garamond"/>
              </a:rPr>
              <a:t>***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 الحوجة لجمع البيانات و المعلومات عن بيئة المنظمة الخارجية (السوق، الموردين،...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Garamond"/>
              </a:rPr>
              <a:t>***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 الحوجة للانتشار و التوسع في السو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بيانات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Da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مجموعة الأرقام أو الحروف أو الرموز أو الجمل غير المنظمة والتي قد لايستفاد منها في شكلها الحالى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مادة الخام التى تستخرج منها المعلومات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Garamond"/>
              </a:rPr>
              <a:t>الأسباب التي تجعل ضرورة إهتمام المنظمة على المعلومات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كبر حجم المنظمات وتفرعها و تعقيدها يؤدي لضرورة الاهتمام بالمعلوم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منافسة في بيئة الاعما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تغير السريع في بيئة المنظم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حالة عدم الاستقرار نتيجة التغير في الظروف الإقتصادية والسياسية، وارتباطها بنشاط الأعمال وبالتالي انعكاس آثارها عليه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اهتمام بالبيئة الداخلية للمنظم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3300"/>
                </a:solidFill>
                <a:latin typeface="Garamond"/>
              </a:rPr>
              <a:t>تحديات التعامل مع البيانات و المعلوما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معالجة..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تخزين..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استرجاع..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كم الهائل من البيانات..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بيانات المترابطة..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معلومات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nformation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بيانات التى تمت معالجتها لتحقيق هدف معين أو لاستعمال محدد</a:t>
            </a:r>
            <a:r>
              <a:rPr b="0" lang="ar-SA" sz="4000" spc="-1" strike="noStrike">
                <a:solidFill>
                  <a:srgbClr val="ffff00"/>
                </a:solidFill>
                <a:latin typeface="Garamond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مجموعة من البيانات المعالجة، المنظّمة، المترابطة و المعدّة للإستخدام و إتخاذ القرارات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معالجة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عمليات تجرى على البيانات لتحويلها لبيانات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وتشمل : 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إضافة ، الحذف ، التعديل،التبويب،التصنيف ، التنظيم ، التحليل ،.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تحويل البيانات لمعلومات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بيانات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+معالجة= معلومات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معرفة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Knowled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مجموعة من المعلومات الموجهه و المختبره والتي تخدم موضوع معين تمت معالجتها و إثباتها وترقيتها بصورة تراكمية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الخبرة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erience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مجموعة المعرفة المثبتة و المختبرة و التي تخدم مواضيع عدة تم إثباتها و تعميمها و تجميعها وترقيتها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مجموعة من المعرفة المتراكمة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أنواع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aramond"/>
              </a:rPr>
              <a:t>تتنوع بتنوع محتواها و هدفها و حجمها و على حسب ارتباطها بالموضوع  منها: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Garamond"/>
              </a:rPr>
              <a:t>    -- المعلومات التاريخية : معلومات تتعلق بفترات سابق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Garamond"/>
              </a:rPr>
              <a:t>    -- المعلومات الفنية: معلومات توضح كيفية أداء و إنجاز الامور الفني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Garamond"/>
              </a:rPr>
              <a:t>    -- المعلومات الوظيفية: المعلومات التي تتعلق باي من المجالات العامة مثل الاقتصادية و غيرها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aramond"/>
              </a:rPr>
              <a:t>-- 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</a:rPr>
              <a:t>المعلومات الادارية: معلومات تتعلق بكافة مجالات و أنشطة ووظائف المنظم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مصادر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يمكن تقسيمها الى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مصادر الداخلية : وهي البيانات و المعلومات المتوفرة و الموجودة داخل المنظمة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المصادر الخارجية : هي المعلومات  التي يتم الحصول عليها من بيئة المنظمة الخارجية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مصادر أخرى للمعلومات و البيان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لمصادر الثانوية: تشمل المراجع،الكتب ، الدوريات و النشرات و المجل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مصادر الاولية: تشمل الملاحظة الشخصية و الاستقصاء و التجربة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بنوك المعلومات : فيها يتم تجميع اكبر قدر من المعلومات المرتبطة وتخزينها كل حسب الفئة بحيث يتم استرجاعها بسرعة للاستفادة منها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انترنت:  تكون البيانات و المعلومات قد اعدتها و نظمتها منظمات و عرضتها على مواقعها على شبكة الانترنت ليتثنى للجميع تداولها و الاستفادة منها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user 111</cp:lastModifiedBy>
  <dcterms:modified xsi:type="dcterms:W3CDTF">2021-10-18T14:17:26Z</dcterms:modified>
  <cp:revision>219</cp:revision>
  <dc:subject/>
  <dc:title>Internet Application </dc:title>
</cp:coreProperties>
</file>