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807F-031A-4FB1-9C7E-AEF5408D4F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8360-9A93-47D2-8B78-EAA3873FA9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E69E-7D7A-4CD4-889F-4B7962F5AB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4A31-E498-401D-954B-27ACC5FE24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3D5C-9106-4E44-AB4B-C87C8AE692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8542-3293-4A46-A4C7-04B4001A2C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AFEB-F96E-4FC7-8F11-B0BB09ACA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4C29-47EC-4E63-A976-6D78EBEB30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DA1C-59C6-49C3-B9B3-2FD599AE1E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780B-2266-4EF3-BD6F-44C5018F5D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2C53-071A-431B-9D00-468874BBDA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C3CC-7EF1-43FA-A428-2290EBD39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4ADE-0C16-4D65-9A76-36279ED63E8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809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(5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743200" y="806400"/>
            <a:ext cx="6248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بدء تنفيذها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35576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4894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42244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نداء الدالة لتبدأ تنفيذها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12" idx="1"/>
            <a:endCxn id="210" idx="1"/>
          </p:cNvCxnSpPr>
          <p:nvPr/>
        </p:nvCxnSpPr>
        <p:spPr>
          <a:xfrm flipH="1" rot="10800000">
            <a:off x="837000" y="2658240"/>
            <a:ext cx="762840" cy="1845360"/>
          </a:xfrm>
          <a:prstGeom prst="bentConnector3">
            <a:avLst>
              <a:gd name="adj1" fmla="val -63739"/>
            </a:avLst>
          </a:prstGeom>
          <a:ln w="22320">
            <a:solidFill>
              <a:srgbClr val="ff0000"/>
            </a:solidFill>
            <a:miter/>
            <a:headEnd len="med" type="stealth" w="lg"/>
          </a:ln>
        </p:spPr>
      </p:cxnSp>
      <p:sp>
        <p:nvSpPr>
          <p:cNvPr id="213" name=""/>
          <p:cNvSpPr/>
          <p:nvPr/>
        </p:nvSpPr>
        <p:spPr>
          <a:xfrm>
            <a:off x="914400" y="190188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9401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4267080"/>
            <a:ext cx="7848720" cy="1828800"/>
            <a:chOff x="838080" y="4267080"/>
            <a:chExt cx="7848720" cy="1828800"/>
          </a:xfrm>
        </p:grpSpPr>
        <p:sp>
          <p:nvSpPr>
            <p:cNvPr id="212" name=""/>
            <p:cNvSpPr/>
            <p:nvPr/>
          </p:nvSpPr>
          <p:spPr>
            <a:xfrm>
              <a:off x="838080" y="4267080"/>
              <a:ext cx="20574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public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stati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4267080"/>
              <a:ext cx="9144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voi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3920" y="4267080"/>
              <a:ext cx="15238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5470560"/>
              <a:ext cx="609624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29200" y="4267080"/>
              <a:ext cx="33526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(   ) {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6680" y="4876920"/>
              <a:ext cx="7620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ystem.out.printl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“</a:t>
              </a:r>
              <a:r>
                <a:rPr b="1" i="1" lang="en-US" sz="2300" spc="-1" strike="noStrike">
                  <a:solidFill>
                    <a:srgbClr val="00007d"/>
                  </a:solidFill>
                  <a:latin typeface="Arial"/>
                </a:rPr>
                <a:t>Welcome on Jav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”);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080" y="4267080"/>
              <a:ext cx="624852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295280"/>
            <a:ext cx="73915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225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howTex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0948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showText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6765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3718080"/>
            <a:ext cx="716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743200"/>
            <a:ext cx="5257800" cy="457200"/>
          </a:xfrm>
          <a:prstGeom prst="rect">
            <a:avLst/>
          </a:prstGeom>
          <a:noFill/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727360"/>
            <a:ext cx="48765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 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نداء الدالة لتبدأ تنفيذها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3117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431172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4311720"/>
            <a:ext cx="1524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53341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4311720"/>
            <a:ext cx="3352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  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48610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Welcome on 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58672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22068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32446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8001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قراءة عددين صحيحين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ى تقوم بإستقبال العددين المُدخلين وتحديد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العدد الأكبر بينهما،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ثم طباعة النتيجة على شاشة التنفي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032280"/>
            <a:ext cx="8305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حل هذا المثال يتم اتباع الخطوات التال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36496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( int  x , int  y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87692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إضافة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ى كود البرنام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42670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نفيذ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90720" y="27432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274320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74320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7339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27672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114800"/>
            <a:ext cx="198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44956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48006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318280"/>
            <a:ext cx="220968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58672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4920" y="1523880"/>
            <a:ext cx="1904760" cy="1295640"/>
            <a:chOff x="304920" y="1523880"/>
            <a:chExt cx="1904760" cy="1295640"/>
          </a:xfrm>
        </p:grpSpPr>
        <p:sp>
          <p:nvSpPr>
            <p:cNvPr id="260" name=""/>
            <p:cNvSpPr/>
            <p:nvPr/>
          </p:nvSpPr>
          <p:spPr>
            <a:xfrm>
              <a:off x="304920" y="175248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modifi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1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5280" y="2209680"/>
              <a:ext cx="15264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95280" y="2209680"/>
              <a:ext cx="91440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752480" y="1523880"/>
            <a:ext cx="2590920" cy="1219320"/>
            <a:chOff x="1752480" y="1523880"/>
            <a:chExt cx="2590920" cy="1219320"/>
          </a:xfrm>
        </p:grpSpPr>
        <p:sp>
          <p:nvSpPr>
            <p:cNvPr id="265" name=""/>
            <p:cNvSpPr/>
            <p:nvPr/>
          </p:nvSpPr>
          <p:spPr>
            <a:xfrm>
              <a:off x="1752480" y="1752480"/>
              <a:ext cx="2590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turnValueTyp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09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8120" y="2209680"/>
              <a:ext cx="15228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114800" y="1523880"/>
            <a:ext cx="2133720" cy="1295640"/>
            <a:chOff x="4114800" y="1523880"/>
            <a:chExt cx="2133720" cy="1295640"/>
          </a:xfrm>
        </p:grpSpPr>
        <p:sp>
          <p:nvSpPr>
            <p:cNvPr id="269" name=""/>
            <p:cNvSpPr/>
            <p:nvPr/>
          </p:nvSpPr>
          <p:spPr>
            <a:xfrm>
              <a:off x="4114800" y="1752480"/>
              <a:ext cx="213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ethodNam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292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43400" y="2209680"/>
              <a:ext cx="38088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562360" y="1523880"/>
            <a:ext cx="3276720" cy="1371600"/>
            <a:chOff x="5562360" y="1523880"/>
            <a:chExt cx="3276720" cy="1371600"/>
          </a:xfrm>
        </p:grpSpPr>
        <p:sp>
          <p:nvSpPr>
            <p:cNvPr id="273" name=""/>
            <p:cNvSpPr/>
            <p:nvPr/>
          </p:nvSpPr>
          <p:spPr>
            <a:xfrm>
              <a:off x="6019920" y="1752480"/>
              <a:ext cx="2819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list of parameter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52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562360" y="2209680"/>
              <a:ext cx="990360" cy="685800"/>
              <a:chOff x="5562360" y="2209680"/>
              <a:chExt cx="990360" cy="685800"/>
            </a:xfrm>
          </p:grpSpPr>
          <p:sp>
            <p:nvSpPr>
              <p:cNvPr id="276" name=""/>
              <p:cNvSpPr/>
              <p:nvPr/>
            </p:nvSpPr>
            <p:spPr>
              <a:xfrm flipH="1">
                <a:off x="5562360" y="2209680"/>
                <a:ext cx="99036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400440" y="2209680"/>
                <a:ext cx="15228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3733920" y="5334120"/>
            <a:ext cx="2819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قيمة الناتجة من تنفيذ الدالة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248520" y="3429000"/>
            <a:ext cx="2666880" cy="2362320"/>
            <a:chOff x="6248520" y="3429000"/>
            <a:chExt cx="2666880" cy="2362320"/>
          </a:xfrm>
        </p:grpSpPr>
        <p:grpSp>
          <p:nvGrpSpPr>
            <p:cNvPr id="280" name=""/>
            <p:cNvGrpSpPr/>
            <p:nvPr/>
          </p:nvGrpSpPr>
          <p:grpSpPr>
            <a:xfrm>
              <a:off x="6248520" y="3429000"/>
              <a:ext cx="380880" cy="2362320"/>
              <a:chOff x="6248520" y="3429000"/>
              <a:chExt cx="380880" cy="2362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629400" y="3429000"/>
                <a:ext cx="0" cy="2362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248520" y="342900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248520" y="57913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477120" y="420516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590920" y="898560"/>
            <a:ext cx="6248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( int  x , int  y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2743200"/>
            <a:ext cx="3353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62120" y="30322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19520" y="303228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05320" y="303228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523880" y="3565440"/>
            <a:ext cx="4343400" cy="1982520"/>
            <a:chOff x="1523880" y="3565440"/>
            <a:chExt cx="4343400" cy="1982520"/>
          </a:xfrm>
        </p:grpSpPr>
        <p:sp>
          <p:nvSpPr>
            <p:cNvPr id="292" name=""/>
            <p:cNvSpPr/>
            <p:nvPr/>
          </p:nvSpPr>
          <p:spPr>
            <a:xfrm>
              <a:off x="1600200" y="402264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f ( x &gt; 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00200" y="3565440"/>
              <a:ext cx="4267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resul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4403880"/>
              <a:ext cx="198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resul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x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3880" y="478476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33720" y="5089680"/>
              <a:ext cx="19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7d"/>
                  </a:solidFill>
                  <a:latin typeface="Arial"/>
                </a:rPr>
                <a:t>resul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y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447920" y="5607000"/>
            <a:ext cx="220968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60958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5622840"/>
            <a:ext cx="2819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قيمة الناتجة من تنفيذ الدالة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6094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91120" y="303228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91440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19384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13716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ين (مثلا)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1752480"/>
            <a:ext cx="75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2209680"/>
            <a:ext cx="0" cy="838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2209680"/>
            <a:ext cx="0" cy="838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2438280"/>
            <a:ext cx="2286000" cy="6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قيمة العددين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297" idx="1"/>
            <a:endCxn id="305" idx="1"/>
          </p:cNvCxnSpPr>
          <p:nvPr/>
        </p:nvCxnSpPr>
        <p:spPr>
          <a:xfrm flipH="1" rot="10800000">
            <a:off x="1447560" y="1988280"/>
            <a:ext cx="2160" cy="3855240"/>
          </a:xfrm>
          <a:prstGeom prst="bentConnector3">
            <a:avLst>
              <a:gd name="adj1" fmla="val -61200000"/>
            </a:avLst>
          </a:prstGeom>
          <a:ln w="2232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310" name=""/>
          <p:cNvSpPr/>
          <p:nvPr/>
        </p:nvSpPr>
        <p:spPr>
          <a:xfrm>
            <a:off x="4343400" y="259092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2590920"/>
            <a:ext cx="38124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5562720"/>
            <a:ext cx="2286000" cy="5331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22860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3048120"/>
            <a:ext cx="731520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316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ax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7195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281916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41767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33526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الأول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51055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55627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47242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الثانى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380880" y="457200"/>
            <a:ext cx="8305560" cy="6248160"/>
            <a:chOff x="380880" y="457200"/>
            <a:chExt cx="8305560" cy="6248160"/>
          </a:xfrm>
        </p:grpSpPr>
        <p:sp>
          <p:nvSpPr>
            <p:cNvPr id="330" name=""/>
            <p:cNvSpPr/>
            <p:nvPr/>
          </p:nvSpPr>
          <p:spPr>
            <a:xfrm>
              <a:off x="380880" y="862560"/>
              <a:ext cx="8305560" cy="58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457200"/>
              <a:ext cx="8305560" cy="405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ax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914400" y="129528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max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8380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max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ن خلال ارسال العددين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175248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The max number is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21938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7432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2743200"/>
            <a:ext cx="685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2743200"/>
            <a:ext cx="990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6576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32004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03848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441972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472428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257800"/>
            <a:ext cx="2209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1500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2743200"/>
            <a:ext cx="3353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6232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743200"/>
            <a:ext cx="6858000" cy="342900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1295280"/>
            <a:ext cx="5257800" cy="45720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0666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قراءة عدد صحيح من النوع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من المستخدم، ثم يقوم البرنامج بحساب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ضروب العدد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عند 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ac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،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طباعة النتيجة على شاشة التنفي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3032280"/>
            <a:ext cx="8305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حل هذا المثال يتم اتباع الخطوات التال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36496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487692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إضافة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ى كود البرنام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2670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نفيذ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4479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838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447920"/>
            <a:ext cx="99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19320" y="1981080"/>
            <a:ext cx="4267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487692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343400"/>
            <a:ext cx="2819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قيمة الناتجة من تنفيذ الدالة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5880" y="2133720"/>
            <a:ext cx="2666880" cy="2589840"/>
            <a:chOff x="6095880" y="2133720"/>
            <a:chExt cx="2666880" cy="2589840"/>
          </a:xfrm>
        </p:grpSpPr>
        <p:grpSp>
          <p:nvGrpSpPr>
            <p:cNvPr id="365" name=""/>
            <p:cNvGrpSpPr/>
            <p:nvPr/>
          </p:nvGrpSpPr>
          <p:grpSpPr>
            <a:xfrm>
              <a:off x="6095880" y="2133720"/>
              <a:ext cx="380880" cy="2589840"/>
              <a:chOff x="6095880" y="2133720"/>
              <a:chExt cx="380880" cy="2589840"/>
            </a:xfrm>
          </p:grpSpPr>
          <p:sp>
            <p:nvSpPr>
              <p:cNvPr id="366" name=""/>
              <p:cNvSpPr/>
              <p:nvPr/>
            </p:nvSpPr>
            <p:spPr>
              <a:xfrm>
                <a:off x="6476760" y="2133720"/>
                <a:ext cx="0" cy="2589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6095880" y="21337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095880" y="472356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324480" y="298476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590920" y="898560"/>
            <a:ext cx="6248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144792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43000" y="25146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 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&g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36259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306216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4267080"/>
            <a:ext cx="2209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04920" y="22860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5349960"/>
            <a:ext cx="2819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القيمة الناتجة من تنفيذ الدالة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6094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838080"/>
            <a:ext cx="658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54240" y="2193840"/>
            <a:ext cx="5603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6440" y="1295280"/>
            <a:ext cx="539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راءة العدد (مثلا)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175248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2209680"/>
            <a:ext cx="0" cy="76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38680" y="2286000"/>
            <a:ext cx="2286000" cy="609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by Valu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رسال العدد للد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514600"/>
            <a:ext cx="380880" cy="380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5273640"/>
            <a:ext cx="2209680" cy="457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838080" y="2895480"/>
            <a:ext cx="7315200" cy="3369240"/>
            <a:chOff x="838080" y="2895480"/>
            <a:chExt cx="7315200" cy="3369240"/>
          </a:xfrm>
        </p:grpSpPr>
        <p:sp>
          <p:nvSpPr>
            <p:cNvPr id="388" name=""/>
            <p:cNvSpPr/>
            <p:nvPr/>
          </p:nvSpPr>
          <p:spPr>
            <a:xfrm>
              <a:off x="838080" y="2895480"/>
              <a:ext cx="20574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public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stati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95480" y="2895480"/>
              <a:ext cx="83844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05320" y="2895480"/>
              <a:ext cx="9903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fact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19320" y="3336840"/>
              <a:ext cx="42670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f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5791320"/>
              <a:ext cx="609624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 end of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91120" y="2895480"/>
              <a:ext cx="3352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(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n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19320" y="3718080"/>
              <a:ext cx="693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for</a:t>
              </a:r>
              <a:r>
                <a:rPr b="1" lang="en-US" sz="24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( 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i =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;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 &gt;=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;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--</a:t>
              </a:r>
              <a:r>
                <a:rPr b="1" lang="en-US" sz="23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) </a:t>
              </a: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95280" y="4648320"/>
              <a:ext cx="29718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}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   </a:t>
              </a:r>
              <a:r>
                <a:rPr b="1" i="1" lang="en-US" sz="2000" spc="-1" strike="noStrike">
                  <a:solidFill>
                    <a:srgbClr val="4d4d4d"/>
                  </a:solidFill>
                  <a:latin typeface="Arial"/>
                </a:rPr>
                <a:t>//end of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57400" y="4205160"/>
              <a:ext cx="4267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f 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f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 i</a:t>
              </a: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71600" y="5257800"/>
              <a:ext cx="20574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8" name=""/>
          <p:cNvCxnSpPr/>
          <p:nvPr/>
        </p:nvCxnSpPr>
        <p:spPr>
          <a:xfrm flipV="1" rot="10800000">
            <a:off x="1204200" y="2010240"/>
            <a:ext cx="700920" cy="3552120"/>
          </a:xfrm>
          <a:prstGeom prst="bentConnector3">
            <a:avLst>
              <a:gd name="adj1" fmla="val 193371"/>
            </a:avLst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99" name=""/>
          <p:cNvSpPr/>
          <p:nvPr/>
        </p:nvSpPr>
        <p:spPr>
          <a:xfrm>
            <a:off x="838080" y="2971800"/>
            <a:ext cx="601992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1752480"/>
            <a:ext cx="5334120" cy="457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3623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Calling a metho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0481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4. void method example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4)</a:t>
            </a: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6576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5. Passing Parameters by Values</a:t>
            </a:r>
            <a:r>
              <a:rPr b="0" lang="en-US" sz="3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5)</a:t>
            </a: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343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6. Overloading Methods</a:t>
            </a:r>
            <a:r>
              <a:rPr b="0" lang="en-US" sz="3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6)</a:t>
            </a: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0292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7. The Scope of Variables</a:t>
            </a:r>
            <a:r>
              <a:rPr b="0" lang="en-US" sz="3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8)</a:t>
            </a: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7524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Creating a metho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5.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638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8. The Math Class</a:t>
            </a:r>
            <a:r>
              <a:rPr b="0" lang="en-US" sz="3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402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Fac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62120" y="16765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Fact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909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26665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3948120"/>
            <a:ext cx="6019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66680" y="31240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العدد الأول من المستخد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495288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fact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449568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نداء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fact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من خلال ارسال العدد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n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ليتم بدء تنفيذها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541008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The fact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59277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4920" y="22860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380880" y="990720"/>
            <a:ext cx="8305560" cy="5257440"/>
            <a:chOff x="380880" y="990720"/>
            <a:chExt cx="8305560" cy="5257440"/>
          </a:xfrm>
        </p:grpSpPr>
        <p:sp>
          <p:nvSpPr>
            <p:cNvPr id="417" name=""/>
            <p:cNvSpPr/>
            <p:nvPr/>
          </p:nvSpPr>
          <p:spPr>
            <a:xfrm>
              <a:off x="380880" y="1332000"/>
              <a:ext cx="8305560" cy="491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880" y="990720"/>
              <a:ext cx="8305560" cy="341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Fac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828800" y="1386000"/>
            <a:ext cx="6553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تعريف الدال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f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1828800"/>
            <a:ext cx="6858000" cy="373392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182880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1828800"/>
            <a:ext cx="838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2270160"/>
            <a:ext cx="4267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90720" y="47242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1828800"/>
            <a:ext cx="3352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71600" y="272736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 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&g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37018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09680" y="321480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419112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57600" y="1828800"/>
            <a:ext cx="9907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. Calling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83736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wo 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all a method;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the choice is based 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ther the metho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turns a value or no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1492920"/>
            <a:ext cx="8686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وجد 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</a:rPr>
              <a:t>طريقتين لنداء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من داخل الدالة الرئيس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ليتم بدء تنفيذها، وتعتمد طريقة النداء على حسب الدالة فى أنها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تقوم بإرجاع قيمة عند تنفيذها أو لا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1480" y="2513880"/>
            <a:ext cx="79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thod return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ssigns the result of the method to the 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3429000"/>
            <a:ext cx="7543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outpu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num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نداء الدال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47998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43080" indent="-343080"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method return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call to the method must be a statemen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962160"/>
            <a:ext cx="77724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استخدام تعل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ى حالة أن الدالة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non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أى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638680"/>
            <a:ext cx="7543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isplay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);  //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مثالا: نداء الدالة لطباعة رسالة على شاشة التنفيذ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1066680"/>
            <a:ext cx="8458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1143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عددين صحيحين من النوع (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) بحيث يُمثل العدد الأول (</a:t>
            </a:r>
            <a:r>
              <a:rPr b="1" lang="ar-SA" sz="2700" spc="-1" strike="noStrike">
                <a:solidFill>
                  <a:srgbClr val="ff0000"/>
                </a:solidFill>
                <a:latin typeface="Arial"/>
              </a:rPr>
              <a:t>الأساس</a:t>
            </a: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) والعدد الثانى يُمثل (</a:t>
            </a:r>
            <a:r>
              <a:rPr b="1" lang="ar-SA" sz="2700" spc="-1" strike="noStrike">
                <a:solidFill>
                  <a:srgbClr val="ff0000"/>
                </a:solidFill>
                <a:latin typeface="Arial"/>
              </a:rPr>
              <a:t>الأُس</a:t>
            </a: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)، المطلوب كتابة دالة تسمى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power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700" spc="-1" strike="noStrike">
                <a:solidFill>
                  <a:srgbClr val="000000"/>
                </a:solidFill>
                <a:latin typeface="Arial"/>
              </a:rPr>
              <a:t> تقوم بإستقبال العددين وحساب النتيجة وطباعتها على شاشة التنفيذ.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3200400"/>
            <a:ext cx="8077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حيث يكون ناتج التنفيذ كالآتى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nter base :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nter pow  :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The result =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0666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i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ll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tatements that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oup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 to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perform an operation</a:t>
            </a:r>
            <a:r>
              <a:rPr b="0" i="1" lang="en-US" sz="3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224080"/>
            <a:ext cx="7772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دالة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method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هى عبارة عن مجموعة من التعليمات التى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تم جمعها مع بعضها البعض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أداء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وظيفة محدد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البرنامج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27672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على سبيل المثال: (من الدوال الجاهزة والتابعة للغة البرمجة جافا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7339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System.out.println( 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ystem.exit( 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ext(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xtInt(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nextDouble(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th.pow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)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، .....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828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general, a method has the following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nta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5812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modif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572000"/>
            <a:ext cx="7772400" cy="762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/ method bod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5812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eturnValueTyp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581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thodNa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35812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list of paramet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962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start method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declaration consists of a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method hea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ethod body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4d4d4d"/>
                </a:solidFill>
                <a:latin typeface="Arial"/>
              </a:rPr>
              <a:t>تحتوى الدالة على جزأين أساسين</a:t>
            </a:r>
            <a:r>
              <a:rPr b="1" lang="ar-SA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590920"/>
            <a:ext cx="327672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hod h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19320" y="2971800"/>
            <a:ext cx="6400800" cy="152280"/>
            <a:chOff x="1219320" y="2971800"/>
            <a:chExt cx="6400800" cy="152280"/>
          </a:xfrm>
        </p:grpSpPr>
        <p:sp>
          <p:nvSpPr>
            <p:cNvPr id="130" name=""/>
            <p:cNvSpPr/>
            <p:nvPr/>
          </p:nvSpPr>
          <p:spPr>
            <a:xfrm flipH="1">
              <a:off x="1219320" y="3124080"/>
              <a:ext cx="6400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2971800"/>
              <a:ext cx="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066680" y="3124080"/>
            <a:ext cx="304920" cy="533520"/>
            <a:chOff x="1066680" y="3124080"/>
            <a:chExt cx="304920" cy="533520"/>
          </a:xfrm>
        </p:grpSpPr>
        <p:sp>
          <p:nvSpPr>
            <p:cNvPr id="133" name=""/>
            <p:cNvSpPr/>
            <p:nvPr/>
          </p:nvSpPr>
          <p:spPr>
            <a:xfrm>
              <a:off x="106668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9320" y="31240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467480" y="3124080"/>
            <a:ext cx="304920" cy="533520"/>
            <a:chOff x="7467480" y="3124080"/>
            <a:chExt cx="304920" cy="533520"/>
          </a:xfrm>
        </p:grpSpPr>
        <p:sp>
          <p:nvSpPr>
            <p:cNvPr id="136" name=""/>
            <p:cNvSpPr/>
            <p:nvPr/>
          </p:nvSpPr>
          <p:spPr>
            <a:xfrm>
              <a:off x="746748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0120" y="31240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743200" y="3124080"/>
            <a:ext cx="304920" cy="533520"/>
            <a:chOff x="2743200" y="3124080"/>
            <a:chExt cx="304920" cy="533520"/>
          </a:xfrm>
        </p:grpSpPr>
        <p:sp>
          <p:nvSpPr>
            <p:cNvPr id="139" name=""/>
            <p:cNvSpPr/>
            <p:nvPr/>
          </p:nvSpPr>
          <p:spPr>
            <a:xfrm>
              <a:off x="274320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1240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81480" y="3124080"/>
            <a:ext cx="304920" cy="533520"/>
            <a:chOff x="5181480" y="3124080"/>
            <a:chExt cx="304920" cy="533520"/>
          </a:xfrm>
        </p:grpSpPr>
        <p:sp>
          <p:nvSpPr>
            <p:cNvPr id="142" name=""/>
            <p:cNvSpPr/>
            <p:nvPr/>
          </p:nvSpPr>
          <p:spPr>
            <a:xfrm>
              <a:off x="518148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4120" y="312408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hod hea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es the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modifi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turn valu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method 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rame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method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981080"/>
            <a:ext cx="8077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odifi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which i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p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ells the compiler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ow to call the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3581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eturnValue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data type of the value the method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057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6576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4359240"/>
            <a:ext cx="7772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تخدم لتحديد نوع البيانات للقيمة الناتجة من تنفيذ الدالة، وتأخذ القيم الآتية: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hort, bool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562720"/>
            <a:ext cx="830592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نجد أنه فى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بعض الحالات تقوم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أداء وظيفتها ولا تقوم ب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Arial"/>
              </a:rPr>
              <a:t>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فى هذه الحالة يتم استخدام الكلمة المحجوزة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895480"/>
            <a:ext cx="84582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تخدم لتحديد كيفية نداء الدالة، وغالبا ما يتم استخدام الكلمات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stat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9907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thod that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turns a 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onvoid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, and the method tha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es not return a 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o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80988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ethod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886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530440"/>
            <a:ext cx="8305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لحوظة هامة: الدالة التى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تقوم بإرجاع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ُسمى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onvoid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والدالة التى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اتقوم بإرجاع أى قيمة عند تنفيذ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ُسمى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343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م الدالة التى سيتم تعريفها بالبرنامج حيث يقو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مبرمج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تحديد هذا الإسم وفقاً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لطبيعة عمل الدالة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0666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The formal parameter (argument) lis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type, order, and number of the parameters of a method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066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9051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قصد بها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قيم التى ستقوم الدالة بإستقباله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قبل بدء التنفيذ (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وتكون إختيار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نجد أنه فى بعض الحالات لاتقوم الدالة بإستقبال أى قي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571640"/>
            <a:ext cx="830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ethod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01480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جسم الدال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هو عبارة عن مجموعة من التعليمات التى يتم كتابتها لإداء وظيفة محددة للدا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048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لحوظة هامة: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لابد أن تكون هذه القيم محصورة بي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قوسين(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لابد أن يتم تحديد نوع البيانات لها، فى حالة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وجود أكثر من قي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تم الفصل بينها بالعلامة (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كما يلى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946680"/>
            <a:ext cx="7467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thodName 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value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300" spc="-1" strike="noStrike">
                <a:solidFill>
                  <a:srgbClr val="ff0000"/>
                </a:solidFill>
                <a:latin typeface="Arial"/>
              </a:rPr>
              <a:t>value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819520"/>
            <a:ext cx="83059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0666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ثال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: اكتب برنامج يقوم بطباعة الرسالة ”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welcome on java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رات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على شاشة التنفيذ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عند نداء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يفية تعريف الدا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032280"/>
            <a:ext cx="8305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حل هذا المثال يتم اتباع الخطوات التالي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459240"/>
            <a:ext cx="8001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 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وظيفة هذه الدالة عرض رسالة الترحي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876920"/>
            <a:ext cx="7696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إضافة الدالة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ى كود البرنام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4267080"/>
            <a:ext cx="6248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داء الدال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يتم تنفيذها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. Creating a Metho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895480"/>
            <a:ext cx="2057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2895480"/>
            <a:ext cx="914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vo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895480"/>
            <a:ext cx="1523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403880"/>
            <a:ext cx="6095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523880"/>
            <a:ext cx="1904760" cy="1295640"/>
            <a:chOff x="304920" y="1523880"/>
            <a:chExt cx="1904760" cy="1295640"/>
          </a:xfrm>
        </p:grpSpPr>
        <p:sp>
          <p:nvSpPr>
            <p:cNvPr id="181" name=""/>
            <p:cNvSpPr/>
            <p:nvPr/>
          </p:nvSpPr>
          <p:spPr>
            <a:xfrm>
              <a:off x="304920" y="175248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Arial"/>
                </a:rPr>
                <a:t>modifi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1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5280" y="2209680"/>
              <a:ext cx="15264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2209680"/>
              <a:ext cx="91440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752480" y="1523880"/>
            <a:ext cx="2590920" cy="1219320"/>
            <a:chOff x="1752480" y="1523880"/>
            <a:chExt cx="2590920" cy="1219320"/>
          </a:xfrm>
        </p:grpSpPr>
        <p:sp>
          <p:nvSpPr>
            <p:cNvPr id="186" name=""/>
            <p:cNvSpPr/>
            <p:nvPr/>
          </p:nvSpPr>
          <p:spPr>
            <a:xfrm>
              <a:off x="1752480" y="1752480"/>
              <a:ext cx="2590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turnValueTyp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90920" y="1523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8120" y="2209680"/>
              <a:ext cx="15228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343400" y="1523880"/>
            <a:ext cx="2133720" cy="1295640"/>
            <a:chOff x="4343400" y="1523880"/>
            <a:chExt cx="2133720" cy="1295640"/>
          </a:xfrm>
        </p:grpSpPr>
        <p:sp>
          <p:nvSpPr>
            <p:cNvPr id="190" name=""/>
            <p:cNvSpPr/>
            <p:nvPr/>
          </p:nvSpPr>
          <p:spPr>
            <a:xfrm>
              <a:off x="4343400" y="1752480"/>
              <a:ext cx="213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methodName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572000" y="2209680"/>
              <a:ext cx="38088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790960" y="1523880"/>
            <a:ext cx="3276720" cy="1371600"/>
            <a:chOff x="5790960" y="1523880"/>
            <a:chExt cx="3276720" cy="1371600"/>
          </a:xfrm>
        </p:grpSpPr>
        <p:sp>
          <p:nvSpPr>
            <p:cNvPr id="194" name=""/>
            <p:cNvSpPr/>
            <p:nvPr/>
          </p:nvSpPr>
          <p:spPr>
            <a:xfrm>
              <a:off x="6248520" y="1752480"/>
              <a:ext cx="2819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 parameter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3800" y="1523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790960" y="2209680"/>
              <a:ext cx="99036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248520" y="3505320"/>
            <a:ext cx="2666880" cy="914400"/>
            <a:chOff x="6248520" y="3505320"/>
            <a:chExt cx="2666880" cy="914400"/>
          </a:xfrm>
        </p:grpSpPr>
        <p:grpSp>
          <p:nvGrpSpPr>
            <p:cNvPr id="198" name=""/>
            <p:cNvGrpSpPr/>
            <p:nvPr/>
          </p:nvGrpSpPr>
          <p:grpSpPr>
            <a:xfrm>
              <a:off x="6248520" y="3505320"/>
              <a:ext cx="380880" cy="914400"/>
              <a:chOff x="6248520" y="3505320"/>
              <a:chExt cx="380880" cy="914400"/>
            </a:xfrm>
          </p:grpSpPr>
          <p:sp>
            <p:nvSpPr>
              <p:cNvPr id="199" name=""/>
              <p:cNvSpPr/>
              <p:nvPr/>
            </p:nvSpPr>
            <p:spPr>
              <a:xfrm>
                <a:off x="6629400" y="3505320"/>
                <a:ext cx="0" cy="9144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248520" y="35053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248520" y="441972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477120" y="3805200"/>
              <a:ext cx="2438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ethod body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590920" y="890640"/>
            <a:ext cx="6248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عريف الدال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ispla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2895480"/>
            <a:ext cx="3353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   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3673440"/>
            <a:ext cx="761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Welcome on 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4860360"/>
            <a:ext cx="79250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2800" indent="-4428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لحوظة هامة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يتم كتابة الد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 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باشرةً بعد الانتهاء من كتابة الدالة الرئيسي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بالبرنامج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22T10:32:59Z</dcterms:modified>
  <cp:revision>1949</cp:revision>
  <dc:subject>Programming Fundamentals</dc:subject>
  <dc:title>Chapter5: Methods</dc:title>
</cp:coreProperties>
</file>