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0EC3-F6DC-4520-8260-C3DFE37515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B649-DF51-4E50-AAD4-B3DF33AC63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20F3-D13E-49AC-A572-EB990413FA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1C18-3B63-4803-BD47-1976CF8471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DF6E-47C0-40E9-9020-5019748EB0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6431-9B86-401F-8FF7-1D756EB27C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21EA-CD1C-4A64-AD16-5C48DA345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0F56-4E50-4515-9BEF-DDBD5BF1CF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B6FE-D183-47B9-84CF-C3D3CA7B92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0CB8-F16F-4708-831B-82EC603CD8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8536-CF3A-4F23-A315-6A8EC9095E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312B-7448-49F6-8358-47C6F6ADD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907F-1830-471F-8840-3E0CEFECD22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trol struc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286000"/>
            <a:ext cx="51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hapter(4)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685800"/>
            <a:ext cx="8458200" cy="3048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طباعة الجزء الأعلى للشكل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1433520"/>
            <a:ext cx="31244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447920" y="1219320"/>
            <a:ext cx="533160" cy="1461600"/>
            <a:chOff x="1447920" y="1219320"/>
            <a:chExt cx="533160" cy="1461600"/>
          </a:xfrm>
        </p:grpSpPr>
        <p:sp>
          <p:nvSpPr>
            <p:cNvPr id="269" name=""/>
            <p:cNvSpPr/>
            <p:nvPr/>
          </p:nvSpPr>
          <p:spPr>
            <a:xfrm>
              <a:off x="1981080" y="1316880"/>
              <a:ext cx="0" cy="1364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7920" y="12193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80880" y="76212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14600" y="11430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   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15238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379404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352764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جزء الأعلى من الشكل ويتم طباعتة بإستخدام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حلقات تكرار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1219320"/>
            <a:ext cx="3124080" cy="1523880"/>
          </a:xfrm>
          <a:prstGeom prst="rect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392436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- الحلقة الأولى: 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خارج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لتكرار عدد الأسطر بالشكل المطلوب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38156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- الحلقة الثانية: لطباعة </a:t>
            </a:r>
            <a:r>
              <a:rPr b="1" lang="ar-SA" sz="2500" spc="-1" strike="noStrike" u="sng">
                <a:solidFill>
                  <a:srgbClr val="cc0000"/>
                </a:solidFill>
                <a:uFillTx/>
                <a:latin typeface="Arial"/>
              </a:rPr>
              <a:t>الفراغات بالسطور الأولى بالشكل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كما يلى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5140440"/>
            <a:ext cx="6248520" cy="823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دد الفراغات فى السطر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(عداد الحلقة الخارجية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0" y="1143000"/>
            <a:ext cx="2666880" cy="473400"/>
            <a:chOff x="4572000" y="1143000"/>
            <a:chExt cx="2666880" cy="473400"/>
          </a:xfrm>
        </p:grpSpPr>
        <p:sp>
          <p:nvSpPr>
            <p:cNvPr id="281" name=""/>
            <p:cNvSpPr/>
            <p:nvPr/>
          </p:nvSpPr>
          <p:spPr>
            <a:xfrm>
              <a:off x="4572000" y="137160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114300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410080" y="1463760"/>
            <a:ext cx="3429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i)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666880" y="2575080"/>
            <a:ext cx="2590920" cy="304560"/>
            <a:chOff x="2666880" y="2575080"/>
            <a:chExt cx="2590920" cy="304560"/>
          </a:xfrm>
        </p:grpSpPr>
        <p:sp>
          <p:nvSpPr>
            <p:cNvPr id="285" name=""/>
            <p:cNvSpPr/>
            <p:nvPr/>
          </p:nvSpPr>
          <p:spPr>
            <a:xfrm>
              <a:off x="2666880" y="287964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257800" y="2575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666880" y="2575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952880" y="289548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5569200"/>
            <a:ext cx="762012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- الحلقة الثالثة: لطباعة العلامة 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بكل سطر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بعدد المرات الفردي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2096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447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sted Loop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- part (2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429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Keyword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eak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inu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9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2670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85800"/>
            <a:ext cx="82296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6858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371600"/>
            <a:ext cx="3047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352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380988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r (int  k =1;  k&lt;=i;  k++) {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6156360"/>
            <a:ext cx="7010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2667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 num + “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18148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568296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 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19520" y="1371600"/>
            <a:ext cx="533160" cy="1294920"/>
            <a:chOff x="2819520" y="1371600"/>
            <a:chExt cx="533160" cy="1294920"/>
          </a:xfrm>
        </p:grpSpPr>
        <p:sp>
          <p:nvSpPr>
            <p:cNvPr id="120" name=""/>
            <p:cNvSpPr/>
            <p:nvPr/>
          </p:nvSpPr>
          <p:spPr>
            <a:xfrm>
              <a:off x="3352680" y="1494720"/>
              <a:ext cx="0" cy="1171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19520" y="137160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581280" y="1143000"/>
            <a:ext cx="2666880" cy="473400"/>
            <a:chOff x="3581280" y="1143000"/>
            <a:chExt cx="2666880" cy="473400"/>
          </a:xfrm>
        </p:grpSpPr>
        <p:sp>
          <p:nvSpPr>
            <p:cNvPr id="123" name=""/>
            <p:cNvSpPr/>
            <p:nvPr/>
          </p:nvSpPr>
          <p:spPr>
            <a:xfrm>
              <a:off x="3581280" y="137160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0960" y="114300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638680" y="161460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=1;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&lt;= i;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++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=1;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&lt;=3;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++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19320" y="4343400"/>
            <a:ext cx="685800" cy="304920"/>
            <a:chOff x="1219320" y="4343400"/>
            <a:chExt cx="685800" cy="304920"/>
          </a:xfrm>
        </p:grpSpPr>
        <p:sp>
          <p:nvSpPr>
            <p:cNvPr id="128" name=""/>
            <p:cNvSpPr/>
            <p:nvPr/>
          </p:nvSpPr>
          <p:spPr>
            <a:xfrm>
              <a:off x="1219320" y="43434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524240" y="44960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19320" y="4800600"/>
            <a:ext cx="685800" cy="304920"/>
            <a:chOff x="1219320" y="4800600"/>
            <a:chExt cx="685800" cy="304920"/>
          </a:xfrm>
        </p:grpSpPr>
        <p:sp>
          <p:nvSpPr>
            <p:cNvPr id="131" name=""/>
            <p:cNvSpPr/>
            <p:nvPr/>
          </p:nvSpPr>
          <p:spPr>
            <a:xfrm>
              <a:off x="1219320" y="48006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524240" y="49532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38080" y="2742840"/>
            <a:ext cx="76201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 = 0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قيمة الابتدائية للأرقام التى سيتم عرضها بالشكل المطلو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571280"/>
            <a:ext cx="60962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 = num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زيادة قيمة المتغير بمقدار أربعة كل مرة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5791320"/>
            <a:ext cx="685800" cy="304560"/>
            <a:chOff x="685800" y="5791320"/>
            <a:chExt cx="685800" cy="304560"/>
          </a:xfrm>
        </p:grpSpPr>
        <p:sp>
          <p:nvSpPr>
            <p:cNvPr id="136" name=""/>
            <p:cNvSpPr/>
            <p:nvPr/>
          </p:nvSpPr>
          <p:spPr>
            <a:xfrm>
              <a:off x="685800" y="5791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990720" y="5943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80880" y="685800"/>
            <a:ext cx="8305560" cy="5943240"/>
            <a:chOff x="380880" y="685800"/>
            <a:chExt cx="8305560" cy="5943240"/>
          </a:xfrm>
        </p:grpSpPr>
        <p:sp>
          <p:nvSpPr>
            <p:cNvPr id="139" name=""/>
            <p:cNvSpPr/>
            <p:nvPr/>
          </p:nvSpPr>
          <p:spPr>
            <a:xfrm>
              <a:off x="380880" y="107136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68580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120" y="10666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N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4479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40660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lt;=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42900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num + “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3117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3182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971800"/>
            <a:ext cx="7086600" cy="1828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61563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97180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7592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89096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3581280"/>
            <a:ext cx="685800" cy="304920"/>
            <a:chOff x="914400" y="3581280"/>
            <a:chExt cx="685800" cy="304920"/>
          </a:xfrm>
        </p:grpSpPr>
        <p:sp>
          <p:nvSpPr>
            <p:cNvPr id="154" name=""/>
            <p:cNvSpPr/>
            <p:nvPr/>
          </p:nvSpPr>
          <p:spPr>
            <a:xfrm>
              <a:off x="914400" y="35812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219320" y="37339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914400" y="4038480"/>
            <a:ext cx="685800" cy="304920"/>
            <a:chOff x="914400" y="4038480"/>
            <a:chExt cx="685800" cy="304920"/>
          </a:xfrm>
        </p:grpSpPr>
        <p:sp>
          <p:nvSpPr>
            <p:cNvPr id="157" name=""/>
            <p:cNvSpPr/>
            <p:nvPr/>
          </p:nvSpPr>
          <p:spPr>
            <a:xfrm>
              <a:off x="914400" y="40384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219320" y="41911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90720" y="1752480"/>
            <a:ext cx="76197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 = 0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قيمة الابتدائية للأرقام التى سيتم عرضها بالشكل المطلو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809520"/>
            <a:ext cx="60962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 = num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زيادة قيمة المتغير بمقدار أربعة كل مرة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62120" y="4952880"/>
            <a:ext cx="685800" cy="304920"/>
            <a:chOff x="762120" y="4952880"/>
            <a:chExt cx="685800" cy="304920"/>
          </a:xfrm>
        </p:grpSpPr>
        <p:sp>
          <p:nvSpPr>
            <p:cNvPr id="162" name=""/>
            <p:cNvSpPr/>
            <p:nvPr/>
          </p:nvSpPr>
          <p:spPr>
            <a:xfrm>
              <a:off x="762120" y="4952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067040" y="51055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85800"/>
            <a:ext cx="845820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لطباعة الشكل التالى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1128600"/>
            <a:ext cx="3124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8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7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71600" y="1219320"/>
            <a:ext cx="533160" cy="1461600"/>
            <a:chOff x="1371600" y="1219320"/>
            <a:chExt cx="533160" cy="1461600"/>
          </a:xfrm>
        </p:grpSpPr>
        <p:sp>
          <p:nvSpPr>
            <p:cNvPr id="169" name=""/>
            <p:cNvSpPr/>
            <p:nvPr/>
          </p:nvSpPr>
          <p:spPr>
            <a:xfrm>
              <a:off x="1904760" y="1316880"/>
              <a:ext cx="0" cy="1364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71600" y="12193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572000" y="1279440"/>
            <a:ext cx="2666880" cy="473400"/>
            <a:chOff x="4572000" y="1279440"/>
            <a:chExt cx="2666880" cy="473400"/>
          </a:xfrm>
        </p:grpSpPr>
        <p:sp>
          <p:nvSpPr>
            <p:cNvPr id="172" name=""/>
            <p:cNvSpPr/>
            <p:nvPr/>
          </p:nvSpPr>
          <p:spPr>
            <a:xfrm>
              <a:off x="4572000" y="150804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81680" y="127944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029200" y="1600200"/>
            <a:ext cx="3429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- i)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76212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333864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2613240"/>
            <a:ext cx="76197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طباعة الشكل اعلاه نحتاج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ثلاث حلقات تكرارية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حلقات)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1430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   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4479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07188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حلقة الأولى (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خارج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لتكرار عدد الأسطر بالشكل المطلوب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435924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4076640"/>
            <a:ext cx="7620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حلقة الثانية: لطباعة </a:t>
            </a:r>
            <a:r>
              <a:rPr b="1" lang="ar-SA" sz="2500" spc="-1" strike="noStrike" u="sng">
                <a:solidFill>
                  <a:srgbClr val="cc0000"/>
                </a:solidFill>
                <a:uFillTx/>
                <a:latin typeface="Arial"/>
              </a:rPr>
              <a:t>الفراغات بكل سط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التى يكون عددها بدلالة عداد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الحلقة الخارج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وذلك كالآتى: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373392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    ....   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5105520"/>
            <a:ext cx="6248520" cy="823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دد الفراغات فى السطر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300" spc="-1" strike="noStrike">
                <a:solidFill>
                  <a:srgbClr val="00007d"/>
                </a:solidFill>
                <a:latin typeface="Arial"/>
              </a:rPr>
              <a:t>(عداد الحلقة الخارجية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5715000"/>
            <a:ext cx="761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“ ”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685800"/>
            <a:ext cx="8458200" cy="2666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لطباعة الشكل التالى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1128600"/>
            <a:ext cx="3124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8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7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371600" y="1219320"/>
            <a:ext cx="533160" cy="1461600"/>
            <a:chOff x="1371600" y="1219320"/>
            <a:chExt cx="533160" cy="1461600"/>
          </a:xfrm>
        </p:grpSpPr>
        <p:sp>
          <p:nvSpPr>
            <p:cNvPr id="191" name=""/>
            <p:cNvSpPr/>
            <p:nvPr/>
          </p:nvSpPr>
          <p:spPr>
            <a:xfrm>
              <a:off x="1904760" y="1316880"/>
              <a:ext cx="0" cy="1364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71600" y="12193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572000" y="1279440"/>
            <a:ext cx="2666880" cy="473400"/>
            <a:chOff x="4572000" y="1279440"/>
            <a:chExt cx="2666880" cy="473400"/>
          </a:xfrm>
        </p:grpSpPr>
        <p:sp>
          <p:nvSpPr>
            <p:cNvPr id="194" name=""/>
            <p:cNvSpPr/>
            <p:nvPr/>
          </p:nvSpPr>
          <p:spPr>
            <a:xfrm>
              <a:off x="4572000" y="150804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81680" y="127944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029200" y="1600200"/>
            <a:ext cx="3429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(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- i)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76212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1430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   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4479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3162240"/>
            <a:ext cx="7848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حلقة الثالثة: لتكرار طباعة محتويات كل سطر(الحرف وترتيبة)، كما يل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3886200"/>
            <a:ext cx="65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بدأ الحروف بالحر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رتبة تنازلياً حتى الحر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434340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العدد الذى يلى كل حرف هو عبارة عن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رتي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ذلك الحرف بشفرة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ASC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480060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05920" y="3429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2514240"/>
            <a:ext cx="2590920" cy="305280"/>
            <a:chOff x="2209680" y="2514240"/>
            <a:chExt cx="2590920" cy="305280"/>
          </a:xfrm>
        </p:grpSpPr>
        <p:sp>
          <p:nvSpPr>
            <p:cNvPr id="206" name=""/>
            <p:cNvSpPr/>
            <p:nvPr/>
          </p:nvSpPr>
          <p:spPr>
            <a:xfrm>
              <a:off x="2209680" y="281952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800600" y="25142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209680" y="25142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209680" y="2819520"/>
            <a:ext cx="3276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525744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“ ” +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5638680"/>
            <a:ext cx="6096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تغيير قيمة الحرف للحرف السابق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6080040"/>
            <a:ext cx="7010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4800600"/>
            <a:ext cx="693396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1295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11430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25146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/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80880" y="685800"/>
            <a:ext cx="8305560" cy="5943240"/>
            <a:chOff x="380880" y="685800"/>
            <a:chExt cx="8305560" cy="5943240"/>
          </a:xfrm>
        </p:grpSpPr>
        <p:sp>
          <p:nvSpPr>
            <p:cNvPr id="218" name=""/>
            <p:cNvSpPr/>
            <p:nvPr/>
          </p:nvSpPr>
          <p:spPr>
            <a:xfrm>
              <a:off x="380880" y="107136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0880" y="68580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762120" y="10666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4479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228600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lt;=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327672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37339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8954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&l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2362320"/>
            <a:ext cx="685800" cy="304560"/>
            <a:chOff x="304920" y="2362320"/>
            <a:chExt cx="685800" cy="304560"/>
          </a:xfrm>
        </p:grpSpPr>
        <p:sp>
          <p:nvSpPr>
            <p:cNvPr id="229" name=""/>
            <p:cNvSpPr/>
            <p:nvPr/>
          </p:nvSpPr>
          <p:spPr>
            <a:xfrm>
              <a:off x="304920" y="2362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09840" y="2514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85800" y="2971800"/>
            <a:ext cx="685800" cy="304920"/>
            <a:chOff x="685800" y="2971800"/>
            <a:chExt cx="685800" cy="304920"/>
          </a:xfrm>
        </p:grpSpPr>
        <p:sp>
          <p:nvSpPr>
            <p:cNvPr id="232" name=""/>
            <p:cNvSpPr/>
            <p:nvPr/>
          </p:nvSpPr>
          <p:spPr>
            <a:xfrm>
              <a:off x="685800" y="29718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990720" y="31244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990720" y="1676160"/>
            <a:ext cx="76197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ch = ‘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’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القيمة الابتدائية للحروف التى سيتم عرضها بالشكل المطلو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4648320"/>
            <a:ext cx="685800" cy="304560"/>
            <a:chOff x="762120" y="4648320"/>
            <a:chExt cx="685800" cy="304560"/>
          </a:xfrm>
        </p:grpSpPr>
        <p:sp>
          <p:nvSpPr>
            <p:cNvPr id="236" name=""/>
            <p:cNvSpPr/>
            <p:nvPr/>
          </p:nvSpPr>
          <p:spPr>
            <a:xfrm>
              <a:off x="762120" y="4648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067040" y="4800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752480" y="4952880"/>
            <a:ext cx="6400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ch + “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+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ch + “ 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583560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4495680"/>
            <a:ext cx="7086600" cy="1828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4956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j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24480"/>
            <a:ext cx="609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تغيير قيمة الحرف للحرف السابق 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380880" y="685800"/>
            <a:ext cx="8305560" cy="5943240"/>
            <a:chOff x="380880" y="685800"/>
            <a:chExt cx="8305560" cy="5943240"/>
          </a:xfrm>
        </p:grpSpPr>
        <p:sp>
          <p:nvSpPr>
            <p:cNvPr id="244" name=""/>
            <p:cNvSpPr/>
            <p:nvPr/>
          </p:nvSpPr>
          <p:spPr>
            <a:xfrm>
              <a:off x="380880" y="1071360"/>
              <a:ext cx="830556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685800"/>
              <a:ext cx="830556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066680" y="204156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3368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7115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137160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685800"/>
            <a:ext cx="845820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لطباعة الشكل التالى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1281240"/>
            <a:ext cx="31244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*  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463248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3946680"/>
            <a:ext cx="76201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لطباعة الشكل المطلوب يتم تقسيمه لجزأين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36572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جزء الأعلى من الشكل ويتم طباعتة بإستخدام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حلقات تكرار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1066680"/>
            <a:ext cx="3276360" cy="1524240"/>
          </a:xfrm>
          <a:prstGeom prst="rect">
            <a:avLst/>
          </a:prstGeom>
          <a:noFill/>
          <a:ln w="25560">
            <a:solidFill>
              <a:srgbClr val="0000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1066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531828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5051520"/>
            <a:ext cx="76201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جزء الأسفل من الشكل ويتم طباعتة بإستخدام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حلقات تكرار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2666880"/>
            <a:ext cx="3276360" cy="1067040"/>
          </a:xfrm>
          <a:prstGeom prst="rect">
            <a:avLst/>
          </a:prstGeom>
          <a:noFill/>
          <a:ln w="255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91320" y="27432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6-19T11:54:30Z</dcterms:modified>
  <cp:revision>2594</cp:revision>
  <dc:subject>Programming Fundamentals</dc:subject>
  <dc:title>Control Strusture-Loops</dc:title>
</cp:coreProperties>
</file>