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43826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438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438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6761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6761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438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438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438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802663-24A0-414E-B233-27B41D5B75D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536643-A822-4BC5-AAFC-C3742BD2ED6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F65A91-772C-4DDB-9E48-F616D4D7920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81F327-22F6-4B02-8A5B-6AC8B4A2D44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B5D28B-170E-498D-B49E-E9AFF2481D6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B6AABA-952A-4982-96C2-1DFB9C19026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38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39A951-7799-4DEE-9684-3D9831E28D3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438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B6E1CC-DEE0-4E1E-BDF6-53825779098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3826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57BD70-735C-497F-BC45-14BF1E7A978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43826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0D5308-4443-473B-8715-1569F1A3D57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38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438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5F6911-F42D-40EA-AB0D-E8827962984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6761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6761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438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438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438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A80890-4B71-4C4B-B1D5-3A6160E72A0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8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438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3826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457200" y="16761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56760" indent="-356760">
              <a:spcBef>
                <a:spcPts val="2801"/>
              </a:spcBef>
              <a:spcAft>
                <a:spcPts val="700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21520" indent="-361440">
              <a:spcBef>
                <a:spcPts val="2801"/>
              </a:spcBef>
              <a:spcAft>
                <a:spcPts val="700"/>
              </a:spcAft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05560">
              <a:spcBef>
                <a:spcPts val="2801"/>
              </a:spcBef>
              <a:spcAft>
                <a:spcPts val="700"/>
              </a:spcAft>
              <a:buClr>
                <a:srgbClr val="00007d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440000" indent="-205560">
              <a:spcBef>
                <a:spcPts val="2801"/>
              </a:spcBef>
              <a:spcAft>
                <a:spcPts val="700"/>
              </a:spcAft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851480" indent="-208440">
              <a:spcBef>
                <a:spcPts val="2801"/>
              </a:spcBef>
              <a:spcAft>
                <a:spcPts val="700"/>
              </a:spcAft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851480" indent="-208440">
              <a:spcBef>
                <a:spcPts val="2801"/>
              </a:spcBef>
              <a:spcAft>
                <a:spcPts val="7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851480" indent="-208440">
              <a:spcBef>
                <a:spcPts val="2801"/>
              </a:spcBef>
              <a:spcAft>
                <a:spcPts val="7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"/>
          <p:cNvSpPr txBox="1"/>
          <p:nvPr/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35053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e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716120" y="1690560"/>
            <a:ext cx="7427880" cy="25336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0" y="1066680"/>
            <a:ext cx="2867040" cy="3157560"/>
            <a:chOff x="0" y="1066680"/>
            <a:chExt cx="2867040" cy="3157560"/>
          </a:xfrm>
        </p:grpSpPr>
        <p:sp>
          <p:nvSpPr>
            <p:cNvPr id="52" name=""/>
            <p:cNvSpPr/>
            <p:nvPr/>
          </p:nvSpPr>
          <p:spPr>
            <a:xfrm>
              <a:off x="573120" y="3583080"/>
              <a:ext cx="576360" cy="64116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574560" cy="64296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281320" y="1066680"/>
              <a:ext cx="585720" cy="6350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141560" y="3583080"/>
              <a:ext cx="583920" cy="64116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281320" y="1690560"/>
              <a:ext cx="585720" cy="64296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141560" y="2324160"/>
              <a:ext cx="583920" cy="633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2324160"/>
              <a:ext cx="582480" cy="633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16120" y="2324160"/>
              <a:ext cx="574560" cy="633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73120" y="2948040"/>
              <a:ext cx="576360" cy="64440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141560" y="2948040"/>
              <a:ext cx="583920" cy="6444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E8855-DA37-4A35-A4E6-B27DBF59F210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114480" algn="ctr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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5560" algn="ctr">
              <a:spcBef>
                <a:spcPts val="45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556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556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2743200" y="914400"/>
            <a:ext cx="6095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Arial"/>
              </a:rPr>
              <a:t>أساسيات البرمجة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828440" y="304812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Selection Statements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362320" y="2133720"/>
            <a:ext cx="51051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hapter(3)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304920" y="304920"/>
            <a:ext cx="8762760" cy="5331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4.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witch stat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85800" y="83808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(القواعد الأساسية لإستخدام تعليمة الاختيار 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switch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04920" y="1371600"/>
            <a:ext cx="30456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09480" y="1295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The case statements are 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checked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in sequential order, it is good programming style to follow the logical sequence of the cases and 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place the default case at the end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380880" y="2438280"/>
            <a:ext cx="838224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000000"/>
                </a:solidFill>
                <a:latin typeface="Arial"/>
              </a:rPr>
              <a:t>يتم تنفيذ عبارات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case</a:t>
            </a:r>
            <a:r>
              <a:rPr b="1" lang="ar-SA" sz="2300" spc="-1" strike="noStrike">
                <a:solidFill>
                  <a:srgbClr val="000000"/>
                </a:solidFill>
                <a:latin typeface="Arial"/>
              </a:rPr>
              <a:t> وفقاً </a:t>
            </a:r>
            <a:r>
              <a:rPr b="1" lang="ar-SA" sz="2300" spc="-1" strike="noStrike">
                <a:solidFill>
                  <a:srgbClr val="00007d"/>
                </a:solidFill>
                <a:latin typeface="Arial"/>
              </a:rPr>
              <a:t>لتسلسل كتابتها بالبرنامج</a:t>
            </a:r>
            <a:r>
              <a:rPr b="1" lang="ar-SA" sz="2300" spc="-1" strike="noStrike">
                <a:solidFill>
                  <a:srgbClr val="000000"/>
                </a:solidFill>
                <a:latin typeface="Arial"/>
              </a:rPr>
              <a:t>. من الطرق المفضلة لكتابة تعليمة الاختيار 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switch</a:t>
            </a:r>
            <a:r>
              <a:rPr b="1" lang="ar-SA" sz="2300" spc="-1" strike="noStrike">
                <a:solidFill>
                  <a:srgbClr val="000000"/>
                </a:solidFill>
                <a:latin typeface="Arial"/>
              </a:rPr>
              <a:t> هو أن </a:t>
            </a:r>
            <a:r>
              <a:rPr b="1" lang="ar-SA" sz="2300" spc="-1" strike="noStrike" u="sng">
                <a:solidFill>
                  <a:srgbClr val="0000ff"/>
                </a:solidFill>
                <a:uFillTx/>
                <a:latin typeface="Arial"/>
              </a:rPr>
              <a:t>يتم البدء بكتابة جميع الخيارات المتوقع تنفيذها بكل</a:t>
            </a:r>
            <a:r>
              <a:rPr b="1" lang="ar-SA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300" spc="-1" strike="noStrike">
                <a:solidFill>
                  <a:srgbClr val="0000ff"/>
                </a:solidFill>
                <a:latin typeface="Arial"/>
              </a:rPr>
              <a:t>عبارة 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case</a:t>
            </a:r>
            <a:r>
              <a:rPr b="1" lang="ar-SA" sz="2300" spc="-1" strike="noStrike">
                <a:solidFill>
                  <a:srgbClr val="000000"/>
                </a:solidFill>
                <a:latin typeface="Arial"/>
              </a:rPr>
              <a:t> ثم بعد ذلك </a:t>
            </a:r>
            <a:r>
              <a:rPr b="1" lang="ar-SA" sz="2300" spc="-1" strike="noStrike" u="sng">
                <a:solidFill>
                  <a:srgbClr val="ff0000"/>
                </a:solidFill>
                <a:uFillTx/>
                <a:latin typeface="Arial"/>
              </a:rPr>
              <a:t>يتم انهاءعبارة الـ </a:t>
            </a:r>
            <a:r>
              <a:rPr b="1" lang="en-US" sz="2300" spc="-1" strike="noStrike" u="sng">
                <a:solidFill>
                  <a:srgbClr val="ff0000"/>
                </a:solidFill>
                <a:uFillTx/>
                <a:latin typeface="Arial"/>
              </a:rPr>
              <a:t>switch</a:t>
            </a:r>
            <a:r>
              <a:rPr b="1" lang="ar-SA" sz="2300" spc="-1" strike="noStrike" u="sng">
                <a:solidFill>
                  <a:srgbClr val="ff0000"/>
                </a:solidFill>
                <a:uFillTx/>
                <a:latin typeface="Arial"/>
              </a:rPr>
              <a:t> بكتابة الـ </a:t>
            </a:r>
            <a:r>
              <a:rPr b="1" lang="en-US" sz="2300" spc="-1" strike="noStrike" u="sng">
                <a:solidFill>
                  <a:srgbClr val="ff0000"/>
                </a:solidFill>
                <a:uFillTx/>
                <a:latin typeface="Arial"/>
              </a:rPr>
              <a:t>default case</a:t>
            </a:r>
            <a:r>
              <a:rPr b="0" lang="ar-SA" sz="23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133720" y="3893760"/>
            <a:ext cx="1752480" cy="427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( </a:t>
            </a:r>
            <a:r>
              <a:rPr b="1" lang="en-US" sz="2200" spc="-1" strike="noStrike">
                <a:solidFill>
                  <a:srgbClr val="00007d"/>
                </a:solidFill>
                <a:latin typeface="Arial"/>
              </a:rPr>
              <a:t>num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 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200400" y="3885840"/>
            <a:ext cx="3733920" cy="427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{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143000" y="3901680"/>
            <a:ext cx="1066680" cy="427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143000" y="6095880"/>
            <a:ext cx="5715000" cy="427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371600" y="4343040"/>
            <a:ext cx="9907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c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4343040"/>
            <a:ext cx="9907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743200" y="4359240"/>
            <a:ext cx="44956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ystem.out.print(</a:t>
            </a:r>
            <a:r>
              <a:rPr b="1" i="1" lang="en-US" sz="2000" spc="-1" strike="noStrike">
                <a:solidFill>
                  <a:srgbClr val="00007d"/>
                </a:solidFill>
                <a:latin typeface="Arial"/>
              </a:rPr>
              <a:t>num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743200" y="4647960"/>
            <a:ext cx="1295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break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1371600" y="5028840"/>
            <a:ext cx="9907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c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057400" y="5028840"/>
            <a:ext cx="9907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2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743200" y="5045040"/>
            <a:ext cx="44956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ystem.out.print(</a:t>
            </a:r>
            <a:r>
              <a:rPr b="1" i="1" lang="en-US" sz="2000" spc="-1" strike="noStrike">
                <a:solidFill>
                  <a:srgbClr val="00007d"/>
                </a:solidFill>
                <a:latin typeface="Arial"/>
              </a:rPr>
              <a:t>num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743200" y="5317920"/>
            <a:ext cx="1295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break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5638680"/>
            <a:ext cx="1143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defaul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2666880" y="5654520"/>
            <a:ext cx="55627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ystem.out.print(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error number, try again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6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9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2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5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0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3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6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9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4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7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0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609480" y="1066680"/>
            <a:ext cx="8077320" cy="5029200"/>
          </a:xfrm>
          <a:prstGeom prst="rect">
            <a:avLst/>
          </a:prstGeom>
          <a:noFill/>
          <a:ln w="2232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762120" y="1163520"/>
            <a:ext cx="7772400" cy="12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مثال(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): بإستخدام تعليمة الاختيار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switch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 اكتب برنامج يطلب من المستخدم ادخال عدد صحيح من النوع (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) يمثل </a:t>
            </a:r>
            <a:r>
              <a:rPr b="1" lang="ar-SA" sz="2500" spc="-1" strike="noStrike" u="sng">
                <a:solidFill>
                  <a:srgbClr val="00007d"/>
                </a:solidFill>
                <a:uFillTx/>
                <a:latin typeface="Arial"/>
              </a:rPr>
              <a:t>رقم القسم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500" spc="-1" strike="noStrike">
                <a:solidFill>
                  <a:srgbClr val="00007d"/>
                </a:solidFill>
                <a:latin typeface="Arial"/>
              </a:rPr>
              <a:t>بكلية علوم الحاسوب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، يقوم البرنامج بطباعة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اسم القسم وفقاً للخيارت التالية:</a:t>
            </a: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1447920" y="2370960"/>
            <a:ext cx="7010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r" rtl="1"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فى حالة أن </a:t>
            </a:r>
            <a:r>
              <a:rPr b="1" lang="ar-SA" sz="2400" spc="-1" strike="noStrike">
                <a:solidFill>
                  <a:srgbClr val="00007d"/>
                </a:solidFill>
                <a:latin typeface="Arial"/>
              </a:rPr>
              <a:t>رقم القسم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يتم طباع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Computer Science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04920" y="304920"/>
            <a:ext cx="8762760" cy="5331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609480" y="3017160"/>
            <a:ext cx="7848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r" rtl="1"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فى حالة أن </a:t>
            </a:r>
            <a:r>
              <a:rPr b="1" lang="ar-SA" sz="2400" spc="-1" strike="noStrike">
                <a:solidFill>
                  <a:srgbClr val="00007d"/>
                </a:solidFill>
                <a:latin typeface="Arial"/>
              </a:rPr>
              <a:t>رقم القسم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يتم طباع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Information Technology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447920" y="3702960"/>
            <a:ext cx="7010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r" rtl="1"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فى حالة أن </a:t>
            </a:r>
            <a:r>
              <a:rPr b="1" lang="ar-SA" sz="2400" spc="-1" strike="noStrike">
                <a:solidFill>
                  <a:srgbClr val="00007d"/>
                </a:solidFill>
                <a:latin typeface="Arial"/>
              </a:rPr>
              <a:t>رقم القسم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يتم طباع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Networks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" y="4312440"/>
            <a:ext cx="7772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r" rtl="1"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فى حالة أن </a:t>
            </a:r>
            <a:r>
              <a:rPr b="1" lang="ar-SA" sz="2400" spc="-1" strike="noStrike">
                <a:solidFill>
                  <a:srgbClr val="00007d"/>
                </a:solidFill>
                <a:latin typeface="Arial"/>
              </a:rPr>
              <a:t>رقم القسم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يتم طباع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Software Engineering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09480" y="4937760"/>
            <a:ext cx="77724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r" rtl="1"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فى حالة ادخال أى رقم غير الأرقام الموضحة اعلاه يتم طباع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   ”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error number, try again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4" name=""/>
          <p:cNvGrpSpPr/>
          <p:nvPr/>
        </p:nvGrpSpPr>
        <p:grpSpPr>
          <a:xfrm>
            <a:off x="609480" y="762120"/>
            <a:ext cx="8305560" cy="5943240"/>
            <a:chOff x="609480" y="762120"/>
            <a:chExt cx="8305560" cy="5943240"/>
          </a:xfrm>
        </p:grpSpPr>
        <p:sp>
          <p:nvSpPr>
            <p:cNvPr id="305" name=""/>
            <p:cNvSpPr/>
            <p:nvPr/>
          </p:nvSpPr>
          <p:spPr>
            <a:xfrm>
              <a:off x="609480" y="1147680"/>
              <a:ext cx="8305560" cy="5557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09480" y="762120"/>
              <a:ext cx="8305560" cy="385560"/>
            </a:xfrm>
            <a:prstGeom prst="rect">
              <a:avLst/>
            </a:prstGeom>
            <a:solidFill>
              <a:srgbClr val="8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GetDept.jav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7" name=""/>
          <p:cNvSpPr/>
          <p:nvPr/>
        </p:nvSpPr>
        <p:spPr>
          <a:xfrm>
            <a:off x="838080" y="1523880"/>
            <a:ext cx="6629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ublic class GetDept {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914400" y="1981080"/>
            <a:ext cx="7162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public static void mai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String[ ] args) 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{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990720" y="3352680"/>
            <a:ext cx="6933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num = scanner.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nextInt(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609480" y="975240"/>
            <a:ext cx="7620120" cy="7628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import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java.util.</a:t>
            </a:r>
            <a:r>
              <a:rPr b="1" lang="en-US" sz="2200" spc="-1" strike="noStrike">
                <a:solidFill>
                  <a:srgbClr val="00007d"/>
                </a:solidFill>
                <a:latin typeface="Arial"/>
              </a:rPr>
              <a:t>Scanner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1" lang="en-US" sz="2200" spc="-1" strike="noStrike">
                <a:solidFill>
                  <a:srgbClr val="4d4d4d"/>
                </a:solidFill>
                <a:latin typeface="Arial"/>
              </a:rPr>
              <a:t>//Scanner </a:t>
            </a:r>
            <a:r>
              <a:rPr b="1" lang="ar-SA" sz="2200" spc="-1" strike="noStrike">
                <a:solidFill>
                  <a:srgbClr val="4d4d4d"/>
                </a:solidFill>
                <a:latin typeface="Arial"/>
              </a:rPr>
              <a:t>تحديد مكان وجود الـ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990720" y="2437920"/>
            <a:ext cx="7010280" cy="45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Scann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canner =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new 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Scann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ystem.i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990720" y="2895480"/>
            <a:ext cx="7315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ntln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ar-SA" sz="2400" spc="-1" strike="noStrike">
                <a:solidFill>
                  <a:srgbClr val="00007d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Enter number</a:t>
            </a:r>
            <a:r>
              <a:rPr b="1" lang="ar-SA" sz="2400" spc="-1" strike="noStrike">
                <a:solidFill>
                  <a:srgbClr val="00007d"/>
                </a:solidFill>
                <a:latin typeface="Arial"/>
              </a:rPr>
              <a:t>:“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990720" y="3900600"/>
            <a:ext cx="693396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witch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num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)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{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i="1" lang="en-US" sz="2000" spc="-1" strike="noStrike">
                <a:solidFill>
                  <a:srgbClr val="777777"/>
                </a:solidFill>
                <a:latin typeface="Arial"/>
              </a:rPr>
              <a:t>//start switch blo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990720" y="3809880"/>
            <a:ext cx="7696080" cy="274320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295280" y="4433760"/>
            <a:ext cx="6934320" cy="80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case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:  System.out.print(“</a:t>
            </a:r>
            <a:r>
              <a:rPr b="1" i="1" lang="en-US" sz="2300" spc="-1" strike="noStrike">
                <a:solidFill>
                  <a:srgbClr val="00007d"/>
                </a:solidFill>
                <a:latin typeface="Arial"/>
              </a:rPr>
              <a:t>Computer Science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”);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04920" y="152280"/>
            <a:ext cx="8762760" cy="5335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4.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witch statements     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مثال(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514600" y="4952880"/>
            <a:ext cx="12952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brea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295280" y="5500800"/>
            <a:ext cx="7315200" cy="80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case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:  System.out.print(“</a:t>
            </a:r>
            <a:r>
              <a:rPr b="1" i="1" lang="en-US" sz="2100" spc="-1" strike="noStrike">
                <a:solidFill>
                  <a:srgbClr val="00007d"/>
                </a:solidFill>
                <a:latin typeface="Arial"/>
              </a:rPr>
              <a:t>Information Technology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”);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2514600" y="6019920"/>
            <a:ext cx="12952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brea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8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8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3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3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3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8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1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6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9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0" name=""/>
          <p:cNvGrpSpPr/>
          <p:nvPr/>
        </p:nvGrpSpPr>
        <p:grpSpPr>
          <a:xfrm>
            <a:off x="609480" y="762120"/>
            <a:ext cx="8305560" cy="5943240"/>
            <a:chOff x="609480" y="762120"/>
            <a:chExt cx="8305560" cy="5943240"/>
          </a:xfrm>
        </p:grpSpPr>
        <p:sp>
          <p:nvSpPr>
            <p:cNvPr id="321" name=""/>
            <p:cNvSpPr/>
            <p:nvPr/>
          </p:nvSpPr>
          <p:spPr>
            <a:xfrm>
              <a:off x="609480" y="1147680"/>
              <a:ext cx="8305560" cy="5557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609480" y="762120"/>
              <a:ext cx="8305560" cy="385560"/>
            </a:xfrm>
            <a:prstGeom prst="rect">
              <a:avLst/>
            </a:prstGeom>
            <a:solidFill>
              <a:srgbClr val="8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GetDept.jav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3" name=""/>
          <p:cNvSpPr/>
          <p:nvPr/>
        </p:nvSpPr>
        <p:spPr>
          <a:xfrm>
            <a:off x="914400" y="1371600"/>
            <a:ext cx="7696080" cy="411480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1219320" y="1600200"/>
            <a:ext cx="6933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case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:  System.out.print(“</a:t>
            </a:r>
            <a:r>
              <a:rPr b="1" i="1" lang="en-US" sz="2300" spc="-1" strike="noStrike">
                <a:solidFill>
                  <a:srgbClr val="00007d"/>
                </a:solidFill>
                <a:latin typeface="Arial"/>
              </a:rPr>
              <a:t>Networks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”);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304920" y="152280"/>
            <a:ext cx="8762760" cy="5335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4.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witch statements     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مثال(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2438280" y="2119320"/>
            <a:ext cx="1295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brea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1219320" y="2819520"/>
            <a:ext cx="7315200" cy="80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case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:  System.out.print(“</a:t>
            </a:r>
            <a:r>
              <a:rPr b="1" i="1" lang="en-US" sz="2300" spc="-1" strike="noStrike">
                <a:solidFill>
                  <a:srgbClr val="00007d"/>
                </a:solidFill>
                <a:latin typeface="Arial"/>
              </a:rPr>
              <a:t>Software Engineering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”);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2438280" y="3338640"/>
            <a:ext cx="1295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brea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1219320" y="4038480"/>
            <a:ext cx="7391160" cy="80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default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:  System.out.print(“</a:t>
            </a:r>
            <a:r>
              <a:rPr b="1" i="1" lang="en-US" sz="2100" spc="-1" strike="noStrike">
                <a:solidFill>
                  <a:srgbClr val="ff0000"/>
                </a:solidFill>
                <a:latin typeface="Arial"/>
              </a:rPr>
              <a:t>error number, try again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”);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990720" y="4708440"/>
            <a:ext cx="693396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}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i="1" lang="en-US" sz="2000" spc="-1" strike="noStrike">
                <a:solidFill>
                  <a:srgbClr val="777777"/>
                </a:solidFill>
                <a:latin typeface="Arial"/>
              </a:rPr>
              <a:t>//end of switch blo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838080" y="5638680"/>
            <a:ext cx="716292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}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 end of main</a:t>
            </a:r>
            <a:r>
              <a:rPr b="1" i="1" lang="en-US" sz="2300" spc="-1" strike="noStrike">
                <a:solidFill>
                  <a:srgbClr val="4d4d4d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685800" y="6110280"/>
            <a:ext cx="716292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end of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0" dur="indefinite" restart="never" nodeType="tmRoot">
          <p:childTnLst>
            <p:seq>
              <p:cTn id="551" dur="indefinite" nodeType="mainSeq">
                <p:childTnLst>
                  <p:par>
                    <p:cTn id="552" fill="hold">
                      <p:stCondLst>
                        <p:cond delay="0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6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9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2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7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0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5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0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5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8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/>
          <p:nvPr/>
        </p:nvSpPr>
        <p:spPr>
          <a:xfrm>
            <a:off x="609480" y="762120"/>
            <a:ext cx="8077320" cy="3886200"/>
          </a:xfrm>
          <a:prstGeom prst="rect">
            <a:avLst/>
          </a:prstGeom>
          <a:noFill/>
          <a:ln w="2232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4952880" y="838080"/>
            <a:ext cx="35816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7d"/>
                </a:solidFill>
                <a:latin typeface="Arial"/>
              </a:rPr>
              <a:t>ماهو ناتج تنفيذ البرنامج الآتى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838080" y="1143000"/>
            <a:ext cx="754380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char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 ch =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'a'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914400" y="1738440"/>
            <a:ext cx="73152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witch (ch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se 'a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7" name=""/>
          <p:cNvGrpSpPr/>
          <p:nvPr/>
        </p:nvGrpSpPr>
        <p:grpSpPr>
          <a:xfrm>
            <a:off x="609480" y="762120"/>
            <a:ext cx="8305560" cy="5638320"/>
            <a:chOff x="609480" y="762120"/>
            <a:chExt cx="8305560" cy="5638320"/>
          </a:xfrm>
        </p:grpSpPr>
        <p:sp>
          <p:nvSpPr>
            <p:cNvPr id="338" name=""/>
            <p:cNvSpPr/>
            <p:nvPr/>
          </p:nvSpPr>
          <p:spPr>
            <a:xfrm>
              <a:off x="609480" y="1127880"/>
              <a:ext cx="8305560" cy="5272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09480" y="762120"/>
              <a:ext cx="8305560" cy="365760"/>
            </a:xfrm>
            <a:prstGeom prst="rect">
              <a:avLst/>
            </a:prstGeom>
            <a:solidFill>
              <a:srgbClr val="8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Guess.jav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838080" y="1523880"/>
            <a:ext cx="6629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ublic class Guess {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914400" y="1981080"/>
            <a:ext cx="7162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public static void mai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String[ ] args) 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{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990720" y="3505320"/>
            <a:ext cx="6933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byt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month = scanner.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nextByte(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609480" y="975240"/>
            <a:ext cx="7620120" cy="7628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import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java.util.</a:t>
            </a:r>
            <a:r>
              <a:rPr b="1" lang="en-US" sz="2200" spc="-1" strike="noStrike">
                <a:solidFill>
                  <a:srgbClr val="00007d"/>
                </a:solidFill>
                <a:latin typeface="Arial"/>
              </a:rPr>
              <a:t>Scanner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1" lang="en-US" sz="2200" spc="-1" strike="noStrike">
                <a:solidFill>
                  <a:srgbClr val="4d4d4d"/>
                </a:solidFill>
                <a:latin typeface="Arial"/>
              </a:rPr>
              <a:t>//Scanner </a:t>
            </a:r>
            <a:r>
              <a:rPr b="1" lang="ar-SA" sz="2200" spc="-1" strike="noStrike">
                <a:solidFill>
                  <a:srgbClr val="4d4d4d"/>
                </a:solidFill>
                <a:latin typeface="Arial"/>
              </a:rPr>
              <a:t>تحديد مكان وجود الـ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990720" y="2437920"/>
            <a:ext cx="7010280" cy="45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Scann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canner =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new 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Scann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ystem.i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990720" y="2971800"/>
            <a:ext cx="7315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ntln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ar-SA" sz="2400" spc="-1" strike="noStrike">
                <a:solidFill>
                  <a:srgbClr val="00007d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Enter number</a:t>
            </a:r>
            <a:r>
              <a:rPr b="1" lang="ar-SA" sz="2400" spc="-1" strike="noStrike">
                <a:solidFill>
                  <a:srgbClr val="00007d"/>
                </a:solidFill>
                <a:latin typeface="Arial"/>
              </a:rPr>
              <a:t>:“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990720" y="4191120"/>
            <a:ext cx="693396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witch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month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)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{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i="1" lang="en-US" sz="2000" spc="-1" strike="noStrike">
                <a:solidFill>
                  <a:srgbClr val="777777"/>
                </a:solidFill>
                <a:latin typeface="Arial"/>
              </a:rPr>
              <a:t>//start switch blo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4114800"/>
            <a:ext cx="7696080" cy="213372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1066680" y="4724280"/>
            <a:ext cx="7620120" cy="7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7d"/>
                </a:solidFill>
                <a:latin typeface="Arial"/>
              </a:rPr>
              <a:t>case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: case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2200" spc="-1" strike="noStrike">
                <a:solidFill>
                  <a:srgbClr val="00007d"/>
                </a:solidFill>
                <a:latin typeface="Arial"/>
              </a:rPr>
              <a:t>case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5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: case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7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2200" spc="-1" strike="noStrike">
                <a:solidFill>
                  <a:srgbClr val="00007d"/>
                </a:solidFill>
                <a:latin typeface="Arial"/>
              </a:rPr>
              <a:t>case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8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: case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10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2200" spc="-1" strike="noStrike">
                <a:solidFill>
                  <a:srgbClr val="00007d"/>
                </a:solidFill>
                <a:latin typeface="Arial"/>
              </a:rPr>
              <a:t>case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12: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04920" y="152280"/>
            <a:ext cx="8762760" cy="5335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4.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witch statements     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مثال(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2133720" y="5776920"/>
            <a:ext cx="12952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brea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2057400" y="5243400"/>
            <a:ext cx="6172200" cy="7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ystem.out.print( month + “</a:t>
            </a:r>
            <a:r>
              <a:rPr b="1" i="1" lang="en-US" sz="2300" spc="-1" strike="noStrike">
                <a:solidFill>
                  <a:srgbClr val="00007d"/>
                </a:solidFill>
                <a:latin typeface="Arial"/>
              </a:rPr>
              <a:t>has 31 Days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”);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0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0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5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0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5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0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5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0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3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2" name=""/>
          <p:cNvGrpSpPr/>
          <p:nvPr/>
        </p:nvGrpSpPr>
        <p:grpSpPr>
          <a:xfrm>
            <a:off x="609480" y="762120"/>
            <a:ext cx="8305560" cy="5943240"/>
            <a:chOff x="609480" y="762120"/>
            <a:chExt cx="8305560" cy="5943240"/>
          </a:xfrm>
        </p:grpSpPr>
        <p:sp>
          <p:nvSpPr>
            <p:cNvPr id="353" name=""/>
            <p:cNvSpPr/>
            <p:nvPr/>
          </p:nvSpPr>
          <p:spPr>
            <a:xfrm>
              <a:off x="609480" y="1147680"/>
              <a:ext cx="8305560" cy="5557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09480" y="762120"/>
              <a:ext cx="8305560" cy="385560"/>
            </a:xfrm>
            <a:prstGeom prst="rect">
              <a:avLst/>
            </a:prstGeom>
            <a:solidFill>
              <a:srgbClr val="8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Guess.jav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5" name=""/>
          <p:cNvSpPr/>
          <p:nvPr/>
        </p:nvSpPr>
        <p:spPr>
          <a:xfrm>
            <a:off x="914400" y="1371600"/>
            <a:ext cx="7696080" cy="411480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04920" y="152280"/>
            <a:ext cx="8762760" cy="5335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4.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witch statements     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مثال(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1219320" y="4343400"/>
            <a:ext cx="7391160" cy="80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default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:  System.out.print(“</a:t>
            </a:r>
            <a:r>
              <a:rPr b="1" i="1" lang="en-US" sz="2100" spc="-1" strike="noStrike">
                <a:solidFill>
                  <a:srgbClr val="ff0000"/>
                </a:solidFill>
                <a:latin typeface="Arial"/>
              </a:rPr>
              <a:t>error number, try again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”);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990720" y="4861080"/>
            <a:ext cx="693396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}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i="1" lang="en-US" sz="2000" spc="-1" strike="noStrike">
                <a:solidFill>
                  <a:srgbClr val="777777"/>
                </a:solidFill>
                <a:latin typeface="Arial"/>
              </a:rPr>
              <a:t>//end of switch blo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838080" y="5638680"/>
            <a:ext cx="716292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}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 end of main</a:t>
            </a:r>
            <a:r>
              <a:rPr b="1" i="1" lang="en-US" sz="2300" spc="-1" strike="noStrike">
                <a:solidFill>
                  <a:srgbClr val="4d4d4d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685800" y="6110280"/>
            <a:ext cx="716292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end of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1143000" y="2819520"/>
            <a:ext cx="762012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7d"/>
                </a:solidFill>
                <a:latin typeface="Arial"/>
              </a:rPr>
              <a:t>case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: case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6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2200" spc="-1" strike="noStrike">
                <a:solidFill>
                  <a:srgbClr val="00007d"/>
                </a:solidFill>
                <a:latin typeface="Arial"/>
              </a:rPr>
              <a:t>case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9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: case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11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209680" y="3809880"/>
            <a:ext cx="1295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brea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2133720" y="3338640"/>
            <a:ext cx="6172200" cy="7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ystem.out.print( month + “</a:t>
            </a:r>
            <a:r>
              <a:rPr b="1" i="1" lang="en-US" sz="2300" spc="-1" strike="noStrike">
                <a:solidFill>
                  <a:srgbClr val="00007d"/>
                </a:solidFill>
                <a:latin typeface="Arial"/>
              </a:rPr>
              <a:t>has 30 Days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”);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1143000" y="1447920"/>
            <a:ext cx="762012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7d"/>
                </a:solidFill>
                <a:latin typeface="Arial"/>
              </a:rPr>
              <a:t>case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2209680" y="2209680"/>
            <a:ext cx="1295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brea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209680" y="1752480"/>
            <a:ext cx="6172200" cy="7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ystem.out.print( month + “</a:t>
            </a:r>
            <a:r>
              <a:rPr b="1" i="1" lang="en-US" sz="2300" spc="-1" strike="noStrike">
                <a:solidFill>
                  <a:srgbClr val="00007d"/>
                </a:solidFill>
                <a:latin typeface="Arial"/>
              </a:rPr>
              <a:t>has 28 Days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”);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4" dur="indefinite" restart="never" nodeType="tmRoot">
          <p:childTnLst>
            <p:seq>
              <p:cTn id="645" dur="indefinite" nodeType="mainSeq">
                <p:childTnLst>
                  <p:par>
                    <p:cTn id="646" fill="hold">
                      <p:stCondLst>
                        <p:cond delay="0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0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3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6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9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4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9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2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7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2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7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0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80880" y="533520"/>
            <a:ext cx="8534520" cy="6094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ontents:</a:t>
            </a:r>
            <a:r>
              <a:rPr b="1" lang="ar-SA" sz="3400" spc="-1" strike="noStrike">
                <a:solidFill>
                  <a:srgbClr val="ffffff"/>
                </a:solidFill>
                <a:latin typeface="Arial"/>
              </a:rPr>
              <a:t>محتويات المحاضرة</a:t>
            </a:r>
            <a:r>
              <a:rPr b="1" lang="ar-SA" sz="3400" spc="-1" strike="noStrike">
                <a:solidFill>
                  <a:srgbClr val="ffffff"/>
                </a:solidFill>
                <a:latin typeface="Arial"/>
              </a:rPr>
              <a:t>                             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33520" y="1066680"/>
            <a:ext cx="579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>
              <a:buClr>
                <a:srgbClr val="000000"/>
              </a:buClr>
              <a:buSzPct val="13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777777"/>
                </a:solidFill>
                <a:latin typeface="Arial"/>
              </a:rPr>
              <a:t>3.3.</a:t>
            </a:r>
            <a:r>
              <a:rPr b="1" lang="en-US" sz="2700" spc="-1" strike="noStrike">
                <a:solidFill>
                  <a:srgbClr val="4d4d4d"/>
                </a:solidFill>
                <a:latin typeface="Arial"/>
              </a:rPr>
              <a:t> if  Statements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219320" y="1752480"/>
            <a:ext cx="5790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>
              <a:buClr>
                <a:srgbClr val="000000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777777"/>
                </a:solidFill>
                <a:latin typeface="Arial"/>
              </a:rPr>
              <a:t> </a:t>
            </a:r>
            <a:r>
              <a:rPr b="1" lang="en-US" sz="2700" spc="-1" strike="noStrike">
                <a:solidFill>
                  <a:srgbClr val="777777"/>
                </a:solidFill>
                <a:latin typeface="Arial"/>
              </a:rPr>
              <a:t>3.3.1. simple if statements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219320" y="2286000"/>
            <a:ext cx="6019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>
              <a:buClr>
                <a:srgbClr val="000000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777777"/>
                </a:solidFill>
                <a:latin typeface="Arial"/>
              </a:rPr>
              <a:t> </a:t>
            </a:r>
            <a:r>
              <a:rPr b="1" lang="en-US" sz="2700" spc="-1" strike="noStrike">
                <a:solidFill>
                  <a:srgbClr val="777777"/>
                </a:solidFill>
                <a:latin typeface="Arial"/>
              </a:rPr>
              <a:t>3.3.2. if ... else statements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219320" y="2819520"/>
            <a:ext cx="53337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>
              <a:buClr>
                <a:srgbClr val="000000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777777"/>
                </a:solidFill>
                <a:latin typeface="Arial"/>
              </a:rPr>
              <a:t> </a:t>
            </a:r>
            <a:r>
              <a:rPr b="1" lang="en-US" sz="2700" spc="-1" strike="noStrike">
                <a:solidFill>
                  <a:srgbClr val="777777"/>
                </a:solidFill>
                <a:latin typeface="Arial"/>
              </a:rPr>
              <a:t>3.3.3. nested if statements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09480" y="5043600"/>
            <a:ext cx="41911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>
              <a:buClr>
                <a:srgbClr val="00007d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700" spc="-1" strike="noStrike">
                <a:solidFill>
                  <a:srgbClr val="00007d"/>
                </a:solidFill>
                <a:latin typeface="Arial"/>
              </a:rPr>
              <a:t>Examples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09480" y="4159080"/>
            <a:ext cx="5791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7d"/>
                </a:solidFill>
                <a:latin typeface="Arial"/>
              </a:rPr>
              <a:t>3.4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. switch Statement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09480" y="3321000"/>
            <a:ext cx="5791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>
              <a:buClr>
                <a:srgbClr val="000000"/>
              </a:buClr>
              <a:buSzPct val="13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777777"/>
                </a:solidFill>
                <a:latin typeface="Arial"/>
              </a:rPr>
              <a:t>3.5.</a:t>
            </a:r>
            <a:r>
              <a:rPr b="1" lang="en-US" sz="2700" spc="-1" strike="noStrike">
                <a:solidFill>
                  <a:srgbClr val="4d4d4d"/>
                </a:solidFill>
                <a:latin typeface="Arial"/>
              </a:rPr>
              <a:t> Conditional Expression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609480" y="762120"/>
            <a:ext cx="8077320" cy="4952880"/>
          </a:xfrm>
          <a:prstGeom prst="rect">
            <a:avLst/>
          </a:prstGeom>
          <a:noFill/>
          <a:ln w="2232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62120" y="838080"/>
            <a:ext cx="7772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7d"/>
                </a:solidFill>
                <a:latin typeface="Arial"/>
              </a:rPr>
              <a:t>قم بإعادة كتابة البرنامج الموضح ادناه من خلال استخدام الـ </a:t>
            </a:r>
            <a:r>
              <a:rPr b="1" lang="en-US" sz="2600" spc="-1" strike="noStrike">
                <a:solidFill>
                  <a:srgbClr val="00007d"/>
                </a:solidFill>
                <a:latin typeface="Arial"/>
              </a:rPr>
              <a:t>switch</a:t>
            </a:r>
            <a:r>
              <a:rPr b="1" lang="ar-SA" sz="2600" spc="-1" strike="noStrike">
                <a:solidFill>
                  <a:srgbClr val="00007d"/>
                </a:solidFill>
                <a:latin typeface="Arial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990720" y="1432080"/>
            <a:ext cx="7315200" cy="8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(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==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)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x += </a:t>
            </a:r>
            <a:r>
              <a:rPr b="1" lang="en-US" sz="2600" spc="-1" strike="noStrike">
                <a:solidFill>
                  <a:srgbClr val="00007d"/>
                </a:solidFill>
                <a:latin typeface="Arial"/>
              </a:rPr>
              <a:t>5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04920" y="152280"/>
            <a:ext cx="8762760" cy="5335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ss Work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914400" y="2454120"/>
            <a:ext cx="7315200" cy="8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7d"/>
                </a:solidFill>
                <a:latin typeface="Arial"/>
              </a:rPr>
              <a:t>else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 if 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a ==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)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x += </a:t>
            </a:r>
            <a:r>
              <a:rPr b="1" lang="en-US" sz="2600" spc="-1" strike="noStrike">
                <a:solidFill>
                  <a:srgbClr val="00007d"/>
                </a:solidFill>
                <a:latin typeface="Arial"/>
              </a:rPr>
              <a:t>10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914400" y="3533760"/>
            <a:ext cx="7315200" cy="8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7d"/>
                </a:solidFill>
                <a:latin typeface="Arial"/>
              </a:rPr>
              <a:t>else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 if 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(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==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)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x += </a:t>
            </a:r>
            <a:r>
              <a:rPr b="1" lang="en-US" sz="2600" spc="-1" strike="noStrike">
                <a:solidFill>
                  <a:srgbClr val="00007d"/>
                </a:solidFill>
                <a:latin typeface="Arial"/>
              </a:rPr>
              <a:t>16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914400" y="4524480"/>
            <a:ext cx="7315200" cy="8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7d"/>
                </a:solidFill>
                <a:latin typeface="Arial"/>
              </a:rPr>
              <a:t>else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 if 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==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)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x += </a:t>
            </a:r>
            <a:r>
              <a:rPr b="1" lang="en-US" sz="2600" spc="-1" strike="noStrike">
                <a:solidFill>
                  <a:srgbClr val="00007d"/>
                </a:solidFill>
                <a:latin typeface="Arial"/>
              </a:rPr>
              <a:t>34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1" dur="indefinite" restart="never" nodeType="tmRoot">
          <p:childTnLst>
            <p:seq>
              <p:cTn id="692" dur="indefinite" nodeType="mainSeq">
                <p:childTnLst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7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0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3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6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9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2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/>
          <p:nvPr/>
        </p:nvSpPr>
        <p:spPr>
          <a:xfrm>
            <a:off x="609480" y="762120"/>
            <a:ext cx="8077320" cy="4190760"/>
          </a:xfrm>
          <a:prstGeom prst="rect">
            <a:avLst/>
          </a:prstGeom>
          <a:noFill/>
          <a:ln w="2232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762120" y="858960"/>
            <a:ext cx="7772400" cy="12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بإستخدام تعليمة الاختيار</a:t>
            </a:r>
            <a:r>
              <a:rPr b="1" lang="en-US" sz="2600" spc="-1" strike="noStrike">
                <a:solidFill>
                  <a:srgbClr val="00007d"/>
                </a:solidFill>
                <a:latin typeface="Arial"/>
              </a:rPr>
              <a:t>switch</a:t>
            </a: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 اكتب برنامج يطلب من المستخدم ادخال عدد صحيح من النوع (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) يمثل </a:t>
            </a:r>
            <a:r>
              <a:rPr b="1" lang="ar-SA" sz="2600" spc="-1" strike="noStrike" u="sng">
                <a:solidFill>
                  <a:srgbClr val="00007d"/>
                </a:solidFill>
                <a:uFillTx/>
                <a:latin typeface="Arial"/>
              </a:rPr>
              <a:t>ترتيب الفائز بالمسابقة،</a:t>
            </a: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 يقوم البرنامج بطباعة </a:t>
            </a:r>
            <a:r>
              <a:rPr b="1" lang="ar-SA" sz="2600" spc="-1" strike="noStrike">
                <a:solidFill>
                  <a:srgbClr val="0000ff"/>
                </a:solidFill>
                <a:latin typeface="Arial"/>
              </a:rPr>
              <a:t>جائزة المسابقة</a:t>
            </a: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 وفقاً للخيارت التالية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1295280" y="2051280"/>
            <a:ext cx="7010640" cy="8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r" rtl="1"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 اذا كان رقم الفائز 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 يتم طباعة</a:t>
            </a:r>
            <a:r>
              <a:rPr b="1" lang="ar-SA" sz="25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Gold medal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“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33520" y="3832200"/>
            <a:ext cx="7772400" cy="12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r" rtl="1"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 وفى حالة ادخال أى رقم غير الأرقام الموضحة اعلاه يتم طباعة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    ”</a:t>
            </a:r>
            <a:r>
              <a:rPr b="1" i="1" lang="en-US" sz="2500" spc="-1" strike="noStrike">
                <a:solidFill>
                  <a:srgbClr val="ff0000"/>
                </a:solidFill>
                <a:latin typeface="Arial"/>
              </a:rPr>
              <a:t>invalid number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500" spc="-1" strike="noStrike">
                <a:solidFill>
                  <a:srgbClr val="ff0000"/>
                </a:solidFill>
                <a:latin typeface="Arial"/>
              </a:rPr>
              <a:t>, try again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“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1295280" y="2621160"/>
            <a:ext cx="7010640" cy="8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r" rtl="1"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 اذا كان رقم الفائز 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 يتم طباعة</a:t>
            </a:r>
            <a:r>
              <a:rPr b="1" lang="ar-SA" sz="25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Silver medal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“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1295280" y="3230640"/>
            <a:ext cx="7010640" cy="8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r" rtl="1"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 اذا كان رقم الفائز 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 يتم طباعة</a:t>
            </a:r>
            <a:r>
              <a:rPr b="1" lang="ar-SA" sz="25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Bronze medal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“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304920" y="152280"/>
            <a:ext cx="8762760" cy="5335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ss Work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914400" y="5105520"/>
            <a:ext cx="75438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بحيث يكون ناتج تنفيذ البرنامج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Enter order: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 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00007d"/>
                </a:solidFill>
                <a:latin typeface="Arial"/>
              </a:rPr>
              <a:t>Silver meda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3" dur="indefinite" restart="never" nodeType="tmRoot">
          <p:childTnLst>
            <p:seq>
              <p:cTn id="714" dur="indefinite" nodeType="mainSeq">
                <p:childTnLst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9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2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5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8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1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4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7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04920" y="304920"/>
            <a:ext cx="8762760" cy="5331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4.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witch stat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80880" y="106668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if statement makes </a:t>
            </a:r>
            <a:r>
              <a:rPr b="1" i="1" lang="en-US" sz="2400" spc="-1" strike="noStrike">
                <a:solidFill>
                  <a:srgbClr val="00007d"/>
                </a:solidFill>
                <a:latin typeface="Arial"/>
              </a:rPr>
              <a:t>selections based on a sing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tru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als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ondition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365760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ava provides a 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switc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tatement to handle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multiple condition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efficiently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57200" y="457200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 algn="r" rtl="1"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يتم استخدام الـ </a:t>
            </a:r>
            <a:r>
              <a:rPr b="1" i="1" lang="en-US" sz="2400" spc="-1" strike="noStrike">
                <a:solidFill>
                  <a:srgbClr val="00007d"/>
                </a:solidFill>
                <a:latin typeface="Arial"/>
              </a:rPr>
              <a:t>switch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فى حالة وجود عدة خيارات(شروط) للتنفيذ بالبرنامج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80880" y="2286000"/>
            <a:ext cx="83822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nested if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tatement can be used to implement 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multiple alternativ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تستخدم فى حالة وجود عدة خيارت بالبرنامج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304920" y="228600"/>
            <a:ext cx="8762760" cy="5335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4. switch Stat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28600" y="762120"/>
            <a:ext cx="8763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The execution flow chart </a:t>
            </a:r>
            <a:r>
              <a:rPr b="1" i="1" lang="en-US" sz="2500" spc="-1" strike="noStrike">
                <a:solidFill>
                  <a:srgbClr val="00007d"/>
                </a:solidFill>
                <a:latin typeface="Arial"/>
              </a:rPr>
              <a:t>(switch</a:t>
            </a:r>
            <a:r>
              <a:rPr b="1" i="1" lang="ar-SA" sz="2500" spc="-1" strike="noStrike">
                <a:solidFill>
                  <a:srgbClr val="00007d"/>
                </a:solidFill>
                <a:latin typeface="Arial"/>
              </a:rPr>
              <a:t>تسلسل تنفيذ تعليمة الاختيار</a:t>
            </a:r>
            <a:r>
              <a:rPr b="0" i="1" lang="ar-SA" sz="25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i="1" lang="en-US" sz="2500" spc="-1" strike="noStrike">
                <a:solidFill>
                  <a:srgbClr val="00007d"/>
                </a:solidFill>
                <a:latin typeface="Arial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1143000" y="6248520"/>
            <a:ext cx="304920" cy="533160"/>
            <a:chOff x="1143000" y="6248520"/>
            <a:chExt cx="304920" cy="533160"/>
          </a:xfrm>
        </p:grpSpPr>
        <p:sp>
          <p:nvSpPr>
            <p:cNvPr id="121" name=""/>
            <p:cNvSpPr/>
            <p:nvPr/>
          </p:nvSpPr>
          <p:spPr>
            <a:xfrm>
              <a:off x="1143000" y="6477120"/>
              <a:ext cx="304920" cy="304560"/>
            </a:xfrm>
            <a:prstGeom prst="flowChartConnector">
              <a:avLst/>
            </a:prstGeom>
            <a:solidFill>
              <a:srgbClr val="80808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295280" y="624852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1066680" y="1219320"/>
            <a:ext cx="304920" cy="685800"/>
            <a:chOff x="1066680" y="1219320"/>
            <a:chExt cx="304920" cy="685800"/>
          </a:xfrm>
        </p:grpSpPr>
        <p:sp>
          <p:nvSpPr>
            <p:cNvPr id="124" name=""/>
            <p:cNvSpPr/>
            <p:nvPr/>
          </p:nvSpPr>
          <p:spPr>
            <a:xfrm>
              <a:off x="1219320" y="1524240"/>
              <a:ext cx="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066680" y="1219320"/>
              <a:ext cx="304920" cy="304920"/>
            </a:xfrm>
            <a:prstGeom prst="flowChartConnector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3505320" y="2057400"/>
            <a:ext cx="1752480" cy="5335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7d"/>
                </a:solidFill>
                <a:latin typeface="Arial"/>
              </a:rPr>
              <a:t>statement(s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934320" y="236232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1295280" y="2362320"/>
            <a:ext cx="6096240" cy="3886200"/>
            <a:chOff x="1295280" y="2362320"/>
            <a:chExt cx="6096240" cy="3886200"/>
          </a:xfrm>
        </p:grpSpPr>
        <p:sp>
          <p:nvSpPr>
            <p:cNvPr id="129" name=""/>
            <p:cNvSpPr/>
            <p:nvPr/>
          </p:nvSpPr>
          <p:spPr>
            <a:xfrm>
              <a:off x="7391520" y="2362320"/>
              <a:ext cx="0" cy="3886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flipH="1">
              <a:off x="1295280" y="6248520"/>
              <a:ext cx="6096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1905120" y="2362320"/>
            <a:ext cx="1600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457200" y="1905120"/>
            <a:ext cx="1600200" cy="914400"/>
            <a:chOff x="457200" y="1905120"/>
            <a:chExt cx="1600200" cy="914400"/>
          </a:xfrm>
        </p:grpSpPr>
        <p:sp>
          <p:nvSpPr>
            <p:cNvPr id="133" name=""/>
            <p:cNvSpPr/>
            <p:nvPr/>
          </p:nvSpPr>
          <p:spPr>
            <a:xfrm>
              <a:off x="590760" y="1905120"/>
              <a:ext cx="1333440" cy="914400"/>
            </a:xfrm>
            <a:prstGeom prst="flowChartDecision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57200" y="1981080"/>
              <a:ext cx="160020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7d"/>
                  </a:solidFill>
                  <a:latin typeface="Arial"/>
                </a:rPr>
                <a:t>switc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7d"/>
                  </a:solidFill>
                  <a:latin typeface="Arial"/>
                </a:rPr>
                <a:t>express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"/>
          <p:cNvSpPr/>
          <p:nvPr/>
        </p:nvSpPr>
        <p:spPr>
          <a:xfrm>
            <a:off x="5943600" y="2057400"/>
            <a:ext cx="990720" cy="5335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ff"/>
                </a:solidFill>
                <a:latin typeface="Arial"/>
              </a:rPr>
              <a:t>break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257800" y="2362320"/>
            <a:ext cx="6858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752480" y="1828800"/>
            <a:ext cx="17528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ff"/>
                </a:solidFill>
                <a:latin typeface="Arial"/>
              </a:rPr>
              <a:t>case</a:t>
            </a: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cc0000"/>
                </a:solidFill>
                <a:latin typeface="Arial"/>
              </a:rPr>
              <a:t>value1</a:t>
            </a: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219320" y="2819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505320" y="3048120"/>
            <a:ext cx="1752480" cy="533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7d"/>
                </a:solidFill>
                <a:latin typeface="Arial"/>
              </a:rPr>
              <a:t>statement(s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52480" y="3352680"/>
            <a:ext cx="17528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943600" y="3048120"/>
            <a:ext cx="990720" cy="533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ff"/>
                </a:solidFill>
                <a:latin typeface="Arial"/>
              </a:rPr>
              <a:t>break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257800" y="3352680"/>
            <a:ext cx="6858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676520" y="2819520"/>
            <a:ext cx="1752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ff"/>
                </a:solidFill>
                <a:latin typeface="Arial"/>
              </a:rPr>
              <a:t>case</a:t>
            </a: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cc0000"/>
                </a:solidFill>
                <a:latin typeface="Arial"/>
              </a:rPr>
              <a:t>value2</a:t>
            </a: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934320" y="327672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" y="3962520"/>
            <a:ext cx="1143000" cy="685800"/>
          </a:xfrm>
          <a:prstGeom prst="flowChartDecision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505320" y="3962520"/>
            <a:ext cx="1752480" cy="533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7d"/>
                </a:solidFill>
                <a:latin typeface="Arial"/>
              </a:rPr>
              <a:t>statement(s</a:t>
            </a:r>
            <a:r>
              <a:rPr b="1" i="1" lang="en-US" sz="19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52480" y="4267080"/>
            <a:ext cx="17528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943600" y="4038480"/>
            <a:ext cx="990720" cy="5335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ff"/>
                </a:solidFill>
                <a:latin typeface="Arial"/>
              </a:rPr>
              <a:t>break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257800" y="4267080"/>
            <a:ext cx="6858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714680" y="3809880"/>
            <a:ext cx="17524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ff"/>
                </a:solidFill>
                <a:latin typeface="Arial"/>
              </a:rPr>
              <a:t>case</a:t>
            </a: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cc0000"/>
                </a:solidFill>
                <a:latin typeface="Arial"/>
              </a:rPr>
              <a:t>value3</a:t>
            </a: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934320" y="426708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219320" y="3733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" y="3048120"/>
            <a:ext cx="1143000" cy="685800"/>
          </a:xfrm>
          <a:prstGeom prst="flowChartDecision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85800" y="4876920"/>
            <a:ext cx="1143000" cy="685800"/>
          </a:xfrm>
          <a:prstGeom prst="flowChartDecision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505320" y="4876920"/>
            <a:ext cx="1752480" cy="533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7d"/>
                </a:solidFill>
                <a:latin typeface="Arial"/>
              </a:rPr>
              <a:t>statement(s</a:t>
            </a:r>
            <a:r>
              <a:rPr b="1" i="1" lang="en-US" sz="19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752480" y="5181480"/>
            <a:ext cx="17528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943600" y="4876920"/>
            <a:ext cx="990720" cy="533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ff"/>
                </a:solidFill>
                <a:latin typeface="Arial"/>
              </a:rPr>
              <a:t>break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257800" y="5181480"/>
            <a:ext cx="6858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14680" y="4724280"/>
            <a:ext cx="17524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ff"/>
                </a:solidFill>
                <a:latin typeface="Arial"/>
              </a:rPr>
              <a:t>case</a:t>
            </a: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value(n)</a:t>
            </a: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934320" y="518148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219320" y="46483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05320" y="5562720"/>
            <a:ext cx="1752480" cy="533160"/>
          </a:xfrm>
          <a:prstGeom prst="rect">
            <a:avLst/>
          </a:prstGeom>
          <a:solidFill>
            <a:srgbClr val="cccce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Arial"/>
              </a:rPr>
              <a:t>default action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295280" y="5867280"/>
            <a:ext cx="22100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295280" y="55627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447920" y="556272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ff"/>
                </a:solidFill>
                <a:latin typeface="Arial"/>
              </a:rPr>
              <a:t>default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257800" y="5867280"/>
            <a:ext cx="21337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238880" y="1219320"/>
            <a:ext cx="1524240" cy="609480"/>
          </a:xfrm>
          <a:prstGeom prst="flowChartPunchedCard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تستخدم لإنهاء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تنفيذ الـ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wit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6934320" y="1828800"/>
            <a:ext cx="457200" cy="304920"/>
          </a:xfrm>
          <a:prstGeom prst="line">
            <a:avLst/>
          </a:prstGeom>
          <a:ln w="3168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467480" y="5105520"/>
            <a:ext cx="1600200" cy="1066680"/>
          </a:xfrm>
          <a:prstGeom prst="flowChartPunchedCard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قيمة افتراضية يتم</a:t>
            </a: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تنفيذها فى حالة عدم</a:t>
            </a: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تنفيذ الخيارت السابق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5333760" y="5715000"/>
            <a:ext cx="2057400" cy="0"/>
          </a:xfrm>
          <a:prstGeom prst="line">
            <a:avLst/>
          </a:prstGeom>
          <a:ln w="3168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6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5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304920" y="304920"/>
            <a:ext cx="8762760" cy="5331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4.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 The Syntax of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witch stat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981080" y="1768320"/>
            <a:ext cx="3733920" cy="473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500" spc="-1" strike="noStrike">
                <a:solidFill>
                  <a:srgbClr val="00007d"/>
                </a:solidFill>
                <a:latin typeface="Arial"/>
              </a:rPr>
              <a:t>switch - expression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257800" y="1767960"/>
            <a:ext cx="2209680" cy="45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{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048120" y="2150280"/>
            <a:ext cx="1371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value1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133720" y="2301840"/>
            <a:ext cx="99036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cas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2333160"/>
            <a:ext cx="2666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tement(s);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419720" y="2850840"/>
            <a:ext cx="12952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break;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048120" y="3413880"/>
            <a:ext cx="1371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value2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133720" y="3565440"/>
            <a:ext cx="99036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cas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419720" y="3596760"/>
            <a:ext cx="2666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tement(s);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419720" y="3962160"/>
            <a:ext cx="12952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break;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209680" y="4114800"/>
            <a:ext cx="129564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....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971800" y="4420440"/>
            <a:ext cx="1447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valueN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133720" y="4572000"/>
            <a:ext cx="99036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cas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419720" y="4603320"/>
            <a:ext cx="2666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tement(s);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419720" y="5016240"/>
            <a:ext cx="12952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break;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133720" y="5478480"/>
            <a:ext cx="175248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default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343400" y="5326920"/>
            <a:ext cx="3886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tement(s)- for- default;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838080" y="6019560"/>
            <a:ext cx="6782040" cy="45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i="1" lang="en-US" sz="2200" spc="-1" strike="noStrike">
                <a:solidFill>
                  <a:srgbClr val="4d4d4d"/>
                </a:solidFill>
                <a:latin typeface="Arial"/>
              </a:rPr>
              <a:t>// end of switch blo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1768680"/>
            <a:ext cx="1295280" cy="4885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304920" y="838080"/>
            <a:ext cx="1904760" cy="1006560"/>
            <a:chOff x="304920" y="838080"/>
            <a:chExt cx="1904760" cy="1006560"/>
          </a:xfrm>
        </p:grpSpPr>
        <p:sp>
          <p:nvSpPr>
            <p:cNvPr id="192" name=""/>
            <p:cNvSpPr/>
            <p:nvPr/>
          </p:nvSpPr>
          <p:spPr>
            <a:xfrm>
              <a:off x="914400" y="1235160"/>
              <a:ext cx="762120" cy="609480"/>
            </a:xfrm>
            <a:prstGeom prst="line">
              <a:avLst/>
            </a:prstGeom>
            <a:ln w="22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04920" y="838080"/>
              <a:ext cx="190476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r" rtl="1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ar-SA" sz="2000" spc="-1" strike="noStrike">
                  <a:solidFill>
                    <a:srgbClr val="000000"/>
                  </a:solidFill>
                  <a:latin typeface="Arial"/>
                </a:rPr>
                <a:t>الكلمة المحجوز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80880" y="914400"/>
              <a:ext cx="228600" cy="304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00400" y="930240"/>
            <a:ext cx="304560" cy="990720"/>
            <a:chOff x="3200400" y="930240"/>
            <a:chExt cx="304560" cy="990720"/>
          </a:xfrm>
        </p:grpSpPr>
        <p:sp>
          <p:nvSpPr>
            <p:cNvPr id="196" name=""/>
            <p:cNvSpPr/>
            <p:nvPr/>
          </p:nvSpPr>
          <p:spPr>
            <a:xfrm>
              <a:off x="3352680" y="1327320"/>
              <a:ext cx="0" cy="593640"/>
            </a:xfrm>
            <a:prstGeom prst="line">
              <a:avLst/>
            </a:prstGeom>
            <a:ln w="22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200400" y="930240"/>
              <a:ext cx="304560" cy="3970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" name=""/>
          <p:cNvGrpSpPr/>
          <p:nvPr/>
        </p:nvGrpSpPr>
        <p:grpSpPr>
          <a:xfrm>
            <a:off x="5562720" y="930240"/>
            <a:ext cx="2895120" cy="1066680"/>
            <a:chOff x="5562720" y="930240"/>
            <a:chExt cx="2895120" cy="1066680"/>
          </a:xfrm>
        </p:grpSpPr>
        <p:sp>
          <p:nvSpPr>
            <p:cNvPr id="199" name=""/>
            <p:cNvSpPr/>
            <p:nvPr/>
          </p:nvSpPr>
          <p:spPr>
            <a:xfrm flipH="1">
              <a:off x="5562720" y="1311120"/>
              <a:ext cx="380880" cy="685800"/>
            </a:xfrm>
            <a:prstGeom prst="line">
              <a:avLst/>
            </a:prstGeom>
            <a:ln w="22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943600" y="930240"/>
              <a:ext cx="25142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tart </a:t>
              </a:r>
              <a:r>
                <a:rPr b="1" i="1" lang="en-US" sz="2000" spc="-1" strike="noStrike">
                  <a:solidFill>
                    <a:srgbClr val="00007d"/>
                  </a:solidFill>
                  <a:latin typeface="Arial"/>
                </a:rPr>
                <a:t>switch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blo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715000" y="1006560"/>
              <a:ext cx="228240" cy="304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-228600" y="2438280"/>
            <a:ext cx="2437920" cy="702360"/>
            <a:chOff x="-228600" y="2438280"/>
            <a:chExt cx="2437920" cy="702360"/>
          </a:xfrm>
        </p:grpSpPr>
        <p:sp>
          <p:nvSpPr>
            <p:cNvPr id="203" name=""/>
            <p:cNvSpPr/>
            <p:nvPr/>
          </p:nvSpPr>
          <p:spPr>
            <a:xfrm>
              <a:off x="1704960" y="2590920"/>
              <a:ext cx="504360" cy="0"/>
            </a:xfrm>
            <a:prstGeom prst="line">
              <a:avLst/>
            </a:prstGeom>
            <a:ln w="22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-228600" y="2438280"/>
              <a:ext cx="18496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r" rtl="1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ar-SA" sz="2000" spc="-1" strike="noStrike">
                  <a:solidFill>
                    <a:srgbClr val="000000"/>
                  </a:solidFill>
                  <a:latin typeface="Arial"/>
                </a:rPr>
                <a:t>الكلمة المحجوز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452600" y="2438280"/>
              <a:ext cx="252000" cy="304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228600" y="2682720"/>
            <a:ext cx="2895480" cy="1601280"/>
            <a:chOff x="228600" y="2682720"/>
            <a:chExt cx="2895480" cy="1601280"/>
          </a:xfrm>
        </p:grpSpPr>
        <p:sp>
          <p:nvSpPr>
            <p:cNvPr id="207" name=""/>
            <p:cNvSpPr/>
            <p:nvPr/>
          </p:nvSpPr>
          <p:spPr>
            <a:xfrm flipV="1">
              <a:off x="1752480" y="2682720"/>
              <a:ext cx="1371600" cy="441360"/>
            </a:xfrm>
            <a:prstGeom prst="line">
              <a:avLst/>
            </a:prstGeom>
            <a:ln w="22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28600" y="2971800"/>
              <a:ext cx="1447920" cy="131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r" rtl="1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ar-SA" sz="2000" spc="-1" strike="noStrike">
                  <a:solidFill>
                    <a:srgbClr val="000000"/>
                  </a:solidFill>
                  <a:latin typeface="Arial"/>
                </a:rPr>
                <a:t> قيمة الخيار المطلوب تنفيذه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2971800"/>
              <a:ext cx="228600" cy="304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6248520" y="1387440"/>
            <a:ext cx="2895120" cy="1066680"/>
            <a:chOff x="6248520" y="1387440"/>
            <a:chExt cx="2895120" cy="1066680"/>
          </a:xfrm>
        </p:grpSpPr>
        <p:sp>
          <p:nvSpPr>
            <p:cNvPr id="211" name=""/>
            <p:cNvSpPr/>
            <p:nvPr/>
          </p:nvSpPr>
          <p:spPr>
            <a:xfrm flipH="1">
              <a:off x="6248520" y="1768320"/>
              <a:ext cx="380880" cy="685800"/>
            </a:xfrm>
            <a:prstGeom prst="line">
              <a:avLst/>
            </a:prstGeom>
            <a:ln w="22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629400" y="1387440"/>
              <a:ext cx="251424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000000"/>
                  </a:solidFill>
                  <a:latin typeface="Arial"/>
                </a:rPr>
                <a:t>التعليمات المراد تنفيذها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400800" y="1463760"/>
              <a:ext cx="228240" cy="304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5486400" y="2835360"/>
            <a:ext cx="3429000" cy="915480"/>
            <a:chOff x="5486400" y="2835360"/>
            <a:chExt cx="3429000" cy="915480"/>
          </a:xfrm>
        </p:grpSpPr>
        <p:sp>
          <p:nvSpPr>
            <p:cNvPr id="215" name=""/>
            <p:cNvSpPr/>
            <p:nvPr/>
          </p:nvSpPr>
          <p:spPr>
            <a:xfrm flipH="1">
              <a:off x="5486400" y="3063960"/>
              <a:ext cx="533520" cy="0"/>
            </a:xfrm>
            <a:prstGeom prst="line">
              <a:avLst/>
            </a:prstGeom>
            <a:ln w="22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019920" y="2835360"/>
              <a:ext cx="2895480" cy="91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800" spc="-1" strike="noStrike">
                  <a:solidFill>
                    <a:srgbClr val="000000"/>
                  </a:solidFill>
                  <a:latin typeface="Arial"/>
                </a:rPr>
                <a:t>استخدام الكلمة المحجوزة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break</a:t>
              </a:r>
              <a:r>
                <a:rPr b="1" lang="ar-SA" sz="1800" spc="-1" strike="noStrike">
                  <a:solidFill>
                    <a:srgbClr val="000000"/>
                  </a:solidFill>
                  <a:latin typeface="Arial"/>
                </a:rPr>
                <a:t> لإنهاء تنفيذ الـ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wit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019920" y="2911320"/>
              <a:ext cx="228600" cy="304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0" y="4403880"/>
            <a:ext cx="2286000" cy="2531880"/>
            <a:chOff x="0" y="4403880"/>
            <a:chExt cx="2286000" cy="2531880"/>
          </a:xfrm>
        </p:grpSpPr>
        <p:sp>
          <p:nvSpPr>
            <p:cNvPr id="219" name=""/>
            <p:cNvSpPr/>
            <p:nvPr/>
          </p:nvSpPr>
          <p:spPr>
            <a:xfrm>
              <a:off x="1676520" y="4724280"/>
              <a:ext cx="609480" cy="914400"/>
            </a:xfrm>
            <a:prstGeom prst="line">
              <a:avLst/>
            </a:prstGeom>
            <a:ln w="22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0" y="4403880"/>
              <a:ext cx="1523880" cy="25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r" rtl="1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000000"/>
                  </a:solidFill>
                  <a:latin typeface="Arial"/>
                </a:rPr>
                <a:t>قيمة افتراضية يتم تنفيذها فى حالة عدم تنفيذ الخيارت السابقة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523880" y="4419720"/>
              <a:ext cx="228600" cy="304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057400" y="2286000"/>
            <a:ext cx="6858000" cy="1219320"/>
          </a:xfrm>
          <a:prstGeom prst="rect">
            <a:avLst/>
          </a:prstGeom>
          <a:noFill/>
          <a:ln w="25560">
            <a:solidFill>
              <a:srgbClr val="00007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4038480" y="6080040"/>
            <a:ext cx="762120" cy="397080"/>
            <a:chOff x="4038480" y="6080040"/>
            <a:chExt cx="762120" cy="397080"/>
          </a:xfrm>
        </p:grpSpPr>
        <p:sp>
          <p:nvSpPr>
            <p:cNvPr id="224" name=""/>
            <p:cNvSpPr/>
            <p:nvPr/>
          </p:nvSpPr>
          <p:spPr>
            <a:xfrm flipH="1" flipV="1">
              <a:off x="4038480" y="6248520"/>
              <a:ext cx="457200" cy="15840"/>
            </a:xfrm>
            <a:prstGeom prst="line">
              <a:avLst/>
            </a:prstGeom>
            <a:ln w="22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495680" y="6080040"/>
              <a:ext cx="304920" cy="3970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2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0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3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8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1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6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1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6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9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9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2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3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304920" y="304920"/>
            <a:ext cx="8762760" cy="5331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4.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witch stat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28600" y="838080"/>
            <a:ext cx="87631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switch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statement observes the following rules: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57200" y="129528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(القواعد الأساسية لإستخدام تعليمة الاختيار 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switch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57200" y="1905120"/>
            <a:ext cx="304920" cy="304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62120" y="1828800"/>
            <a:ext cx="79246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2400" spc="-1" strike="noStrike">
                <a:solidFill>
                  <a:srgbClr val="00007d"/>
                </a:solidFill>
                <a:latin typeface="Arial"/>
              </a:rPr>
              <a:t>switch-expressi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mus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yield a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valu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f 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cha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byt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hor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or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ype, and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mus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lways be </a:t>
            </a:r>
            <a:r>
              <a:rPr b="1" i="1" lang="en-US" sz="2400" spc="-1" strike="noStrike">
                <a:solidFill>
                  <a:srgbClr val="00007d"/>
                </a:solidFill>
                <a:latin typeface="Arial"/>
              </a:rPr>
              <a:t>enclose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n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arenthes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3344760"/>
            <a:ext cx="3733920" cy="4885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( </a:t>
            </a:r>
            <a:r>
              <a:rPr b="1" i="1" lang="en-US" sz="2500" spc="-1" strike="noStrike">
                <a:solidFill>
                  <a:srgbClr val="00007d"/>
                </a:solidFill>
                <a:latin typeface="Arial"/>
              </a:rPr>
              <a:t>switch – expression 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791320" y="3352320"/>
            <a:ext cx="1066680" cy="45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{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143000" y="3353040"/>
            <a:ext cx="1219320" cy="4885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143000" y="5943240"/>
            <a:ext cx="6095880" cy="45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"/>
          <p:cNvGrpSpPr/>
          <p:nvPr/>
        </p:nvGrpSpPr>
        <p:grpSpPr>
          <a:xfrm>
            <a:off x="2514240" y="2895480"/>
            <a:ext cx="3048120" cy="533520"/>
            <a:chOff x="2514240" y="2895480"/>
            <a:chExt cx="3048120" cy="533520"/>
          </a:xfrm>
        </p:grpSpPr>
        <p:sp>
          <p:nvSpPr>
            <p:cNvPr id="236" name=""/>
            <p:cNvSpPr/>
            <p:nvPr/>
          </p:nvSpPr>
          <p:spPr>
            <a:xfrm flipH="1">
              <a:off x="2514240" y="2895480"/>
              <a:ext cx="1354680" cy="5335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869280" y="2895480"/>
              <a:ext cx="1693080" cy="4572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8" name=""/>
          <p:cNvSpPr/>
          <p:nvPr/>
        </p:nvSpPr>
        <p:spPr>
          <a:xfrm>
            <a:off x="1905120" y="5334120"/>
            <a:ext cx="838080" cy="380880"/>
          </a:xfrm>
          <a:prstGeom prst="rect">
            <a:avLst/>
          </a:prstGeom>
          <a:solidFill>
            <a:srgbClr val="99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905120" y="4876920"/>
            <a:ext cx="838080" cy="380880"/>
          </a:xfrm>
          <a:prstGeom prst="rect">
            <a:avLst/>
          </a:prstGeom>
          <a:solidFill>
            <a:srgbClr val="ff99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y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905120" y="4419720"/>
            <a:ext cx="838080" cy="380880"/>
          </a:xfrm>
          <a:prstGeom prst="rect">
            <a:avLst/>
          </a:prstGeom>
          <a:solidFill>
            <a:srgbClr val="00007d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h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905120" y="3962520"/>
            <a:ext cx="838080" cy="380880"/>
          </a:xfrm>
          <a:prstGeom prst="rect">
            <a:avLst/>
          </a:prstGeom>
          <a:solidFill>
            <a:srgbClr val="800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3352680" y="3886200"/>
            <a:ext cx="2210040" cy="1523880"/>
            <a:chOff x="3352680" y="3886200"/>
            <a:chExt cx="2210040" cy="1523880"/>
          </a:xfrm>
        </p:grpSpPr>
        <p:sp>
          <p:nvSpPr>
            <p:cNvPr id="243" name=""/>
            <p:cNvSpPr/>
            <p:nvPr/>
          </p:nvSpPr>
          <p:spPr>
            <a:xfrm>
              <a:off x="4267080" y="3886200"/>
              <a:ext cx="0" cy="53352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352680" y="4419720"/>
              <a:ext cx="2210040" cy="99036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just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ffffff"/>
                  </a:solidFill>
                  <a:latin typeface="Arial"/>
                </a:rPr>
                <a:t>لابد أن تكون قيمة التعبير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ffffff"/>
                  </a:solidFill>
                  <a:latin typeface="Arial"/>
                </a:rPr>
                <a:t>الخاص بالـ 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switch</a:t>
              </a:r>
              <a:r>
                <a:rPr b="1" lang="ar-SA" sz="2000" spc="-1" strike="noStrike">
                  <a:solidFill>
                    <a:srgbClr val="ffffff"/>
                  </a:solidFill>
                  <a:latin typeface="Arial"/>
                </a:rPr>
                <a:t> من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ffffff"/>
                  </a:solidFill>
                  <a:latin typeface="Arial"/>
                </a:rPr>
                <a:t>نوع البيانات التالية: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5" name=""/>
          <p:cNvSpPr/>
          <p:nvPr/>
        </p:nvSpPr>
        <p:spPr>
          <a:xfrm>
            <a:off x="2895480" y="3962520"/>
            <a:ext cx="381240" cy="1828800"/>
          </a:xfrm>
          <a:custGeom>
            <a:avLst/>
            <a:gdLst>
              <a:gd name="textAreaLeft" fmla="*/ 0 w 381240"/>
              <a:gd name="textAreaRight" fmla="*/ 137520 w 38124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0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3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8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1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4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7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2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7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0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3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6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9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304920" y="304920"/>
            <a:ext cx="8762760" cy="5331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4.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witch stat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85800" y="91440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(القواعد الأساسية لإستخدام تعليمة الاختيار 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switch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57200" y="15238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62120" y="1447920"/>
            <a:ext cx="8001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value1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, . . ., and 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valueN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are 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constant expressions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) must have </a:t>
            </a:r>
            <a:r>
              <a:rPr b="1" i="1" lang="en-US" sz="2300" spc="-1" strike="noStrike">
                <a:solidFill>
                  <a:srgbClr val="ff0000"/>
                </a:solidFill>
                <a:latin typeface="Arial"/>
              </a:rPr>
              <a:t>the same data type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as the value of the 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switch-expression.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286000" y="3344760"/>
            <a:ext cx="1752480" cy="4885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( </a:t>
            </a:r>
            <a:r>
              <a:rPr b="1" lang="en-US" sz="2600" spc="-1" strike="noStrike">
                <a:solidFill>
                  <a:srgbClr val="00007d"/>
                </a:solidFill>
                <a:latin typeface="Arial"/>
              </a:rPr>
              <a:t>grade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 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733920" y="3352320"/>
            <a:ext cx="3200400" cy="45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{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143000" y="3353040"/>
            <a:ext cx="1219320" cy="4885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143000" y="5943240"/>
            <a:ext cx="5715000" cy="45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33520" y="2666880"/>
            <a:ext cx="8305560" cy="60984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000000"/>
                </a:solidFill>
                <a:latin typeface="Arial"/>
              </a:rPr>
              <a:t>مثال: بإفتراض ان المتغير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grade</a:t>
            </a:r>
            <a:r>
              <a:rPr b="1" lang="ar-SA" sz="2300" spc="-1" strike="noStrike">
                <a:solidFill>
                  <a:srgbClr val="000000"/>
                </a:solidFill>
                <a:latin typeface="Arial"/>
              </a:rPr>
              <a:t>من النوع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char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300" spc="-1" strike="noStrike">
                <a:solidFill>
                  <a:srgbClr val="000000"/>
                </a:solidFill>
                <a:latin typeface="Arial"/>
              </a:rPr>
              <a:t>ستكون الخيارات من نفس النوع: 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371600" y="3900600"/>
            <a:ext cx="99072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cas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209680" y="3900600"/>
            <a:ext cx="99072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‘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A’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895480" y="3916440"/>
            <a:ext cx="449604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ystem.out.print(</a:t>
            </a:r>
            <a:r>
              <a:rPr b="1" i="1" lang="en-US" sz="2300" spc="-1" strike="noStrike">
                <a:solidFill>
                  <a:srgbClr val="00007d"/>
                </a:solidFill>
                <a:latin typeface="Arial"/>
              </a:rPr>
              <a:t>“Excellent”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895480" y="4357800"/>
            <a:ext cx="129564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break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371600" y="4800600"/>
            <a:ext cx="99072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cas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209680" y="4800600"/>
            <a:ext cx="99072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‘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B’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895480" y="4816440"/>
            <a:ext cx="449604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ystem.out.print(</a:t>
            </a:r>
            <a:r>
              <a:rPr b="1" i="1" lang="en-US" sz="2300" spc="-1" strike="noStrike">
                <a:solidFill>
                  <a:srgbClr val="00007d"/>
                </a:solidFill>
                <a:latin typeface="Arial"/>
              </a:rPr>
              <a:t>“V.Good”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895480" y="5257800"/>
            <a:ext cx="129564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break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447920" y="5486400"/>
            <a:ext cx="129528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....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9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4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0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3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8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1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4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7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2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5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8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1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304920" y="304920"/>
            <a:ext cx="8762760" cy="5331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4.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witch stat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85800" y="91440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(القواعد الأساسية لإستخدام تعليمة الاختيار 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switch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04920" y="1676520"/>
            <a:ext cx="304560" cy="304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1447920"/>
            <a:ext cx="838224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When the 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value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in a 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case statement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matches the value of the switch-expression, the statements </a:t>
            </a:r>
            <a:r>
              <a:rPr b="1" i="1" lang="en-US" sz="2300" spc="-1" strike="noStrike">
                <a:solidFill>
                  <a:srgbClr val="00007d"/>
                </a:solidFill>
                <a:latin typeface="Arial"/>
              </a:rPr>
              <a:t>starting from this case are executed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until either a 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break statement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or the end of the switch statement is reached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80880" y="3276720"/>
            <a:ext cx="830592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عندما يتم مقارنة </a:t>
            </a:r>
            <a:r>
              <a:rPr b="1" lang="ar-SA" sz="2400" spc="-1" strike="noStrike">
                <a:solidFill>
                  <a:srgbClr val="0000ff"/>
                </a:solidFill>
                <a:latin typeface="Arial"/>
              </a:rPr>
              <a:t>القيمة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مع الخيارات المتاحة يتم المرور على </a:t>
            </a:r>
            <a:r>
              <a:rPr b="1" lang="ar-SA" sz="2400" spc="-1" strike="noStrike">
                <a:solidFill>
                  <a:srgbClr val="00007d"/>
                </a:solidFill>
                <a:latin typeface="Arial"/>
              </a:rPr>
              <a:t>جميع القيم الموضحة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00007d"/>
                </a:solidFill>
                <a:latin typeface="Arial"/>
              </a:rPr>
              <a:t>بخيارت الـ 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switch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400" spc="-1" strike="noStrike" u="sng">
                <a:solidFill>
                  <a:srgbClr val="000000"/>
                </a:solidFill>
                <a:uFillTx/>
                <a:latin typeface="Arial"/>
              </a:rPr>
              <a:t>ومقارنتها مع القيمة المُدخلة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الى أن يتم تنفيذ الخيار المناظر للقيمة </a:t>
            </a:r>
            <a:r>
              <a:rPr b="1" lang="ar-SA" sz="2400" spc="-1" strike="noStrike">
                <a:solidFill>
                  <a:srgbClr val="00007d"/>
                </a:solidFill>
                <a:latin typeface="Arial"/>
              </a:rPr>
              <a:t>وانهاء التنفيذ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من خلال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الـكلمة المحجوزة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break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أو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الوصول لنهاية التنفيذ لتعليمة الاختيار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witch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304920" y="304920"/>
            <a:ext cx="8762760" cy="5331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4.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witch stat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685800" y="91440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(القواعد الأساسية لإستخدام تعليمة الاختيار 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switch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04920" y="1523880"/>
            <a:ext cx="30456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09480" y="1523880"/>
            <a:ext cx="83822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The keyword 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break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is 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optional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. The break statement immediately ends the switch statement.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2438280"/>
            <a:ext cx="8305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000000"/>
                </a:solidFill>
                <a:latin typeface="Arial"/>
              </a:rPr>
              <a:t>استخدام الـكلمة المحجوزة 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break</a:t>
            </a:r>
            <a:r>
              <a:rPr b="1" lang="ar-SA" sz="2300" spc="-1" strike="noStrike">
                <a:solidFill>
                  <a:srgbClr val="000000"/>
                </a:solidFill>
                <a:latin typeface="Arial"/>
              </a:rPr>
              <a:t> ( </a:t>
            </a:r>
            <a:r>
              <a:rPr b="1" lang="ar-SA" sz="2300" spc="-1" strike="noStrike">
                <a:solidFill>
                  <a:srgbClr val="ff0000"/>
                </a:solidFill>
                <a:latin typeface="Arial"/>
              </a:rPr>
              <a:t>أختيارى</a:t>
            </a:r>
            <a:r>
              <a:rPr b="1" lang="ar-SA" sz="2300" spc="-1" strike="noStrike">
                <a:solidFill>
                  <a:srgbClr val="000000"/>
                </a:solidFill>
                <a:latin typeface="Arial"/>
              </a:rPr>
              <a:t>) ويكون ذلك وفقاً لطبيعة عمل البرنامج،  وفى حالة استخدامها تقوم بإنهاء تنفيذ تعليمة الاختيار 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switch</a:t>
            </a:r>
            <a:r>
              <a:rPr b="1" lang="ar-SA" sz="23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ar-SA" sz="2300" spc="-1" strike="noStrike">
                <a:solidFill>
                  <a:srgbClr val="000000"/>
                </a:solidFill>
                <a:latin typeface="Arial"/>
              </a:rPr>
              <a:t>بعد تنفيذ التعليمات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04920" y="3733920"/>
            <a:ext cx="304560" cy="304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09480" y="373392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default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case is 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optional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, can be used to perform actions when </a:t>
            </a:r>
            <a:r>
              <a:rPr b="1" i="1" lang="en-US" sz="2300" spc="-1" strike="noStrike">
                <a:solidFill>
                  <a:srgbClr val="ff0000"/>
                </a:solidFill>
                <a:latin typeface="Arial"/>
              </a:rPr>
              <a:t>none of the specified cases matches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the 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switch-expression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85800" y="5105520"/>
            <a:ext cx="79246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000000"/>
                </a:solidFill>
                <a:latin typeface="Arial"/>
              </a:rPr>
              <a:t>استخدام الـ 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default</a:t>
            </a:r>
            <a:r>
              <a:rPr b="1" lang="ar-SA" sz="23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ar-SA" sz="2300" spc="-1" strike="noStrike">
                <a:solidFill>
                  <a:srgbClr val="ff0000"/>
                </a:solidFill>
                <a:latin typeface="Arial"/>
              </a:rPr>
              <a:t>اختيارى</a:t>
            </a:r>
            <a:r>
              <a:rPr b="1" lang="ar-SA" sz="2300" spc="-1" strike="noStrike">
                <a:solidFill>
                  <a:srgbClr val="000000"/>
                </a:solidFill>
                <a:latin typeface="Arial"/>
              </a:rPr>
              <a:t>)، حيث تستخدم لإعطاء </a:t>
            </a:r>
            <a:r>
              <a:rPr b="1" lang="ar-SA" sz="2300" spc="-1" strike="noStrike">
                <a:solidFill>
                  <a:srgbClr val="0000ff"/>
                </a:solidFill>
                <a:latin typeface="Arial"/>
              </a:rPr>
              <a:t>قيمة افتراضية</a:t>
            </a:r>
            <a:r>
              <a:rPr b="1" lang="ar-SA" sz="2300" spc="-1" strike="noStrike">
                <a:solidFill>
                  <a:srgbClr val="000000"/>
                </a:solidFill>
                <a:latin typeface="Arial"/>
              </a:rPr>
              <a:t> يتم تنفيذها </a:t>
            </a:r>
            <a:r>
              <a:rPr b="1" lang="ar-SA" sz="2300" spc="-1" strike="noStrike">
                <a:solidFill>
                  <a:srgbClr val="ff0000"/>
                </a:solidFill>
                <a:latin typeface="Arial"/>
              </a:rPr>
              <a:t>فى حالة عدم مطابقة الخيار المُدخل</a:t>
            </a:r>
            <a:r>
              <a:rPr b="1" lang="ar-SA" sz="2300" spc="-1" strike="noStrike">
                <a:solidFill>
                  <a:srgbClr val="000000"/>
                </a:solidFill>
                <a:latin typeface="Arial"/>
              </a:rPr>
              <a:t> مع </a:t>
            </a:r>
            <a:r>
              <a:rPr b="1" lang="ar-SA" sz="2300" spc="-1" strike="noStrike" u="sng">
                <a:solidFill>
                  <a:srgbClr val="000000"/>
                </a:solidFill>
                <a:uFillTx/>
                <a:latin typeface="Arial"/>
              </a:rPr>
              <a:t>قيمة الخيارات الموضحة بتعليمة </a:t>
            </a:r>
            <a:r>
              <a:rPr b="1" lang="en-US" sz="2300" spc="-1" strike="noStrike" u="sng">
                <a:solidFill>
                  <a:srgbClr val="000000"/>
                </a:solidFill>
                <a:uFillTx/>
                <a:latin typeface="Arial"/>
              </a:rPr>
              <a:t>switch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3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6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9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19T13:40:41Z</dcterms:created>
  <dc:creator>SUST</dc:creator>
  <dc:description/>
  <dc:language>en-US</dc:language>
  <cp:lastModifiedBy>Yahia</cp:lastModifiedBy>
  <dcterms:modified xsi:type="dcterms:W3CDTF">2011-05-05T07:20:50Z</dcterms:modified>
  <cp:revision>1930</cp:revision>
  <dc:subject>Programming Fundamentals</dc:subject>
  <dc:title>Primitive Data Type</dc:title>
</cp:coreProperties>
</file>