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4964-2240-4916-A37E-4F14808292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5121-B25E-4D0A-BA06-9A158BB6F5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A153-A62C-4064-863A-72D1A6379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CC5E-BD56-4FCC-BD51-E50B8B020B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0039-8C45-45D4-97B4-704E41C8EE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F935-B871-414F-B75B-7E3AE9A1A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680F-CE6F-40FC-904B-B4EE804D4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7E37-CB31-4DB7-A267-D40847696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6AA8-6F20-4779-BEF6-D5DE724F7B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0584-5B24-4ED3-B670-B41C6D14D1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B659-5461-4739-9ADC-0BA71E030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DA5A-2588-4932-A02A-C6B30CD39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CDDE-8C0D-4B91-9F6E-0E8E301A684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6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حروف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10276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مقارنة القيم المخزنة بعناصر المصفوفة لتحديد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حرف ال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474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074600"/>
            <a:ext cx="8458200" cy="243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433512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3275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81916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حساب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عدد مرات تكرار الحرف الأكب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حروف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1240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733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05740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cha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5909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حرف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37634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4120" y="4114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406800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24120" y="44355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4358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24120" y="4726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57445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324120" y="61117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91320" y="3276720"/>
            <a:ext cx="533160" cy="655560"/>
            <a:chOff x="5791320" y="3276720"/>
            <a:chExt cx="533160" cy="655560"/>
          </a:xfrm>
        </p:grpSpPr>
        <p:sp>
          <p:nvSpPr>
            <p:cNvPr id="272" name=""/>
            <p:cNvSpPr/>
            <p:nvPr/>
          </p:nvSpPr>
          <p:spPr>
            <a:xfrm>
              <a:off x="5791320" y="3276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9920" y="3703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705720" y="541008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705720" y="569736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705720" y="59832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604944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324120" y="6416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2280" y="57852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بعد إسناد القيم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Char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مرور على كل عناصر المصفوف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إيجاد الحرف الاكب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ب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289548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6761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43800" y="2133720"/>
            <a:ext cx="1143000" cy="3749400"/>
            <a:chOff x="7543800" y="2133720"/>
            <a:chExt cx="1143000" cy="3749400"/>
          </a:xfrm>
        </p:grpSpPr>
        <p:sp>
          <p:nvSpPr>
            <p:cNvPr id="294" name=""/>
            <p:cNvSpPr/>
            <p:nvPr/>
          </p:nvSpPr>
          <p:spPr>
            <a:xfrm flipV="1">
              <a:off x="7543800" y="21337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543800" y="25113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43800" y="288684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43800" y="3265560"/>
              <a:ext cx="1143000" cy="107784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43800" y="432900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3800" y="472356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543800" y="510552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543800" y="548640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143000" y="34290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44956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396216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1055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133000"/>
            <a:ext cx="71629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بأول عنص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280" y="6850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رة أخرى 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حساب عدد مرات تكر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حرف الاكبر ب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98108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981080"/>
            <a:ext cx="221004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2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543800" y="1523880"/>
            <a:ext cx="1143000" cy="3749400"/>
            <a:chOff x="7543800" y="1523880"/>
            <a:chExt cx="1143000" cy="3749400"/>
          </a:xfrm>
        </p:grpSpPr>
        <p:sp>
          <p:nvSpPr>
            <p:cNvPr id="313" name=""/>
            <p:cNvSpPr/>
            <p:nvPr/>
          </p:nvSpPr>
          <p:spPr>
            <a:xfrm flipV="1">
              <a:off x="7543800" y="152388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43800" y="190152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543800" y="227700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43800" y="2655720"/>
              <a:ext cx="1143000" cy="107784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543800" y="37191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543800" y="411372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543800" y="449568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543800" y="48765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143000" y="25146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2895120"/>
            <a:ext cx="5715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s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حرف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عدد مرات تكر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41911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47242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char is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524196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char’s  duplication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328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5318280"/>
            <a:ext cx="3047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432756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cha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9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حرف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361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2819160"/>
            <a:ext cx="47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4800600"/>
            <a:ext cx="60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380880" y="762120"/>
            <a:ext cx="8534160" cy="5333400"/>
            <a:chOff x="380880" y="762120"/>
            <a:chExt cx="8534160" cy="5333400"/>
          </a:xfrm>
        </p:grpSpPr>
        <p:sp>
          <p:nvSpPr>
            <p:cNvPr id="344" name=""/>
            <p:cNvSpPr/>
            <p:nvPr/>
          </p:nvSpPr>
          <p:spPr>
            <a:xfrm>
              <a:off x="380880" y="1108080"/>
              <a:ext cx="8534160" cy="49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880" y="762120"/>
              <a:ext cx="8534160" cy="345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371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لمرور على القيم المخزنة بالمصفوفة لإيجاد الحرف الأكب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5909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6720" y="2590920"/>
            <a:ext cx="236196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312408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41911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6572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8006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1752120"/>
            <a:ext cx="7543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بأول عنصر بالمصفو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356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حساب عدد مرات تكرار الحرف الأكبر بالمصفوف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19810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1981080"/>
            <a:ext cx="236196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25146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C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35053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00200" y="30477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0384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13712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57200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char is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0896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char’s  duplication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6095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5638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2280" y="571680"/>
            <a:ext cx="8686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ملحوظة هام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: عندما تكون المصفوفة معرفة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مكن طباعة محتويات هذه المصفوفة  من خلال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عبارة واحدة فقط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كما يل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238880" y="2209680"/>
            <a:ext cx="1143000" cy="2300040"/>
            <a:chOff x="7238880" y="2209680"/>
            <a:chExt cx="1143000" cy="2300040"/>
          </a:xfrm>
        </p:grpSpPr>
        <p:sp>
          <p:nvSpPr>
            <p:cNvPr id="374" name=""/>
            <p:cNvSpPr/>
            <p:nvPr/>
          </p:nvSpPr>
          <p:spPr>
            <a:xfrm flipV="1">
              <a:off x="7238880" y="220968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238880" y="258732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238880" y="296280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38880" y="335268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238880" y="37335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38880" y="411444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838080" y="2895480"/>
            <a:ext cx="4114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2133720"/>
            <a:ext cx="5105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]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ity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{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, '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' }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213372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4610160"/>
            <a:ext cx="8381880" cy="161604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مكن إستخدام هذه العبارة عندما تكون المصفوفة معرفة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قط،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ولايتم استخدامها مع أنواع البيانات الأخرى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حيث يتم طباعة محتويات المصفوفة بإستخدام الحلقة التكراري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762120"/>
            <a:ext cx="8458200" cy="5715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237024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29034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42750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34365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4732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7621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 9, 6, 3, 5, 7, 8, 9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7696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3028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0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18363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nde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38937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51814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69916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3429000"/>
            <a:ext cx="2666880" cy="1295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36266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67280" y="4266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3245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762120"/>
            <a:ext cx="8458200" cy="5715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ماهو ناتج تنفيذ البرنامج التالى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37024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2903400"/>
            <a:ext cx="4496040" cy="519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42750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34365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4732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7621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 9, 6, 3, 5, 7, 8, 9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7696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3028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0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8363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nde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00200" y="38937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18148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569916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3429000"/>
            <a:ext cx="2666880" cy="12952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36266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4266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32457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.3.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ocessing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pying Arr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43828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assing Arrays to Metho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06216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turning an Array from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7339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762120"/>
            <a:ext cx="84582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أعداد(من النوع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أعداد بالمصفوفة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نسخ محتويات المصفوفة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ها بالمصفوف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ثم طباعة محتويات 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لى شاشة التنفي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 6.3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26668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2666880"/>
            <a:ext cx="3581640" cy="312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2148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3025440"/>
            <a:ext cx="3276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ements of B are :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3641040"/>
            <a:ext cx="327672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1.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5.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6.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8.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.5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266688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38242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.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443376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50436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2590920"/>
            <a:ext cx="4267080" cy="32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1027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89512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نسخ محتويات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خزينها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33220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1074600"/>
            <a:ext cx="8458200" cy="243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41828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417528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4932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936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555444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554688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341316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12193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41148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28600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28195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Floa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17668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3900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324120" y="4114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420516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324120" y="44355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4956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324120" y="4726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10080" y="48150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11956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791320" y="3276720"/>
            <a:ext cx="533160" cy="655560"/>
            <a:chOff x="5791320" y="3276720"/>
            <a:chExt cx="533160" cy="655560"/>
          </a:xfrm>
        </p:grpSpPr>
        <p:sp>
          <p:nvSpPr>
            <p:cNvPr id="468" name=""/>
            <p:cNvSpPr/>
            <p:nvPr/>
          </p:nvSpPr>
          <p:spPr>
            <a:xfrm>
              <a:off x="5791320" y="3276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19920" y="3703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295280" y="182880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243828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8544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نسخ محتويات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خزينها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590920" y="3657600"/>
            <a:ext cx="1143000" cy="2056680"/>
            <a:chOff x="2590920" y="3657600"/>
            <a:chExt cx="1143000" cy="2056680"/>
          </a:xfrm>
        </p:grpSpPr>
        <p:sp>
          <p:nvSpPr>
            <p:cNvPr id="482" name=""/>
            <p:cNvSpPr/>
            <p:nvPr/>
          </p:nvSpPr>
          <p:spPr>
            <a:xfrm flipV="1">
              <a:off x="2590920" y="365760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590920" y="406404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590920" y="447192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590920" y="487908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90920" y="528588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62120" y="3505320"/>
            <a:ext cx="1752120" cy="427680"/>
            <a:chOff x="762120" y="3505320"/>
            <a:chExt cx="1752120" cy="427680"/>
          </a:xfrm>
        </p:grpSpPr>
        <p:sp>
          <p:nvSpPr>
            <p:cNvPr id="488" name=""/>
            <p:cNvSpPr/>
            <p:nvPr/>
          </p:nvSpPr>
          <p:spPr>
            <a:xfrm>
              <a:off x="762120" y="3505320"/>
              <a:ext cx="12189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1080" y="365760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562720" y="3657600"/>
            <a:ext cx="1143000" cy="2056680"/>
            <a:chOff x="5562720" y="3657600"/>
            <a:chExt cx="1143000" cy="2056680"/>
          </a:xfrm>
        </p:grpSpPr>
        <p:sp>
          <p:nvSpPr>
            <p:cNvPr id="491" name=""/>
            <p:cNvSpPr/>
            <p:nvPr/>
          </p:nvSpPr>
          <p:spPr>
            <a:xfrm flipV="1">
              <a:off x="5562720" y="365760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562720" y="406404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562720" y="447192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562720" y="487908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562720" y="528588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705360" y="3581280"/>
            <a:ext cx="1829160" cy="427680"/>
            <a:chOff x="6705360" y="3581280"/>
            <a:chExt cx="1829160" cy="427680"/>
          </a:xfrm>
        </p:grpSpPr>
        <p:sp>
          <p:nvSpPr>
            <p:cNvPr id="497" name=""/>
            <p:cNvSpPr/>
            <p:nvPr/>
          </p:nvSpPr>
          <p:spPr>
            <a:xfrm>
              <a:off x="7315200" y="3581280"/>
              <a:ext cx="12193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05360" y="3733920"/>
              <a:ext cx="609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648320" y="3641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40384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432720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8320" y="487656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525744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562720" y="365688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62720" y="406476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562720" y="447120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562720" y="487908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562720" y="528552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105520" y="2925720"/>
            <a:ext cx="533160" cy="655560"/>
            <a:chOff x="5105520" y="2925720"/>
            <a:chExt cx="533160" cy="655560"/>
          </a:xfrm>
        </p:grpSpPr>
        <p:sp>
          <p:nvSpPr>
            <p:cNvPr id="510" name=""/>
            <p:cNvSpPr/>
            <p:nvPr/>
          </p:nvSpPr>
          <p:spPr>
            <a:xfrm>
              <a:off x="5105520" y="2925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4120" y="3352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114800" y="3733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14800" y="4114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4952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5410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21932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33520" y="312408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685440"/>
            <a:ext cx="845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محتويات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562720" y="3657600"/>
            <a:ext cx="1143000" cy="2056680"/>
            <a:chOff x="5562720" y="3657600"/>
            <a:chExt cx="1143000" cy="2056680"/>
          </a:xfrm>
        </p:grpSpPr>
        <p:sp>
          <p:nvSpPr>
            <p:cNvPr id="522" name=""/>
            <p:cNvSpPr/>
            <p:nvPr/>
          </p:nvSpPr>
          <p:spPr>
            <a:xfrm flipV="1">
              <a:off x="5562720" y="365760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562720" y="406404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562720" y="447192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562720" y="4879080"/>
              <a:ext cx="1143000" cy="42840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562720" y="5285880"/>
              <a:ext cx="1143000" cy="42804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705360" y="3581280"/>
            <a:ext cx="1829160" cy="427680"/>
            <a:chOff x="6705360" y="3581280"/>
            <a:chExt cx="1829160" cy="427680"/>
          </a:xfrm>
        </p:grpSpPr>
        <p:sp>
          <p:nvSpPr>
            <p:cNvPr id="528" name=""/>
            <p:cNvSpPr/>
            <p:nvPr/>
          </p:nvSpPr>
          <p:spPr>
            <a:xfrm>
              <a:off x="7315200" y="3581280"/>
              <a:ext cx="121932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360" y="3733920"/>
              <a:ext cx="609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4648320" y="3641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48320" y="40384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32720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487656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525744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562720" y="365688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562720" y="406476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562720" y="447120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562720" y="4879080"/>
            <a:ext cx="1143000" cy="427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562720" y="5285520"/>
            <a:ext cx="1143000" cy="428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105520" y="2925720"/>
            <a:ext cx="533160" cy="655560"/>
            <a:chOff x="5105520" y="2925720"/>
            <a:chExt cx="533160" cy="655560"/>
          </a:xfrm>
        </p:grpSpPr>
        <p:sp>
          <p:nvSpPr>
            <p:cNvPr id="541" name=""/>
            <p:cNvSpPr/>
            <p:nvPr/>
          </p:nvSpPr>
          <p:spPr>
            <a:xfrm>
              <a:off x="5105520" y="2925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34120" y="3352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38080" y="25146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12193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lements of  B  are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19810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547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Cop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Cop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6668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5318280"/>
            <a:ext cx="3047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432756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39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2437920"/>
            <a:ext cx="47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24379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9072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4800600"/>
            <a:ext cx="60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Floa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2895120"/>
            <a:ext cx="47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14400" y="28951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564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Cop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سخ القيم المخزنة ب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080" y="167652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00200" y="22093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2743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09680" y="304812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5029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4495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lements of  B  are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6095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5638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0384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 نسخ عناصر المصفوفة و تخزينها بمصفوفة أُخر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57200" y="91440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520" y="1066680"/>
            <a:ext cx="8305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 اكتب برنامج يقوم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بتولي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5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عشوائي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 النوع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المدى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9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اعداد بالمصفوف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نداء الدال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تى تقوم بإستقبال 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طباعة القيم المخزنة بها على شاشة التنفي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 to Methods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إرسال مصفوفة للدوال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2895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3300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03812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وليد أعداد عشوائية وتخزينها بالمصفوف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320" y="438876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ستقوم بإستقبال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طباعة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520" y="563760"/>
            <a:ext cx="8305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151560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150804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 to Methods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إرسال مصفوفة للدوال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95280" y="25066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توليد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أعداد عشوائ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خزينها بالمصفوفة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31240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37796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10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44197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4. Passing Array to Methods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إرسال مصفوفة للدوال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3464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9072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6548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كتابة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ستقوم بإستقبال وطباعة 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1644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90920" y="1644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05320" y="16444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164448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3048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" y="419112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880" y="1523880"/>
            <a:ext cx="792504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9144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9144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5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اعداد ب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المتوسط الحسابى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لتلك الا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عد تخزينها بالمصفوفة وطباعة النتيجة على شاشة التنفي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.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048120"/>
            <a:ext cx="3657600" cy="335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5956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14324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6767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.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195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.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71500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Average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43180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إفتراض أن المستخدم قام بإدخال القيم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605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16002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9480" y="5867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توليد عدد عشوائى فى المدى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99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2133360"/>
            <a:ext cx="47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21333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إرسال مصفوفة للدالة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26668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47920" y="3580920"/>
            <a:ext cx="69339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10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41911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95280" y="473868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رسال 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Arr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printArr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طباعة محتوياتها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5104440"/>
            <a:ext cx="73915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Arr );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نداء الدالة من خلال إرسال اسم المصفوف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620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286000" y="114300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printArr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" y="5181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: إرسال مصفوفة للدالة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5280" y="2346480"/>
            <a:ext cx="7925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1644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95480" y="1644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16444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164448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304812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2120" y="419112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600200"/>
            <a:ext cx="739116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5. Returning an Array from Metho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7614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17136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نجد أنه يمكن أن يت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رجاع 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تنفيذ الدالة، أى ان يكون ناتج تنفيذ الدالة عبارة عن 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9480" y="24829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666880" y="2482920"/>
            <a:ext cx="1219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[ 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7600" y="248292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d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2482920"/>
            <a:ext cx="3353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5927760"/>
            <a:ext cx="3886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" y="2438280"/>
            <a:ext cx="7924680" cy="403884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141660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17136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لى سبيل المثال: يمكننا تعريف الدال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adAr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قوم بإرجاع مصفوفة بعد تخزي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قيم عشوائ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ها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47920" y="40384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توليد عدد عشوائى فى المدى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99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356544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419360"/>
            <a:ext cx="67053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10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49528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5310720"/>
            <a:ext cx="6782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ارجاع المصفوفة بعد تخزين القيم بها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3040200"/>
            <a:ext cx="4724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r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30477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651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95280" y="35956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محتويات 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19320" y="2879640"/>
            <a:ext cx="1752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[ ]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B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2879640"/>
            <a:ext cx="2666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read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);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): إرجاع مصفوفة عند تنفيذ الدال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371600" y="237636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نداء الدالة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readArr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تخزين القيم بالمصفوف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0720" y="409896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90720" y="51814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46483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2644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حساب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المتوسط الحساب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قيم المخزنة بعناصر المصفوفة وطباعة النتيج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7122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074600"/>
            <a:ext cx="84582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398040"/>
            <a:ext cx="44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5733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05720" y="4495320"/>
            <a:ext cx="1143000" cy="1447920"/>
            <a:chOff x="6705720" y="4495320"/>
            <a:chExt cx="1143000" cy="1447920"/>
          </a:xfrm>
        </p:grpSpPr>
        <p:sp>
          <p:nvSpPr>
            <p:cNvPr id="131" name=""/>
            <p:cNvSpPr/>
            <p:nvPr/>
          </p:nvSpPr>
          <p:spPr>
            <a:xfrm flipV="1">
              <a:off x="6705720" y="44949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705720" y="478224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705720" y="50680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705720" y="535464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705720" y="564228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76920" y="4343400"/>
            <a:ext cx="1752120" cy="427680"/>
            <a:chOff x="4876920" y="4343400"/>
            <a:chExt cx="1752120" cy="427680"/>
          </a:xfrm>
        </p:grpSpPr>
        <p:sp>
          <p:nvSpPr>
            <p:cNvPr id="137" name=""/>
            <p:cNvSpPr/>
            <p:nvPr/>
          </p:nvSpPr>
          <p:spPr>
            <a:xfrm>
              <a:off x="4876920" y="4343400"/>
              <a:ext cx="12189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yAr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449568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608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886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13372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6668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00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324120" y="4114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2051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24120" y="44355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44956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24120" y="4726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8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1195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791320" y="3276720"/>
            <a:ext cx="533160" cy="655560"/>
            <a:chOff x="5791320" y="3276720"/>
            <a:chExt cx="533160" cy="655560"/>
          </a:xfrm>
        </p:grpSpPr>
        <p:sp>
          <p:nvSpPr>
            <p:cNvPr id="162" name=""/>
            <p:cNvSpPr/>
            <p:nvPr/>
          </p:nvSpPr>
          <p:spPr>
            <a:xfrm>
              <a:off x="5791320" y="327672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920" y="370368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6705720" y="3962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05720" y="4249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705720" y="4534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705720" y="4822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05720" y="5108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85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مرور على كل عناصر المصفوف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حساب المتوسط الحساب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2860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286000"/>
            <a:ext cx="221004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7616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391520" y="2362320"/>
            <a:ext cx="1143000" cy="1904760"/>
            <a:chOff x="7391520" y="2362320"/>
            <a:chExt cx="1143000" cy="1904760"/>
          </a:xfrm>
        </p:grpSpPr>
        <p:sp>
          <p:nvSpPr>
            <p:cNvPr id="175" name=""/>
            <p:cNvSpPr/>
            <p:nvPr/>
          </p:nvSpPr>
          <p:spPr>
            <a:xfrm flipV="1">
              <a:off x="7391520" y="23623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391520" y="27399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91520" y="3115440"/>
              <a:ext cx="1143000" cy="3970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91520" y="3494160"/>
              <a:ext cx="1143000" cy="39528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391520" y="38703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371600" y="29714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5812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296960"/>
            <a:ext cx="655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Avg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8769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 Average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186" name="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Avg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Avg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318280"/>
            <a:ext cx="3047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32756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784760"/>
            <a:ext cx="60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390060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1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819160"/>
            <a:ext cx="472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202" name="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Avg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لمرور على القيم المخزنة بالمصفوفة لحساب المتوسط الحسابى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2578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7652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22093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39625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Average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Av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7432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6483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42864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Avg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حساب المتوس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685800"/>
            <a:ext cx="84582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روف(من النوع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حروف بالمصفوف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myCha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Arial"/>
              </a:rPr>
              <a:t>الحرف الأكبر من بين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تلك الحروف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عدد مرات تكرار هذا الحرف داخل المصفوف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286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286000"/>
            <a:ext cx="236196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666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4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824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2670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46483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5043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4244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58053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3420720"/>
            <a:ext cx="3276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max char is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W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3939840"/>
            <a:ext cx="3276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ar’s duplication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2860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86000"/>
            <a:ext cx="22860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6668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06216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34434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382428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267080"/>
            <a:ext cx="2362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464832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5043600"/>
            <a:ext cx="3353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5424480"/>
            <a:ext cx="228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5805360"/>
            <a:ext cx="228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cha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95740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ناتج التنفي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7-03T14:09:14Z</dcterms:modified>
  <cp:revision>3219</cp:revision>
  <dc:subject>Programming Fundamentals</dc:subject>
  <dc:title>Chapter5: Methods</dc:title>
</cp:coreProperties>
</file>