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6BB13-612B-4200-B5E0-93A6BA80C2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C6941-B4BB-4CF8-A172-249045BEF1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54811-42D8-45D6-A9A3-59DACE0F5F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8DA0B-FE76-44F2-B880-9CC7D715B0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79E28-31C2-47B9-93C4-0408188712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90777-8B15-48CF-B49D-C6DE389B4E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AE410-E30E-4487-B8B4-709316B457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77935-7006-4D3C-97EC-CB90A76A8D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05D45-9FEB-408C-9222-059E296045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DED62-05FF-485E-AE82-64735D34F7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16E0E-DE5B-49BE-ABF2-3D76D216F1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8899A-FEAC-4E62-A05D-E219ADCD6C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51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B6A6-6E8C-449F-98F5-2301CBAA692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1448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3048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ontrol struc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Loop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(4)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2193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سلسل تنفيذ البرنامج لطباعة الأعداد من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19520" y="2286000"/>
            <a:ext cx="2590560" cy="14479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886200" y="5791320"/>
            <a:ext cx="304560" cy="609480"/>
            <a:chOff x="3886200" y="5791320"/>
            <a:chExt cx="304560" cy="609480"/>
          </a:xfrm>
        </p:grpSpPr>
        <p:sp>
          <p:nvSpPr>
            <p:cNvPr id="239" name=""/>
            <p:cNvSpPr/>
            <p:nvPr/>
          </p:nvSpPr>
          <p:spPr>
            <a:xfrm>
              <a:off x="3886200" y="6096240"/>
              <a:ext cx="304560" cy="30456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38480" y="57913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362320" y="4267080"/>
            <a:ext cx="4267080" cy="99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 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num  +  “-”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276720" y="3733920"/>
            <a:ext cx="838080" cy="533160"/>
            <a:chOff x="3276720" y="3733920"/>
            <a:chExt cx="838080" cy="533160"/>
          </a:xfrm>
        </p:grpSpPr>
        <p:sp>
          <p:nvSpPr>
            <p:cNvPr id="243" name=""/>
            <p:cNvSpPr/>
            <p:nvPr/>
          </p:nvSpPr>
          <p:spPr>
            <a:xfrm>
              <a:off x="4114800" y="373392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76720" y="373392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038120" y="3048120"/>
            <a:ext cx="2819520" cy="2742840"/>
            <a:chOff x="4038120" y="3048120"/>
            <a:chExt cx="2819520" cy="2742840"/>
          </a:xfrm>
        </p:grpSpPr>
        <p:sp>
          <p:nvSpPr>
            <p:cNvPr id="246" name=""/>
            <p:cNvSpPr/>
            <p:nvPr/>
          </p:nvSpPr>
          <p:spPr>
            <a:xfrm>
              <a:off x="5398920" y="3048120"/>
              <a:ext cx="145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57640" y="3048120"/>
              <a:ext cx="0" cy="27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038120" y="5790960"/>
              <a:ext cx="2819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5570640" y="266688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85080" y="2057400"/>
            <a:ext cx="3429000" cy="2666880"/>
            <a:chOff x="685080" y="2057400"/>
            <a:chExt cx="3429000" cy="2666880"/>
          </a:xfrm>
        </p:grpSpPr>
        <p:grpSp>
          <p:nvGrpSpPr>
            <p:cNvPr id="251" name=""/>
            <p:cNvGrpSpPr/>
            <p:nvPr/>
          </p:nvGrpSpPr>
          <p:grpSpPr>
            <a:xfrm>
              <a:off x="685800" y="2057400"/>
              <a:ext cx="1645920" cy="2666880"/>
              <a:chOff x="685800" y="2057400"/>
              <a:chExt cx="1645920" cy="2666880"/>
            </a:xfrm>
          </p:grpSpPr>
          <p:sp>
            <p:nvSpPr>
              <p:cNvPr id="252" name=""/>
              <p:cNvSpPr/>
              <p:nvPr/>
            </p:nvSpPr>
            <p:spPr>
              <a:xfrm flipH="1">
                <a:off x="685800" y="4724280"/>
                <a:ext cx="164592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685800" y="2057400"/>
                <a:ext cx="0" cy="2666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685080" y="205740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800240" y="1660680"/>
            <a:ext cx="3962160" cy="1234800"/>
            <a:chOff x="4800240" y="1660680"/>
            <a:chExt cx="3962160" cy="1234800"/>
          </a:xfrm>
        </p:grpSpPr>
        <p:grpSp>
          <p:nvGrpSpPr>
            <p:cNvPr id="256" name=""/>
            <p:cNvGrpSpPr/>
            <p:nvPr/>
          </p:nvGrpSpPr>
          <p:grpSpPr>
            <a:xfrm>
              <a:off x="5434200" y="1660680"/>
              <a:ext cx="3328200" cy="1073520"/>
              <a:chOff x="5434200" y="1660680"/>
              <a:chExt cx="3328200" cy="1073520"/>
            </a:xfrm>
          </p:grpSpPr>
          <p:sp>
            <p:nvSpPr>
              <p:cNvPr id="257" name=""/>
              <p:cNvSpPr/>
              <p:nvPr/>
            </p:nvSpPr>
            <p:spPr>
              <a:xfrm>
                <a:off x="5537880" y="1660680"/>
                <a:ext cx="3120480" cy="9302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434200" y="1726920"/>
                <a:ext cx="332820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شرط تنفيذ الحلقة أن تكون قيمة المتغي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um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أقل من أو تساوى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 flipH="1">
              <a:off x="4800240" y="2438280"/>
              <a:ext cx="713160" cy="457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838080" y="2330280"/>
            <a:ext cx="1600200" cy="100728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واصلة التنفيذ لحلق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295280"/>
            <a:ext cx="205740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 =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1828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57200" y="914400"/>
            <a:ext cx="2666880" cy="1312200"/>
            <a:chOff x="457200" y="914400"/>
            <a:chExt cx="2666880" cy="1312200"/>
          </a:xfrm>
        </p:grpSpPr>
        <p:sp>
          <p:nvSpPr>
            <p:cNvPr id="264" name=""/>
            <p:cNvSpPr/>
            <p:nvPr/>
          </p:nvSpPr>
          <p:spPr>
            <a:xfrm>
              <a:off x="457200" y="914400"/>
              <a:ext cx="1981080" cy="131220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الابتدائية لبداية تنفيذ حلقة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h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38280" y="1295280"/>
              <a:ext cx="68580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85800" y="5117760"/>
            <a:ext cx="2362320" cy="1572840"/>
            <a:chOff x="685800" y="5117760"/>
            <a:chExt cx="2362320" cy="1572840"/>
          </a:xfrm>
        </p:grpSpPr>
        <p:sp>
          <p:nvSpPr>
            <p:cNvPr id="267" name=""/>
            <p:cNvSpPr/>
            <p:nvPr/>
          </p:nvSpPr>
          <p:spPr>
            <a:xfrm>
              <a:off x="685800" y="5378400"/>
              <a:ext cx="2362320" cy="131220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زيادة قيمة المتغير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um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 بواحد بعد كل تكرار للحل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2133720" y="5117760"/>
              <a:ext cx="609480" cy="260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6668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76920" y="23623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5029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80880" y="838080"/>
            <a:ext cx="8305560" cy="5638680"/>
            <a:chOff x="380880" y="838080"/>
            <a:chExt cx="8305560" cy="5638680"/>
          </a:xfrm>
        </p:grpSpPr>
        <p:sp>
          <p:nvSpPr>
            <p:cNvPr id="275" name=""/>
            <p:cNvSpPr/>
            <p:nvPr/>
          </p:nvSpPr>
          <p:spPr>
            <a:xfrm>
              <a:off x="380880" y="1203840"/>
              <a:ext cx="8305560" cy="527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0880" y="838080"/>
              <a:ext cx="8305560" cy="3657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uess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76212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uess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17524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289548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um &lt;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350532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num + ”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4540320"/>
            <a:ext cx="71625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51814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2819520"/>
            <a:ext cx="7315200" cy="22860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2286000"/>
            <a:ext cx="6934320" cy="473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int  num = 1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571500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71600" y="4038480"/>
            <a:ext cx="1676520" cy="504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609480" y="1143000"/>
            <a:ext cx="8077320" cy="1218960"/>
            <a:chOff x="609480" y="1143000"/>
            <a:chExt cx="8077320" cy="1218960"/>
          </a:xfrm>
        </p:grpSpPr>
        <p:sp>
          <p:nvSpPr>
            <p:cNvPr id="288" name=""/>
            <p:cNvSpPr/>
            <p:nvPr/>
          </p:nvSpPr>
          <p:spPr>
            <a:xfrm>
              <a:off x="609480" y="1143000"/>
              <a:ext cx="8077320" cy="1218960"/>
            </a:xfrm>
            <a:prstGeom prst="rect">
              <a:avLst/>
            </a:prstGeom>
            <a:noFill/>
            <a:ln w="22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2120" y="1218960"/>
              <a:ext cx="77724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بإستخدام حلقة </a:t>
              </a:r>
              <a:r>
                <a:rPr b="1" i="1" lang="en-US" sz="2500" spc="-1" strike="noStrike">
                  <a:solidFill>
                    <a:srgbClr val="00007d"/>
                  </a:solidFill>
                  <a:latin typeface="Arial"/>
                </a:rPr>
                <a:t>while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،اكتب برنامج يقوم بطباعة الأعداد الفردية المحصورة فى المدى من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600" spc="-1" strike="noStrike" u="sng">
                  <a:solidFill>
                    <a:srgbClr val="000000"/>
                  </a:solidFill>
                  <a:uFillTx/>
                  <a:latin typeface="Arial"/>
                </a:rPr>
                <a:t>(</a:t>
              </a:r>
              <a:r>
                <a:rPr b="1" lang="ar-SA" sz="2600" spc="-1" strike="noStrike" u="sng">
                  <a:solidFill>
                    <a:srgbClr val="ff0000"/>
                  </a:solidFill>
                  <a:uFillTx/>
                  <a:latin typeface="Arial"/>
                </a:rPr>
                <a:t>ترتيبا تنازلياً</a:t>
              </a:r>
              <a:r>
                <a:rPr b="1" lang="ar-SA" sz="2600" spc="-1" strike="noStrike" u="sng">
                  <a:solidFill>
                    <a:srgbClr val="000000"/>
                  </a:solidFill>
                  <a:uFillTx/>
                  <a:latin typeface="Arial"/>
                </a:rPr>
                <a:t>)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 بحيث يكون ناتج تنفيذ البرنامج  كالآتى 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251460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odd number between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ar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4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4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4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4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4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39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1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14400" y="609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طباعة الاعداد الفردية بين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ترتيبا تنازليا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2286000"/>
            <a:ext cx="2590560" cy="83808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962520" y="6172200"/>
            <a:ext cx="304560" cy="533160"/>
            <a:chOff x="3962520" y="6172200"/>
            <a:chExt cx="304560" cy="533160"/>
          </a:xfrm>
        </p:grpSpPr>
        <p:sp>
          <p:nvSpPr>
            <p:cNvPr id="295" name=""/>
            <p:cNvSpPr/>
            <p:nvPr/>
          </p:nvSpPr>
          <p:spPr>
            <a:xfrm>
              <a:off x="3962520" y="6438960"/>
              <a:ext cx="304560" cy="26640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14800" y="61722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276720" y="3048120"/>
            <a:ext cx="838080" cy="442800"/>
            <a:chOff x="3276720" y="3048120"/>
            <a:chExt cx="838080" cy="442800"/>
          </a:xfrm>
        </p:grpSpPr>
        <p:sp>
          <p:nvSpPr>
            <p:cNvPr id="298" name=""/>
            <p:cNvSpPr/>
            <p:nvPr/>
          </p:nvSpPr>
          <p:spPr>
            <a:xfrm>
              <a:off x="4114800" y="310968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76720" y="304812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114800" y="2666880"/>
            <a:ext cx="2935440" cy="3505320"/>
            <a:chOff x="4114800" y="2666880"/>
            <a:chExt cx="2935440" cy="3505320"/>
          </a:xfrm>
        </p:grpSpPr>
        <p:sp>
          <p:nvSpPr>
            <p:cNvPr id="301" name=""/>
            <p:cNvSpPr/>
            <p:nvPr/>
          </p:nvSpPr>
          <p:spPr>
            <a:xfrm>
              <a:off x="5334120" y="2666880"/>
              <a:ext cx="1711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45200" y="2666880"/>
              <a:ext cx="5040" cy="350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4114800" y="6172200"/>
              <a:ext cx="293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5570640" y="228600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85080" y="2057400"/>
            <a:ext cx="3429000" cy="3733200"/>
            <a:chOff x="685080" y="2057400"/>
            <a:chExt cx="3429000" cy="3733200"/>
          </a:xfrm>
        </p:grpSpPr>
        <p:grpSp>
          <p:nvGrpSpPr>
            <p:cNvPr id="306" name=""/>
            <p:cNvGrpSpPr/>
            <p:nvPr/>
          </p:nvGrpSpPr>
          <p:grpSpPr>
            <a:xfrm>
              <a:off x="685800" y="2057400"/>
              <a:ext cx="2742480" cy="3733200"/>
              <a:chOff x="685800" y="2057400"/>
              <a:chExt cx="2742480" cy="3733200"/>
            </a:xfrm>
          </p:grpSpPr>
          <p:sp>
            <p:nvSpPr>
              <p:cNvPr id="307" name=""/>
              <p:cNvSpPr/>
              <p:nvPr/>
            </p:nvSpPr>
            <p:spPr>
              <a:xfrm flipH="1">
                <a:off x="685800" y="5790600"/>
                <a:ext cx="27424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685800" y="2057400"/>
                <a:ext cx="0" cy="373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685080" y="205740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029200" y="1219320"/>
            <a:ext cx="3504600" cy="1371240"/>
            <a:chOff x="5029200" y="1219320"/>
            <a:chExt cx="3504600" cy="1371240"/>
          </a:xfrm>
        </p:grpSpPr>
        <p:grpSp>
          <p:nvGrpSpPr>
            <p:cNvPr id="311" name=""/>
            <p:cNvGrpSpPr/>
            <p:nvPr/>
          </p:nvGrpSpPr>
          <p:grpSpPr>
            <a:xfrm>
              <a:off x="5589720" y="1219320"/>
              <a:ext cx="2944080" cy="1082520"/>
              <a:chOff x="5589720" y="1219320"/>
              <a:chExt cx="2944080" cy="1082520"/>
            </a:xfrm>
          </p:grpSpPr>
          <p:sp>
            <p:nvSpPr>
              <p:cNvPr id="312" name=""/>
              <p:cNvSpPr/>
              <p:nvPr/>
            </p:nvSpPr>
            <p:spPr>
              <a:xfrm>
                <a:off x="5681160" y="1219320"/>
                <a:ext cx="2760120" cy="103320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89720" y="1294560"/>
                <a:ext cx="294408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شرط تنفيذ الحلقة أن تكون قيمة المتغي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أكبر من أو تساوى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 flipH="1">
              <a:off x="5029200" y="2082960"/>
              <a:ext cx="630720" cy="507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838080" y="2330280"/>
            <a:ext cx="1600200" cy="100728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واصلة التنفيذ لحلق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8120" y="1295280"/>
            <a:ext cx="228600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50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14800" y="1828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066680" y="1066680"/>
            <a:ext cx="1981080" cy="702360"/>
            <a:chOff x="1066680" y="1066680"/>
            <a:chExt cx="1981080" cy="702360"/>
          </a:xfrm>
        </p:grpSpPr>
        <p:sp>
          <p:nvSpPr>
            <p:cNvPr id="319" name=""/>
            <p:cNvSpPr/>
            <p:nvPr/>
          </p:nvSpPr>
          <p:spPr>
            <a:xfrm>
              <a:off x="1066680" y="1066680"/>
              <a:ext cx="1471680" cy="70236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قيمة الابتدائ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8360" y="1447560"/>
              <a:ext cx="50940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429000" y="5562720"/>
            <a:ext cx="14479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--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11430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952880" y="2133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52680" y="5562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743200" y="3490920"/>
            <a:ext cx="2819520" cy="1066680"/>
          </a:xfrm>
          <a:prstGeom prst="flowChartDecision">
            <a:avLst/>
          </a:prstGeom>
          <a:solidFill>
            <a:srgbClr val="0000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if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x % 2 !=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38080" y="4495680"/>
            <a:ext cx="2895840" cy="457200"/>
          </a:xfrm>
          <a:prstGeom prst="rect">
            <a:avLst/>
          </a:prstGeom>
          <a:solidFill>
            <a:srgbClr val="0000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ystem.out.print (x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876560" y="4038480"/>
            <a:ext cx="1447920" cy="1752840"/>
            <a:chOff x="4876560" y="4038480"/>
            <a:chExt cx="1447920" cy="1752840"/>
          </a:xfrm>
        </p:grpSpPr>
        <p:sp>
          <p:nvSpPr>
            <p:cNvPr id="328" name=""/>
            <p:cNvSpPr/>
            <p:nvPr/>
          </p:nvSpPr>
          <p:spPr>
            <a:xfrm>
              <a:off x="5486400" y="4038480"/>
              <a:ext cx="83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23040" y="4038480"/>
              <a:ext cx="1440" cy="175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4876560" y="579132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23040" y="3657600"/>
            <a:ext cx="977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981080" y="3657600"/>
            <a:ext cx="836640" cy="838080"/>
            <a:chOff x="1981080" y="3657600"/>
            <a:chExt cx="836640" cy="838080"/>
          </a:xfrm>
        </p:grpSpPr>
        <p:sp>
          <p:nvSpPr>
            <p:cNvPr id="333" name=""/>
            <p:cNvSpPr/>
            <p:nvPr/>
          </p:nvSpPr>
          <p:spPr>
            <a:xfrm>
              <a:off x="1981080" y="40384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81080" y="365760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Arial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81080" y="4038480"/>
              <a:ext cx="83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981080" y="4952880"/>
            <a:ext cx="2133720" cy="609840"/>
            <a:chOff x="1981080" y="4952880"/>
            <a:chExt cx="2133720" cy="609840"/>
          </a:xfrm>
        </p:grpSpPr>
        <p:sp>
          <p:nvSpPr>
            <p:cNvPr id="337" name=""/>
            <p:cNvSpPr/>
            <p:nvPr/>
          </p:nvSpPr>
          <p:spPr>
            <a:xfrm>
              <a:off x="1981080" y="4952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81080" y="525780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14800" y="52578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028840" y="2743200"/>
            <a:ext cx="3962520" cy="1387440"/>
            <a:chOff x="5028840" y="2743200"/>
            <a:chExt cx="3962520" cy="1387440"/>
          </a:xfrm>
        </p:grpSpPr>
        <p:grpSp>
          <p:nvGrpSpPr>
            <p:cNvPr id="341" name=""/>
            <p:cNvGrpSpPr/>
            <p:nvPr/>
          </p:nvGrpSpPr>
          <p:grpSpPr>
            <a:xfrm>
              <a:off x="6046920" y="2743200"/>
              <a:ext cx="2944440" cy="1387440"/>
              <a:chOff x="6046920" y="2743200"/>
              <a:chExt cx="2944440" cy="1387440"/>
            </a:xfrm>
          </p:grpSpPr>
          <p:sp>
            <p:nvSpPr>
              <p:cNvPr id="342" name=""/>
              <p:cNvSpPr/>
              <p:nvPr/>
            </p:nvSpPr>
            <p:spPr>
              <a:xfrm>
                <a:off x="6138360" y="2743200"/>
                <a:ext cx="2760480" cy="103356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046920" y="2818440"/>
                <a:ext cx="294444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باستخدام عبارة الاختيار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f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يتم اختبار العدد اذا كان فردى أو لا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 flipH="1">
              <a:off x="5028840" y="3429000"/>
              <a:ext cx="1066680" cy="3556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457200" y="838080"/>
            <a:ext cx="8457840" cy="5790960"/>
            <a:chOff x="457200" y="838080"/>
            <a:chExt cx="8457840" cy="5790960"/>
          </a:xfrm>
        </p:grpSpPr>
        <p:sp>
          <p:nvSpPr>
            <p:cNvPr id="347" name=""/>
            <p:cNvSpPr/>
            <p:nvPr/>
          </p:nvSpPr>
          <p:spPr>
            <a:xfrm>
              <a:off x="457200" y="1213920"/>
              <a:ext cx="8457840" cy="541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7200" y="838080"/>
              <a:ext cx="8457840" cy="375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Odd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53352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Odd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09480" y="16765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066680" y="316872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 &gt;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90720" y="5226120"/>
            <a:ext cx="71625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579132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90720" y="3200400"/>
            <a:ext cx="7315200" cy="259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2209680"/>
            <a:ext cx="1828800" cy="458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  x = 5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" y="623412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47920" y="3657600"/>
            <a:ext cx="64767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if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!=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check if num is o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828800" y="4114800"/>
            <a:ext cx="3429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2666880"/>
            <a:ext cx="830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he odd number betw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47920" y="4724280"/>
            <a:ext cx="838080" cy="854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-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90920" y="2209680"/>
            <a:ext cx="27432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4d4d4d"/>
                </a:solidFill>
                <a:latin typeface="Arial"/>
              </a:rPr>
              <a:t>// initial a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762120"/>
            <a:ext cx="8077320" cy="358128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52880" y="838080"/>
            <a:ext cx="358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7d"/>
                </a:solidFill>
                <a:latin typeface="Arial"/>
              </a:rPr>
              <a:t>ماهو ناتج تنفيذ البرنامج الآتى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38080" y="1143000"/>
            <a:ext cx="7543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1778040"/>
            <a:ext cx="7315200" cy="22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while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i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10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{   </a:t>
            </a: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//start of wh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%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=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ystem.out.println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200" spc="-1" strike="noStrike">
                <a:solidFill>
                  <a:srgbClr val="777777"/>
                </a:solidFill>
                <a:latin typeface="Arial"/>
              </a:rPr>
              <a:t>// end of wh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9480" y="4648320"/>
            <a:ext cx="8077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ناتج تنفيذ البرنامج: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لن يتم طباعة أى محتوى عند التنفي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press any key to continue 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762120"/>
            <a:ext cx="8077320" cy="312408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52880" y="838080"/>
            <a:ext cx="358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7d"/>
                </a:solidFill>
                <a:latin typeface="Arial"/>
              </a:rPr>
              <a:t>ماهو ناتج تنفيذ البرنامج الآتى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8080" y="990720"/>
            <a:ext cx="7543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1523880"/>
            <a:ext cx="7315200" cy="22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while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i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10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{   </a:t>
            </a: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//start of wh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%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=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ystem.out.println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200" spc="-1" strike="noStrike">
                <a:solidFill>
                  <a:srgbClr val="777777"/>
                </a:solidFill>
                <a:latin typeface="Arial"/>
              </a:rPr>
              <a:t>// end of wh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09480" y="3962520"/>
            <a:ext cx="8077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ناتج تنفيذ البرنامج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09480" y="838080"/>
            <a:ext cx="8077320" cy="312444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6212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بإستخدام حلقة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while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،اكتب برنامج يقوم بطباعة </a:t>
            </a:r>
            <a:r>
              <a:rPr b="1" lang="ar-SA" sz="2600" spc="-1" strike="noStrike" u="sng">
                <a:solidFill>
                  <a:srgbClr val="00007d"/>
                </a:solidFill>
                <a:uFillTx/>
                <a:latin typeface="Arial"/>
              </a:rPr>
              <a:t>جوائز المسابقة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لترتيب الفائزين فى المدى من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وفقا للآتى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4038480"/>
            <a:ext cx="7848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بحيث يكون تنفيذ البرنامج: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Prizes of the winner ar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Gold med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ilver med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Bronze medal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1774800"/>
            <a:ext cx="70106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ذا كان ترتيب الفائز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تم طباعة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Gold medal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95280" y="2384640"/>
            <a:ext cx="70106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ذا كان ترتيب الفائز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تم طباعة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ilver medal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95280" y="2994120"/>
            <a:ext cx="70106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ذا كان ترتيب الفائز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تم طباعة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Bronze medal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914400" y="609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طباعة جوائز المسابقة فى المدى من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95480" y="2286000"/>
            <a:ext cx="2438640" cy="60948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886200" y="5943600"/>
            <a:ext cx="304560" cy="533160"/>
            <a:chOff x="3886200" y="5943600"/>
            <a:chExt cx="304560" cy="533160"/>
          </a:xfrm>
        </p:grpSpPr>
        <p:sp>
          <p:nvSpPr>
            <p:cNvPr id="385" name=""/>
            <p:cNvSpPr/>
            <p:nvPr/>
          </p:nvSpPr>
          <p:spPr>
            <a:xfrm>
              <a:off x="3886200" y="6210360"/>
              <a:ext cx="304560" cy="26640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38480" y="59436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276720" y="2819520"/>
            <a:ext cx="838080" cy="442800"/>
            <a:chOff x="3276720" y="2819520"/>
            <a:chExt cx="838080" cy="442800"/>
          </a:xfrm>
        </p:grpSpPr>
        <p:sp>
          <p:nvSpPr>
            <p:cNvPr id="388" name=""/>
            <p:cNvSpPr/>
            <p:nvPr/>
          </p:nvSpPr>
          <p:spPr>
            <a:xfrm>
              <a:off x="4114800" y="288108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281952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038480" y="2590920"/>
            <a:ext cx="4724640" cy="3352680"/>
            <a:chOff x="4038480" y="2590920"/>
            <a:chExt cx="4724640" cy="3352680"/>
          </a:xfrm>
        </p:grpSpPr>
        <p:sp>
          <p:nvSpPr>
            <p:cNvPr id="391" name=""/>
            <p:cNvSpPr/>
            <p:nvPr/>
          </p:nvSpPr>
          <p:spPr>
            <a:xfrm>
              <a:off x="5334120" y="2590920"/>
              <a:ext cx="342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758080" y="2590920"/>
              <a:ext cx="5040" cy="335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4038480" y="5943600"/>
              <a:ext cx="472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5570640" y="220968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685080" y="2057040"/>
            <a:ext cx="3429000" cy="3504960"/>
            <a:chOff x="685080" y="2057040"/>
            <a:chExt cx="3429000" cy="3504960"/>
          </a:xfrm>
        </p:grpSpPr>
        <p:grpSp>
          <p:nvGrpSpPr>
            <p:cNvPr id="396" name=""/>
            <p:cNvGrpSpPr/>
            <p:nvPr/>
          </p:nvGrpSpPr>
          <p:grpSpPr>
            <a:xfrm>
              <a:off x="685800" y="2057040"/>
              <a:ext cx="2742480" cy="3504960"/>
              <a:chOff x="685800" y="2057040"/>
              <a:chExt cx="2742480" cy="3504960"/>
            </a:xfrm>
          </p:grpSpPr>
          <p:sp>
            <p:nvSpPr>
              <p:cNvPr id="397" name=""/>
              <p:cNvSpPr/>
              <p:nvPr/>
            </p:nvSpPr>
            <p:spPr>
              <a:xfrm flipH="1">
                <a:off x="685800" y="5562000"/>
                <a:ext cx="27424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685800" y="2057040"/>
                <a:ext cx="0" cy="350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685080" y="205740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029200" y="1219320"/>
            <a:ext cx="3504600" cy="1371240"/>
            <a:chOff x="5029200" y="1219320"/>
            <a:chExt cx="3504600" cy="1371240"/>
          </a:xfrm>
        </p:grpSpPr>
        <p:grpSp>
          <p:nvGrpSpPr>
            <p:cNvPr id="401" name=""/>
            <p:cNvGrpSpPr/>
            <p:nvPr/>
          </p:nvGrpSpPr>
          <p:grpSpPr>
            <a:xfrm>
              <a:off x="5589720" y="1219320"/>
              <a:ext cx="2944080" cy="1082520"/>
              <a:chOff x="5589720" y="1219320"/>
              <a:chExt cx="2944080" cy="1082520"/>
            </a:xfrm>
          </p:grpSpPr>
          <p:sp>
            <p:nvSpPr>
              <p:cNvPr id="402" name=""/>
              <p:cNvSpPr/>
              <p:nvPr/>
            </p:nvSpPr>
            <p:spPr>
              <a:xfrm>
                <a:off x="5681160" y="1219320"/>
                <a:ext cx="2760120" cy="103320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589720" y="1294560"/>
                <a:ext cx="294408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شرط تنفيذ الحلقة أن تكون قيمة المتغي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أقل من أو تساوى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 flipH="1">
              <a:off x="5029200" y="2082960"/>
              <a:ext cx="630720" cy="507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838080" y="2330280"/>
            <a:ext cx="1600200" cy="100728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واصلة التنفيذ لحلق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48120" y="1295280"/>
            <a:ext cx="228600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1828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066680" y="1066680"/>
            <a:ext cx="1981080" cy="702360"/>
            <a:chOff x="1066680" y="1066680"/>
            <a:chExt cx="1981080" cy="702360"/>
          </a:xfrm>
        </p:grpSpPr>
        <p:sp>
          <p:nvSpPr>
            <p:cNvPr id="409" name=""/>
            <p:cNvSpPr/>
            <p:nvPr/>
          </p:nvSpPr>
          <p:spPr>
            <a:xfrm>
              <a:off x="1066680" y="1066680"/>
              <a:ext cx="1471680" cy="70236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قيمة الابتدائ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38360" y="1447560"/>
              <a:ext cx="50940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3429000" y="5334120"/>
            <a:ext cx="14479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666880" y="11430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952880" y="2133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52680" y="5562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76520" y="3276720"/>
            <a:ext cx="5790960" cy="1752480"/>
          </a:xfrm>
          <a:prstGeom prst="rect">
            <a:avLst/>
          </a:prstGeom>
          <a:solidFill>
            <a:srgbClr val="0000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witch(x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ase 1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.out.print(“Gold”);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.out.print(“Silver”);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ase 3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.out.print(“Bronze”);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333760" y="2700360"/>
            <a:ext cx="3402000" cy="1387440"/>
            <a:chOff x="5333760" y="2700360"/>
            <a:chExt cx="3402000" cy="1387440"/>
          </a:xfrm>
        </p:grpSpPr>
        <p:grpSp>
          <p:nvGrpSpPr>
            <p:cNvPr id="417" name=""/>
            <p:cNvGrpSpPr/>
            <p:nvPr/>
          </p:nvGrpSpPr>
          <p:grpSpPr>
            <a:xfrm>
              <a:off x="5791320" y="2700360"/>
              <a:ext cx="2944440" cy="1387440"/>
              <a:chOff x="5791320" y="2700360"/>
              <a:chExt cx="2944440" cy="1387440"/>
            </a:xfrm>
          </p:grpSpPr>
          <p:sp>
            <p:nvSpPr>
              <p:cNvPr id="418" name=""/>
              <p:cNvSpPr/>
              <p:nvPr/>
            </p:nvSpPr>
            <p:spPr>
              <a:xfrm>
                <a:off x="5882760" y="2700360"/>
                <a:ext cx="2760480" cy="103356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791320" y="2775600"/>
                <a:ext cx="294444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باستخدام عبارة الاختيا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witch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يتم تحديد الجائزة وفقا لرقم الفائ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 flipH="1">
              <a:off x="5333760" y="3429000"/>
              <a:ext cx="53316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114800" y="5029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457200" y="609480"/>
            <a:ext cx="8457840" cy="5943240"/>
            <a:chOff x="457200" y="609480"/>
            <a:chExt cx="8457840" cy="5943240"/>
          </a:xfrm>
        </p:grpSpPr>
        <p:sp>
          <p:nvSpPr>
            <p:cNvPr id="424" name=""/>
            <p:cNvSpPr/>
            <p:nvPr/>
          </p:nvSpPr>
          <p:spPr>
            <a:xfrm>
              <a:off x="457200" y="995040"/>
              <a:ext cx="845784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7200" y="609480"/>
              <a:ext cx="845784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Prize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33520" y="9144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Prize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9480" y="12952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90720" y="260352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 &lt;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38080" y="6095880"/>
            <a:ext cx="7162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19320" y="3048120"/>
            <a:ext cx="7238880" cy="2514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62120" y="1752480"/>
            <a:ext cx="1828800" cy="458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  x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447920" y="3060720"/>
            <a:ext cx="6933960" cy="4428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switch ( x ) {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76520" y="3549600"/>
            <a:ext cx="60958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case 1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Gold Medal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2209680"/>
            <a:ext cx="7238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he Prizes of winner 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5228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590920" y="1752480"/>
            <a:ext cx="27432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4d4d4d"/>
                </a:solidFill>
                <a:latin typeface="Arial"/>
              </a:rPr>
              <a:t>// initial a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4997520"/>
            <a:ext cx="6933960" cy="488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// end of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010280" y="3549600"/>
            <a:ext cx="1295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676520" y="4051440"/>
            <a:ext cx="60958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case 2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 System.out.print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Silver Medal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086600" y="4083120"/>
            <a:ext cx="12952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676520" y="4584600"/>
            <a:ext cx="60958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case 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 System.out.print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Bronze Medal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238880" y="4572000"/>
            <a:ext cx="1295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066680" y="5638680"/>
            <a:ext cx="990720" cy="854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1430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4d4d4d"/>
                </a:solidFill>
                <a:latin typeface="Arial"/>
              </a:rPr>
              <a:t>1. Introduc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5909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whil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Loo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4.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3526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Examp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8288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4d4d4d"/>
                </a:solidFill>
                <a:latin typeface="Arial"/>
              </a:rPr>
              <a:t>2. The  for  Loop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(sec 4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457200" y="952560"/>
            <a:ext cx="8458200" cy="163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" y="838080"/>
            <a:ext cx="8458200" cy="3812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tPrize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85800" y="140004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" y="184320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09480" y="838080"/>
            <a:ext cx="8077320" cy="251460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طلب من المستخدم ادخال درجات طالب فى خمس مواد (من النوع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، يقوم البرنامج بحساب </a:t>
            </a:r>
            <a:r>
              <a:rPr b="1" lang="ar-SA" sz="2600" spc="-1" strike="noStrike" u="sng">
                <a:solidFill>
                  <a:srgbClr val="00007d"/>
                </a:solidFill>
                <a:uFillTx/>
                <a:latin typeface="Arial"/>
              </a:rPr>
              <a:t>متوسط درجات الطالب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وطباعة النتيجة على الشاشة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    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3429000"/>
            <a:ext cx="79250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بحيث يكون تنفيذ البرنامج: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grade 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25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grade 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grade 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6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grade 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grade 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8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The Average is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52.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295280" y="1942920"/>
            <a:ext cx="701064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أ) قم بكتابة هذا البرنامج بإستخدام حلقة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while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2476080"/>
            <a:ext cx="70102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ب) قم بكتابة هذا البرنامج بإستخدام حلقة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f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914400" y="609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دخال درجات الطالب فى خمس مواد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95480" y="2286000"/>
            <a:ext cx="2438640" cy="60948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886200" y="5943600"/>
            <a:ext cx="304560" cy="533160"/>
            <a:chOff x="3886200" y="5943600"/>
            <a:chExt cx="304560" cy="533160"/>
          </a:xfrm>
        </p:grpSpPr>
        <p:sp>
          <p:nvSpPr>
            <p:cNvPr id="458" name=""/>
            <p:cNvSpPr/>
            <p:nvPr/>
          </p:nvSpPr>
          <p:spPr>
            <a:xfrm>
              <a:off x="3886200" y="6210360"/>
              <a:ext cx="304560" cy="26640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38480" y="59436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276720" y="2819520"/>
            <a:ext cx="838080" cy="456840"/>
            <a:chOff x="3276720" y="2819520"/>
            <a:chExt cx="838080" cy="456840"/>
          </a:xfrm>
        </p:grpSpPr>
        <p:sp>
          <p:nvSpPr>
            <p:cNvPr id="461" name=""/>
            <p:cNvSpPr/>
            <p:nvPr/>
          </p:nvSpPr>
          <p:spPr>
            <a:xfrm>
              <a:off x="4114800" y="2883240"/>
              <a:ext cx="0" cy="39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76720" y="281952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4038480" y="2590920"/>
            <a:ext cx="4724640" cy="3352680"/>
            <a:chOff x="4038480" y="2590920"/>
            <a:chExt cx="4724640" cy="3352680"/>
          </a:xfrm>
        </p:grpSpPr>
        <p:sp>
          <p:nvSpPr>
            <p:cNvPr id="464" name=""/>
            <p:cNvSpPr/>
            <p:nvPr/>
          </p:nvSpPr>
          <p:spPr>
            <a:xfrm>
              <a:off x="5334120" y="2590920"/>
              <a:ext cx="342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758080" y="2590920"/>
              <a:ext cx="5040" cy="335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4038480" y="5943600"/>
              <a:ext cx="472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5570640" y="220968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685080" y="2057400"/>
            <a:ext cx="3429000" cy="3124080"/>
            <a:chOff x="685080" y="2057400"/>
            <a:chExt cx="3429000" cy="3124080"/>
          </a:xfrm>
        </p:grpSpPr>
        <p:grpSp>
          <p:nvGrpSpPr>
            <p:cNvPr id="469" name=""/>
            <p:cNvGrpSpPr/>
            <p:nvPr/>
          </p:nvGrpSpPr>
          <p:grpSpPr>
            <a:xfrm>
              <a:off x="685800" y="2057400"/>
              <a:ext cx="2742480" cy="3124080"/>
              <a:chOff x="685800" y="2057400"/>
              <a:chExt cx="2742480" cy="3124080"/>
            </a:xfrm>
          </p:grpSpPr>
          <p:sp>
            <p:nvSpPr>
              <p:cNvPr id="470" name=""/>
              <p:cNvSpPr/>
              <p:nvPr/>
            </p:nvSpPr>
            <p:spPr>
              <a:xfrm flipH="1">
                <a:off x="685800" y="5181480"/>
                <a:ext cx="27424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685800" y="2057400"/>
                <a:ext cx="0" cy="3124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>
              <a:off x="685080" y="205740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029200" y="1219320"/>
            <a:ext cx="3504600" cy="1371240"/>
            <a:chOff x="5029200" y="1219320"/>
            <a:chExt cx="3504600" cy="1371240"/>
          </a:xfrm>
        </p:grpSpPr>
        <p:grpSp>
          <p:nvGrpSpPr>
            <p:cNvPr id="474" name=""/>
            <p:cNvGrpSpPr/>
            <p:nvPr/>
          </p:nvGrpSpPr>
          <p:grpSpPr>
            <a:xfrm>
              <a:off x="5589720" y="1219320"/>
              <a:ext cx="2944080" cy="1082520"/>
              <a:chOff x="5589720" y="1219320"/>
              <a:chExt cx="2944080" cy="1082520"/>
            </a:xfrm>
          </p:grpSpPr>
          <p:sp>
            <p:nvSpPr>
              <p:cNvPr id="475" name=""/>
              <p:cNvSpPr/>
              <p:nvPr/>
            </p:nvSpPr>
            <p:spPr>
              <a:xfrm>
                <a:off x="5681160" y="1219320"/>
                <a:ext cx="2760120" cy="103320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589720" y="1294560"/>
                <a:ext cx="294408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شرط تنفيذ الحلقة أن تكون قيمة المتغي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أقل من أو تساوى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 flipH="1">
              <a:off x="5029200" y="2082960"/>
              <a:ext cx="630720" cy="507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838080" y="2406600"/>
            <a:ext cx="1600200" cy="70236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واصلة التنفي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133720" y="1219320"/>
            <a:ext cx="342900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 =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grad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114800" y="1752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80880" y="838080"/>
            <a:ext cx="1981080" cy="1312200"/>
            <a:chOff x="380880" y="838080"/>
            <a:chExt cx="1981080" cy="1312200"/>
          </a:xfrm>
        </p:grpSpPr>
        <p:sp>
          <p:nvSpPr>
            <p:cNvPr id="482" name=""/>
            <p:cNvSpPr/>
            <p:nvPr/>
          </p:nvSpPr>
          <p:spPr>
            <a:xfrm>
              <a:off x="380880" y="838080"/>
              <a:ext cx="1471680" cy="131220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قيمة الابتدائية لتكرار الحل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852560" y="1218960"/>
              <a:ext cx="50940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3429000" y="4952880"/>
            <a:ext cx="14479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81080" y="914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952880" y="2133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048120" y="51814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752480" y="3352680"/>
            <a:ext cx="4876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“Enter Grade: ”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464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752480" y="37339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grad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scanner.nextInt(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752480" y="41911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 = sum +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grad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752480" y="3276720"/>
            <a:ext cx="4724640" cy="1371600"/>
          </a:xfrm>
          <a:prstGeom prst="rect">
            <a:avLst/>
          </a:prstGeom>
          <a:noFill/>
          <a:ln w="22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257800" y="3733920"/>
            <a:ext cx="3352320" cy="1936440"/>
            <a:chOff x="5257800" y="3733920"/>
            <a:chExt cx="3352320" cy="1936440"/>
          </a:xfrm>
        </p:grpSpPr>
        <p:sp>
          <p:nvSpPr>
            <p:cNvPr id="494" name=""/>
            <p:cNvSpPr/>
            <p:nvPr/>
          </p:nvSpPr>
          <p:spPr>
            <a:xfrm flipH="1" flipV="1">
              <a:off x="6400800" y="3733920"/>
              <a:ext cx="533520" cy="457200"/>
            </a:xfrm>
            <a:prstGeom prst="line">
              <a:avLst/>
            </a:prstGeom>
            <a:ln w="3492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5257800" y="4267080"/>
              <a:ext cx="3352320" cy="1403280"/>
              <a:chOff x="5257800" y="4267080"/>
              <a:chExt cx="3352320" cy="1403280"/>
            </a:xfrm>
          </p:grpSpPr>
          <p:sp>
            <p:nvSpPr>
              <p:cNvPr id="496" name=""/>
              <p:cNvSpPr/>
              <p:nvPr/>
            </p:nvSpPr>
            <p:spPr>
              <a:xfrm>
                <a:off x="5362200" y="4267080"/>
                <a:ext cx="3143160" cy="12524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57800" y="4358160"/>
                <a:ext cx="335232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مع كل تكرار يتم قراءة الدرجة من المستخدم واضافتها لمجموع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الدرجات بالمتغير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u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8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    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457200" y="685800"/>
            <a:ext cx="8457840" cy="5943240"/>
            <a:chOff x="457200" y="685800"/>
            <a:chExt cx="8457840" cy="5943240"/>
          </a:xfrm>
        </p:grpSpPr>
        <p:sp>
          <p:nvSpPr>
            <p:cNvPr id="500" name=""/>
            <p:cNvSpPr/>
            <p:nvPr/>
          </p:nvSpPr>
          <p:spPr>
            <a:xfrm>
              <a:off x="457200" y="1071360"/>
              <a:ext cx="845784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7200" y="685800"/>
              <a:ext cx="845784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Avg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685800" y="14479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Avg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38080" y="18288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19320" y="373392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 &lt;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19320" y="6095880"/>
            <a:ext cx="41907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4267080"/>
            <a:ext cx="5638680" cy="1371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295280" y="2286000"/>
            <a:ext cx="1828800" cy="450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37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  x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2286000"/>
            <a:ext cx="27432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4d4d4d"/>
                </a:solidFill>
                <a:latin typeface="Arial"/>
              </a:rPr>
              <a:t>// initial a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52480" y="5745240"/>
            <a:ext cx="990720" cy="854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2743200"/>
            <a:ext cx="449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um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gra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752480" y="4267080"/>
            <a:ext cx="571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nter gra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" y="89892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295280" y="3276360"/>
            <a:ext cx="701064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52480" y="5181480"/>
            <a:ext cx="571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m = sum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gra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724280"/>
            <a:ext cx="571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gra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nextI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04920" y="15228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    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457200" y="952560"/>
            <a:ext cx="8458200" cy="445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" y="838080"/>
            <a:ext cx="8458200" cy="3812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tAvg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322884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367200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38080" y="2514600"/>
            <a:ext cx="678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he Averag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+ avg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1859040"/>
            <a:ext cx="449604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vg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19320" y="144792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حساب المتوسط الحسابى لدرجات الطالب فى خمس مواد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    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0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914400"/>
            <a:ext cx="7296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syntax of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whil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op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3276720"/>
            <a:ext cx="990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33520" y="2301840"/>
            <a:ext cx="1828800" cy="1006560"/>
            <a:chOff x="533520" y="2301840"/>
            <a:chExt cx="1828800" cy="1006560"/>
          </a:xfrm>
        </p:grpSpPr>
        <p:sp>
          <p:nvSpPr>
            <p:cNvPr id="113" name=""/>
            <p:cNvSpPr/>
            <p:nvPr/>
          </p:nvSpPr>
          <p:spPr>
            <a:xfrm>
              <a:off x="838080" y="2698920"/>
              <a:ext cx="762120" cy="60948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5800" y="2301840"/>
              <a:ext cx="16765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كلمة المحجوز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230184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743200" y="2286000"/>
            <a:ext cx="2819520" cy="1006560"/>
            <a:chOff x="2743200" y="2286000"/>
            <a:chExt cx="2819520" cy="1006560"/>
          </a:xfrm>
        </p:grpSpPr>
        <p:sp>
          <p:nvSpPr>
            <p:cNvPr id="117" name=""/>
            <p:cNvSpPr/>
            <p:nvPr/>
          </p:nvSpPr>
          <p:spPr>
            <a:xfrm flipH="1">
              <a:off x="3733560" y="2606760"/>
              <a:ext cx="152280" cy="685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2286000"/>
              <a:ext cx="28195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شرط تنفيذ الحلقة التكرار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5480" y="228600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791320" y="2301840"/>
            <a:ext cx="2819160" cy="1006560"/>
            <a:chOff x="5791320" y="2301840"/>
            <a:chExt cx="2819160" cy="1006560"/>
          </a:xfrm>
        </p:grpSpPr>
        <p:sp>
          <p:nvSpPr>
            <p:cNvPr id="121" name=""/>
            <p:cNvSpPr/>
            <p:nvPr/>
          </p:nvSpPr>
          <p:spPr>
            <a:xfrm flipH="1">
              <a:off x="6781680" y="2622600"/>
              <a:ext cx="152640" cy="685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91320" y="2301840"/>
              <a:ext cx="281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rt loop bl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24480" y="230184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066680" y="3825720"/>
            <a:ext cx="7772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// loop bo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4129560"/>
            <a:ext cx="8076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tement(s);  //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التعليمات المراد تنفيذها عند تحقق شرط تنفيذ الحلقة التكرارية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000640" y="3429000"/>
            <a:ext cx="304920" cy="990720"/>
            <a:chOff x="8000640" y="3429000"/>
            <a:chExt cx="304920" cy="990720"/>
          </a:xfrm>
        </p:grpSpPr>
        <p:sp>
          <p:nvSpPr>
            <p:cNvPr id="127" name=""/>
            <p:cNvSpPr/>
            <p:nvPr/>
          </p:nvSpPr>
          <p:spPr>
            <a:xfrm flipH="1">
              <a:off x="8000640" y="3733920"/>
              <a:ext cx="152280" cy="685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76960" y="342900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62120" y="5409720"/>
            <a:ext cx="32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// end of loop bloc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3276720"/>
            <a:ext cx="4952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loop- continuation-condition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29400" y="327780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657240" y="5486400"/>
            <a:ext cx="991080" cy="304560"/>
            <a:chOff x="3657240" y="5486400"/>
            <a:chExt cx="991080" cy="304560"/>
          </a:xfrm>
        </p:grpSpPr>
        <p:sp>
          <p:nvSpPr>
            <p:cNvPr id="133" name=""/>
            <p:cNvSpPr/>
            <p:nvPr/>
          </p:nvSpPr>
          <p:spPr>
            <a:xfrm flipH="1">
              <a:off x="3657240" y="5638680"/>
              <a:ext cx="83844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19720" y="5486400"/>
              <a:ext cx="22860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762120" y="1704960"/>
            <a:ext cx="1904760" cy="412560"/>
          </a:xfrm>
          <a:prstGeom prst="rect">
            <a:avLst/>
          </a:prstGeom>
          <a:noFill/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itial-action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666520" y="1728720"/>
            <a:ext cx="4800600" cy="702360"/>
            <a:chOff x="2666520" y="1728720"/>
            <a:chExt cx="4800600" cy="702360"/>
          </a:xfrm>
        </p:grpSpPr>
        <p:sp>
          <p:nvSpPr>
            <p:cNvPr id="137" name=""/>
            <p:cNvSpPr/>
            <p:nvPr/>
          </p:nvSpPr>
          <p:spPr>
            <a:xfrm>
              <a:off x="3453840" y="1728720"/>
              <a:ext cx="4013280" cy="7023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الابتدائية لبداية لتنفيذ الحلقة التكرار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666520" y="1896840"/>
              <a:ext cx="86580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62120" y="4920840"/>
            <a:ext cx="3352680" cy="397440"/>
          </a:xfrm>
          <a:prstGeom prst="rect">
            <a:avLst/>
          </a:prstGeom>
          <a:noFill/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ction-after-each-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190760" y="4952880"/>
            <a:ext cx="4572360" cy="702360"/>
            <a:chOff x="4190760" y="4952880"/>
            <a:chExt cx="4572360" cy="702360"/>
          </a:xfrm>
        </p:grpSpPr>
        <p:sp>
          <p:nvSpPr>
            <p:cNvPr id="141" name=""/>
            <p:cNvSpPr/>
            <p:nvPr/>
          </p:nvSpPr>
          <p:spPr>
            <a:xfrm>
              <a:off x="4498920" y="4952880"/>
              <a:ext cx="4264200" cy="7023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معدل الزيادة أو النقصان لمواصلة التنفيذ للحل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190760" y="5105520"/>
              <a:ext cx="31572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38080"/>
            <a:ext cx="920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op flow chart: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تسلسل تنفيذ الحلقة التكرار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362320"/>
            <a:ext cx="2590560" cy="175248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o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nditi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962520" y="5791320"/>
            <a:ext cx="304560" cy="685800"/>
            <a:chOff x="3962520" y="5791320"/>
            <a:chExt cx="304560" cy="685800"/>
          </a:xfrm>
        </p:grpSpPr>
        <p:sp>
          <p:nvSpPr>
            <p:cNvPr id="147" name=""/>
            <p:cNvSpPr/>
            <p:nvPr/>
          </p:nvSpPr>
          <p:spPr>
            <a:xfrm>
              <a:off x="3962520" y="6172200"/>
              <a:ext cx="304560" cy="30492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14440" y="5791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962520" y="1447920"/>
            <a:ext cx="304560" cy="914400"/>
            <a:chOff x="3962520" y="1447920"/>
            <a:chExt cx="304560" cy="914400"/>
          </a:xfrm>
        </p:grpSpPr>
        <p:sp>
          <p:nvSpPr>
            <p:cNvPr id="150" name=""/>
            <p:cNvSpPr/>
            <p:nvPr/>
          </p:nvSpPr>
          <p:spPr>
            <a:xfrm>
              <a:off x="4114800" y="17524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62520" y="1447920"/>
              <a:ext cx="304560" cy="30456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819520" y="4648320"/>
            <a:ext cx="2743200" cy="761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loop body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Statement(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276720" y="4114800"/>
            <a:ext cx="838080" cy="533520"/>
            <a:chOff x="3276720" y="4114800"/>
            <a:chExt cx="838080" cy="533520"/>
          </a:xfrm>
        </p:grpSpPr>
        <p:sp>
          <p:nvSpPr>
            <p:cNvPr id="154" name=""/>
            <p:cNvSpPr/>
            <p:nvPr/>
          </p:nvSpPr>
          <p:spPr>
            <a:xfrm>
              <a:off x="4114800" y="41148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6720" y="411480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114800" y="3259080"/>
            <a:ext cx="2514240" cy="2532240"/>
            <a:chOff x="4114800" y="3259080"/>
            <a:chExt cx="2514240" cy="2532240"/>
          </a:xfrm>
        </p:grpSpPr>
        <p:sp>
          <p:nvSpPr>
            <p:cNvPr id="157" name=""/>
            <p:cNvSpPr/>
            <p:nvPr/>
          </p:nvSpPr>
          <p:spPr>
            <a:xfrm>
              <a:off x="5328360" y="3259080"/>
              <a:ext cx="130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9040" y="3259080"/>
              <a:ext cx="0" cy="253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114800" y="579132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570640" y="274320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437560" y="1980720"/>
            <a:ext cx="1676520" cy="3048480"/>
            <a:chOff x="2437560" y="1980720"/>
            <a:chExt cx="1676520" cy="3048480"/>
          </a:xfrm>
        </p:grpSpPr>
        <p:grpSp>
          <p:nvGrpSpPr>
            <p:cNvPr id="162" name=""/>
            <p:cNvGrpSpPr/>
            <p:nvPr/>
          </p:nvGrpSpPr>
          <p:grpSpPr>
            <a:xfrm>
              <a:off x="2437920" y="1980720"/>
              <a:ext cx="381240" cy="3048480"/>
              <a:chOff x="2437920" y="1980720"/>
              <a:chExt cx="381240" cy="3048480"/>
            </a:xfrm>
          </p:grpSpPr>
          <p:sp>
            <p:nvSpPr>
              <p:cNvPr id="163" name=""/>
              <p:cNvSpPr/>
              <p:nvPr/>
            </p:nvSpPr>
            <p:spPr>
              <a:xfrm flipH="1">
                <a:off x="2437920" y="5029200"/>
                <a:ext cx="3812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438280" y="1980720"/>
                <a:ext cx="0" cy="30481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437560" y="1981080"/>
              <a:ext cx="167652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705720" y="3701880"/>
            <a:ext cx="2209680" cy="13122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فى حالة القيم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تم انهاء التنفيذ للحلقة التكرا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7960" y="1432080"/>
            <a:ext cx="3809880" cy="1234800"/>
            <a:chOff x="4647960" y="1432080"/>
            <a:chExt cx="3809880" cy="1234800"/>
          </a:xfrm>
        </p:grpSpPr>
        <p:grpSp>
          <p:nvGrpSpPr>
            <p:cNvPr id="168" name=""/>
            <p:cNvGrpSpPr/>
            <p:nvPr/>
          </p:nvGrpSpPr>
          <p:grpSpPr>
            <a:xfrm>
              <a:off x="5257800" y="1432080"/>
              <a:ext cx="3200040" cy="1073520"/>
              <a:chOff x="5257800" y="1432080"/>
              <a:chExt cx="3200040" cy="1073520"/>
            </a:xfrm>
          </p:grpSpPr>
          <p:sp>
            <p:nvSpPr>
              <p:cNvPr id="169" name=""/>
              <p:cNvSpPr/>
              <p:nvPr/>
            </p:nvSpPr>
            <p:spPr>
              <a:xfrm>
                <a:off x="5357160" y="1432080"/>
                <a:ext cx="3000240" cy="9302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57800" y="1498320"/>
                <a:ext cx="320004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7d"/>
                    </a:solidFill>
                    <a:latin typeface="Arial"/>
                  </a:rPr>
                  <a:t>اختبار شرط تنفيذ الحلقة التكرارية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true</a:t>
                </a:r>
                <a:r>
                  <a:rPr b="1" lang="en-US" sz="2000" spc="-1" strike="noStrike">
                    <a:solidFill>
                      <a:srgbClr val="00007d"/>
                    </a:solidFill>
                    <a:latin typeface="Arial"/>
                  </a:rPr>
                  <a:t> or 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fal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 flipH="1">
              <a:off x="4647960" y="2209680"/>
              <a:ext cx="685800" cy="457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6320" y="2819520"/>
            <a:ext cx="2209680" cy="13122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فى حالة القيم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تم الرجوع لمواصلة التنفيذ للحلقة التكرا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4572000"/>
            <a:ext cx="9201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t of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o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contains the statements to be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repeated 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ed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oop bo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541008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لجزء الذى يحتوى على التعليمات المراد تكرار تنفيذها بالحلقة التكرارية يُسمى (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loop body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8380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loop contains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oop-continuation cond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Boolean expre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controls the execution of the body. It is always evaluated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loop body is execu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286000"/>
            <a:ext cx="8915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جد أن كل حلقة تحتوى على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شرط لمواصلة التنفيذ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، وهو عبارة عن 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تعبير منطقى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للتحكم فى تنفيذ للحلقة التكرارية، حيث يتم تنفيذة 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أولا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قبل البدء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بتنفيذ التعليمات الموجودة بجسم الحلق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فى حالة الحصول على القيمة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، أما فى حالة الحصول على </a:t>
            </a: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fals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يتم مباشرة انهاء تنفيذ الحلق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والانتقال لتنفيذ التعليمات التابعة للبرنامج والمكتوبة بعد نهاية الحلقة التكرارية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09480" y="1066680"/>
            <a:ext cx="8077320" cy="160020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2743200"/>
            <a:ext cx="7848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اتج تنفيذ البرنام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1143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طباعة الرسالة ”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welcome to java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“ بحيث يكون عدد مرات طباعة هذه الرسال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مرة على شاشة التنفي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193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سلسل تنفيذ البرنامج لطباعة الرسال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مرة بالتنفي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2286000"/>
            <a:ext cx="2590560" cy="14479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unt &lt; 100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962520" y="5562720"/>
            <a:ext cx="304560" cy="914400"/>
            <a:chOff x="3962520" y="5562720"/>
            <a:chExt cx="304560" cy="914400"/>
          </a:xfrm>
        </p:grpSpPr>
        <p:sp>
          <p:nvSpPr>
            <p:cNvPr id="185" name=""/>
            <p:cNvSpPr/>
            <p:nvPr/>
          </p:nvSpPr>
          <p:spPr>
            <a:xfrm>
              <a:off x="3962520" y="6172200"/>
              <a:ext cx="304560" cy="30492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14800" y="55627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600200" y="4267080"/>
            <a:ext cx="4876920" cy="762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(“welcome to java”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count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276720" y="3733920"/>
            <a:ext cx="838080" cy="533160"/>
            <a:chOff x="3276720" y="3733920"/>
            <a:chExt cx="838080" cy="533160"/>
          </a:xfrm>
        </p:grpSpPr>
        <p:sp>
          <p:nvSpPr>
            <p:cNvPr id="189" name=""/>
            <p:cNvSpPr/>
            <p:nvPr/>
          </p:nvSpPr>
          <p:spPr>
            <a:xfrm>
              <a:off x="4114800" y="373392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76720" y="373392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114800" y="3048120"/>
            <a:ext cx="2590560" cy="2531880"/>
            <a:chOff x="4114800" y="3048120"/>
            <a:chExt cx="2590560" cy="2531880"/>
          </a:xfrm>
        </p:grpSpPr>
        <p:sp>
          <p:nvSpPr>
            <p:cNvPr id="192" name=""/>
            <p:cNvSpPr/>
            <p:nvPr/>
          </p:nvSpPr>
          <p:spPr>
            <a:xfrm>
              <a:off x="5365080" y="3048120"/>
              <a:ext cx="134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05360" y="3048120"/>
              <a:ext cx="0" cy="253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114800" y="5580000"/>
              <a:ext cx="259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5570640" y="266688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85080" y="2057040"/>
            <a:ext cx="3429000" cy="2591280"/>
            <a:chOff x="685080" y="2057040"/>
            <a:chExt cx="3429000" cy="2591280"/>
          </a:xfrm>
        </p:grpSpPr>
        <p:grpSp>
          <p:nvGrpSpPr>
            <p:cNvPr id="197" name=""/>
            <p:cNvGrpSpPr/>
            <p:nvPr/>
          </p:nvGrpSpPr>
          <p:grpSpPr>
            <a:xfrm>
              <a:off x="685800" y="2057040"/>
              <a:ext cx="914400" cy="2591280"/>
              <a:chOff x="685800" y="2057040"/>
              <a:chExt cx="914400" cy="2591280"/>
            </a:xfrm>
          </p:grpSpPr>
          <p:sp>
            <p:nvSpPr>
              <p:cNvPr id="198" name=""/>
              <p:cNvSpPr/>
              <p:nvPr/>
            </p:nvSpPr>
            <p:spPr>
              <a:xfrm flipH="1">
                <a:off x="685800" y="4648320"/>
                <a:ext cx="91440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685800" y="2057040"/>
                <a:ext cx="0" cy="259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685080" y="205740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781680" y="3124080"/>
            <a:ext cx="2210040" cy="13122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فى حالة القيم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تم انهاء التنفيذ للحلقة التكرا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029200" y="1584360"/>
            <a:ext cx="3199680" cy="1234800"/>
            <a:chOff x="5029200" y="1584360"/>
            <a:chExt cx="3199680" cy="1234800"/>
          </a:xfrm>
        </p:grpSpPr>
        <p:grpSp>
          <p:nvGrpSpPr>
            <p:cNvPr id="203" name=""/>
            <p:cNvGrpSpPr/>
            <p:nvPr/>
          </p:nvGrpSpPr>
          <p:grpSpPr>
            <a:xfrm>
              <a:off x="5541120" y="1584360"/>
              <a:ext cx="2687760" cy="930240"/>
              <a:chOff x="5541120" y="1584360"/>
              <a:chExt cx="2687760" cy="930240"/>
            </a:xfrm>
          </p:grpSpPr>
          <p:sp>
            <p:nvSpPr>
              <p:cNvPr id="204" name=""/>
              <p:cNvSpPr/>
              <p:nvPr/>
            </p:nvSpPr>
            <p:spPr>
              <a:xfrm>
                <a:off x="5624640" y="1584360"/>
                <a:ext cx="2520000" cy="9302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541120" y="1650600"/>
                <a:ext cx="26877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oop Continu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Condition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 flipH="1">
              <a:off x="5029200" y="2361960"/>
              <a:ext cx="576000" cy="457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838080" y="2496960"/>
            <a:ext cx="1981440" cy="182916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فى حالة القيمة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 يتم الرجوع لمواصلة التنفيذ للحلقة التكراري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1295280"/>
            <a:ext cx="205740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coun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14800" y="1828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57200" y="914400"/>
            <a:ext cx="2666880" cy="1312200"/>
            <a:chOff x="457200" y="914400"/>
            <a:chExt cx="2666880" cy="1312200"/>
          </a:xfrm>
        </p:grpSpPr>
        <p:sp>
          <p:nvSpPr>
            <p:cNvPr id="212" name=""/>
            <p:cNvSpPr/>
            <p:nvPr/>
          </p:nvSpPr>
          <p:spPr>
            <a:xfrm>
              <a:off x="457200" y="914400"/>
              <a:ext cx="2009880" cy="131220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الابتدائية لبداية تنفيذ حلقة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hile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13080" y="1295280"/>
              <a:ext cx="71100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80880" y="4952880"/>
            <a:ext cx="1981440" cy="1540800"/>
            <a:chOff x="380880" y="4952880"/>
            <a:chExt cx="1981440" cy="1540800"/>
          </a:xfrm>
        </p:grpSpPr>
        <p:sp>
          <p:nvSpPr>
            <p:cNvPr id="215" name=""/>
            <p:cNvSpPr/>
            <p:nvPr/>
          </p:nvSpPr>
          <p:spPr>
            <a:xfrm>
              <a:off x="380880" y="5486400"/>
              <a:ext cx="1981440" cy="100728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زيادة قيمة المتغير بعد كل تكرار للحل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1676520" y="4952880"/>
              <a:ext cx="380880" cy="45720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80880" y="838080"/>
            <a:ext cx="8305560" cy="5638680"/>
            <a:chOff x="380880" y="838080"/>
            <a:chExt cx="8305560" cy="5638680"/>
          </a:xfrm>
        </p:grpSpPr>
        <p:sp>
          <p:nvSpPr>
            <p:cNvPr id="219" name=""/>
            <p:cNvSpPr/>
            <p:nvPr/>
          </p:nvSpPr>
          <p:spPr>
            <a:xfrm>
              <a:off x="380880" y="1203840"/>
              <a:ext cx="8305560" cy="527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880" y="838080"/>
              <a:ext cx="8305560" cy="3657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Text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76212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Text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17524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90720" y="289548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unt &lt;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350532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”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welcome to 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4540320"/>
            <a:ext cx="71625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51814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2819520"/>
            <a:ext cx="7315200" cy="22860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2286000"/>
            <a:ext cx="6934320" cy="473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int  count =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571500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4038480"/>
            <a:ext cx="1676520" cy="504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cou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609480" y="1143000"/>
            <a:ext cx="8077320" cy="1218960"/>
            <a:chOff x="609480" y="1143000"/>
            <a:chExt cx="8077320" cy="1218960"/>
          </a:xfrm>
        </p:grpSpPr>
        <p:sp>
          <p:nvSpPr>
            <p:cNvPr id="232" name=""/>
            <p:cNvSpPr/>
            <p:nvPr/>
          </p:nvSpPr>
          <p:spPr>
            <a:xfrm>
              <a:off x="609480" y="1143000"/>
              <a:ext cx="8077320" cy="1218960"/>
            </a:xfrm>
            <a:prstGeom prst="rect">
              <a:avLst/>
            </a:prstGeom>
            <a:noFill/>
            <a:ln w="22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1218960"/>
              <a:ext cx="77724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بإستخدام حلقة </a:t>
              </a:r>
              <a:r>
                <a:rPr b="1" i="1" lang="en-US" sz="2500" spc="-1" strike="noStrike">
                  <a:solidFill>
                    <a:srgbClr val="00007d"/>
                  </a:solidFill>
                  <a:latin typeface="Arial"/>
                </a:rPr>
                <a:t>while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،اكتب برنامج يقوم بطباعة الأعداد فى المدى من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 بحيث يكون ناتج تنفيذ البرنامج  كالآتى 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09480" y="274320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numbers from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ar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-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4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5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6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7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8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9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SUST</dc:creator>
  <dc:description/>
  <dc:language>en-US</dc:language>
  <cp:lastModifiedBy>Yahia</cp:lastModifiedBy>
  <dcterms:modified xsi:type="dcterms:W3CDTF">2011-05-24T18:57:27Z</dcterms:modified>
  <cp:revision>1664</cp:revision>
  <dc:subject>Programming Fundamentals</dc:subject>
  <dc:title>Primitive Data Type</dc:title>
</cp:coreProperties>
</file>