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12E2-72FF-43D9-B9C1-1C6700A325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24935-10EA-4726-B837-EA1BCCA22F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5AF7-427A-46CD-A449-5F24AB0960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59CD-5F7A-4E06-871F-D4AF222C46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1BBD-7F6F-4B02-8E76-540EBAC032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8AC2-6972-47D6-AB02-4E3A09D7B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0430-DFD0-4704-953D-ED6E60834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90DA-10DE-4112-B709-FBE9A0A502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4133-6856-4D74-B318-1EE9F366DE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1E7A-A4A4-4049-BC5C-983892F763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DB15-2ECA-4CD3-BF13-32E530EC0A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38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9F3D-9356-4C96-9298-106E298229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8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8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56760" indent="-3567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36144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0556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801"/>
              </a:spcBef>
              <a:spcAft>
                <a:spcPts val="700"/>
              </a:spcAft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8440">
              <a:spcBef>
                <a:spcPts val="2801"/>
              </a:spcBef>
              <a:spcAft>
                <a:spcPts val="700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8440">
              <a:spcBef>
                <a:spcPts val="2801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51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4475-577F-4895-850B-E179445E7FE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1448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3200" y="9144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ساسيات البرم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ntrol struc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Loop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510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(4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236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do-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 اكتب برنامج يقوم بطباعة الحروف من ”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Z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على شاشة التنفيذ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28600" y="304920"/>
            <a:ext cx="876312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2819520"/>
            <a:ext cx="7848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A- B- C- D- E – F- G- H- ...................... V- W- X- Y-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برنامج طباعة الحروف م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 - A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962520"/>
            <a:ext cx="2286000" cy="12189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‘Z’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962520" y="5181480"/>
            <a:ext cx="304560" cy="1067040"/>
            <a:chOff x="3962520" y="5181480"/>
            <a:chExt cx="304560" cy="1067040"/>
          </a:xfrm>
        </p:grpSpPr>
        <p:sp>
          <p:nvSpPr>
            <p:cNvPr id="243" name=""/>
            <p:cNvSpPr/>
            <p:nvPr/>
          </p:nvSpPr>
          <p:spPr>
            <a:xfrm>
              <a:off x="3962520" y="59436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14800" y="5181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209680" y="2514600"/>
            <a:ext cx="426744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ch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32767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419112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51440" y="52722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8760" y="2209680"/>
            <a:ext cx="3505320" cy="2362320"/>
            <a:chOff x="608760" y="2209680"/>
            <a:chExt cx="3505320" cy="2362320"/>
          </a:xfrm>
        </p:grpSpPr>
        <p:grpSp>
          <p:nvGrpSpPr>
            <p:cNvPr id="250" name=""/>
            <p:cNvGrpSpPr/>
            <p:nvPr/>
          </p:nvGrpSpPr>
          <p:grpSpPr>
            <a:xfrm>
              <a:off x="609120" y="2209680"/>
              <a:ext cx="2438280" cy="2362320"/>
              <a:chOff x="609120" y="2209680"/>
              <a:chExt cx="2438280" cy="236232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609120" y="4572000"/>
                <a:ext cx="2438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609480" y="2209680"/>
                <a:ext cx="0" cy="23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608760" y="220968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914400" y="4692600"/>
            <a:ext cx="1981080" cy="67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مواصلة التنفيذ الحلق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1447920"/>
            <a:ext cx="18288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 =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‘A’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90720" y="990720"/>
            <a:ext cx="2209680" cy="1189800"/>
            <a:chOff x="990720" y="990720"/>
            <a:chExt cx="2209680" cy="1189800"/>
          </a:xfrm>
        </p:grpSpPr>
        <p:sp>
          <p:nvSpPr>
            <p:cNvPr id="258" name=""/>
            <p:cNvSpPr/>
            <p:nvPr/>
          </p:nvSpPr>
          <p:spPr>
            <a:xfrm>
              <a:off x="990720" y="990720"/>
              <a:ext cx="1523880" cy="11898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ال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14600" y="1371600"/>
              <a:ext cx="685800" cy="214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666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952880" y="3641760"/>
            <a:ext cx="3862080" cy="1027080"/>
            <a:chOff x="4952880" y="3641760"/>
            <a:chExt cx="3862080" cy="1027080"/>
          </a:xfrm>
        </p:grpSpPr>
        <p:grpSp>
          <p:nvGrpSpPr>
            <p:cNvPr id="262" name=""/>
            <p:cNvGrpSpPr/>
            <p:nvPr/>
          </p:nvGrpSpPr>
          <p:grpSpPr>
            <a:xfrm>
              <a:off x="4952880" y="3641760"/>
              <a:ext cx="3862080" cy="1027080"/>
              <a:chOff x="4952880" y="3641760"/>
              <a:chExt cx="3862080" cy="10270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5486400" y="3641760"/>
                <a:ext cx="3328560" cy="1027080"/>
                <a:chOff x="5486400" y="3641760"/>
                <a:chExt cx="3328560" cy="10270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590080" y="3641760"/>
                  <a:ext cx="3120840" cy="930240"/>
                </a:xfrm>
                <a:prstGeom prst="flowChartDocumen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486400" y="3708000"/>
                  <a:ext cx="332856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900" spc="-1" strike="noStrike">
                      <a:solidFill>
                        <a:srgbClr val="000000"/>
                      </a:solidFill>
                      <a:latin typeface="Arial"/>
                    </a:rPr>
                    <a:t>شرط تنفيذ الحلقة أن تكون قيمة المتغير</a:t>
                  </a:r>
                  <a:r>
                    <a:rPr b="1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1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19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أقل من أو تساوى</a:t>
                  </a:r>
                  <a:r>
                    <a:rPr b="1" lang="en-US" sz="19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’</a:t>
                  </a:r>
                  <a:r>
                    <a:rPr b="1" lang="en-US" sz="19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Z</a:t>
                  </a:r>
                  <a:r>
                    <a:rPr b="1" lang="en-US" sz="19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’</a:t>
                  </a:r>
                  <a:r>
                    <a:rPr b="1" lang="en-US" sz="19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 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 flipH="1">
                <a:off x="4952880" y="4114800"/>
                <a:ext cx="609840" cy="244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257800" y="40384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62120" y="3123720"/>
            <a:ext cx="2057400" cy="1220760"/>
            <a:chOff x="762120" y="3123720"/>
            <a:chExt cx="2057400" cy="1220760"/>
          </a:xfrm>
        </p:grpSpPr>
        <p:sp>
          <p:nvSpPr>
            <p:cNvPr id="269" name=""/>
            <p:cNvSpPr/>
            <p:nvPr/>
          </p:nvSpPr>
          <p:spPr>
            <a:xfrm>
              <a:off x="762120" y="3429000"/>
              <a:ext cx="2057400" cy="91548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زيادة قيمة المتغير بواحد بعد كل تكرار لل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828800" y="3123720"/>
              <a:ext cx="457200" cy="3049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76520" y="31240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274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ch + 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464832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2819520"/>
            <a:ext cx="7315200" cy="243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2286000"/>
            <a:ext cx="25146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ch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‘A’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881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4648320"/>
            <a:ext cx="32767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‘Z’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289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do-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قوم بطباعة الأعداد فى المدى من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بحيث يكون ناتج تنفيذ البرنامج  كالآتى 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57200" y="27432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numbers from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1-2-3-4-5- .......... 44- 45- 46- 47- 48-49-50 ....... 98-99-100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304920"/>
            <a:ext cx="876312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برنامج طباعة الأعداد من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962520"/>
            <a:ext cx="2362320" cy="12952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10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038480" y="5257800"/>
            <a:ext cx="304560" cy="990360"/>
            <a:chOff x="4038480" y="5257800"/>
            <a:chExt cx="304560" cy="990360"/>
          </a:xfrm>
        </p:grpSpPr>
        <p:sp>
          <p:nvSpPr>
            <p:cNvPr id="296" name=""/>
            <p:cNvSpPr/>
            <p:nvPr/>
          </p:nvSpPr>
          <p:spPr>
            <a:xfrm>
              <a:off x="4038480" y="5965200"/>
              <a:ext cx="304560" cy="2829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90760" y="5257800"/>
              <a:ext cx="0" cy="70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09680" y="2514600"/>
            <a:ext cx="426744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.out.print 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num  +  “-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32767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419112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51440" y="527220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08760" y="2209680"/>
            <a:ext cx="3505320" cy="2362320"/>
            <a:chOff x="608760" y="2209680"/>
            <a:chExt cx="3505320" cy="2362320"/>
          </a:xfrm>
        </p:grpSpPr>
        <p:grpSp>
          <p:nvGrpSpPr>
            <p:cNvPr id="303" name=""/>
            <p:cNvGrpSpPr/>
            <p:nvPr/>
          </p:nvGrpSpPr>
          <p:grpSpPr>
            <a:xfrm>
              <a:off x="609120" y="2209680"/>
              <a:ext cx="2438280" cy="2362320"/>
              <a:chOff x="609120" y="2209680"/>
              <a:chExt cx="2438280" cy="2362320"/>
            </a:xfrm>
          </p:grpSpPr>
          <p:sp>
            <p:nvSpPr>
              <p:cNvPr id="304" name=""/>
              <p:cNvSpPr/>
              <p:nvPr/>
            </p:nvSpPr>
            <p:spPr>
              <a:xfrm flipH="1">
                <a:off x="609120" y="4572000"/>
                <a:ext cx="2438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09480" y="2209680"/>
                <a:ext cx="0" cy="23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08760" y="220968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914400" y="4692600"/>
            <a:ext cx="1981080" cy="67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مواصلة التنفيذ الحلق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1447920"/>
            <a:ext cx="18288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990720" y="990720"/>
            <a:ext cx="2209680" cy="1189800"/>
            <a:chOff x="990720" y="990720"/>
            <a:chExt cx="2209680" cy="1189800"/>
          </a:xfrm>
        </p:grpSpPr>
        <p:sp>
          <p:nvSpPr>
            <p:cNvPr id="311" name=""/>
            <p:cNvSpPr/>
            <p:nvPr/>
          </p:nvSpPr>
          <p:spPr>
            <a:xfrm>
              <a:off x="990720" y="990720"/>
              <a:ext cx="1523880" cy="11898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1371600"/>
              <a:ext cx="685800" cy="214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666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952880" y="3641760"/>
            <a:ext cx="3862080" cy="1027080"/>
            <a:chOff x="4952880" y="3641760"/>
            <a:chExt cx="3862080" cy="1027080"/>
          </a:xfrm>
        </p:grpSpPr>
        <p:grpSp>
          <p:nvGrpSpPr>
            <p:cNvPr id="315" name=""/>
            <p:cNvGrpSpPr/>
            <p:nvPr/>
          </p:nvGrpSpPr>
          <p:grpSpPr>
            <a:xfrm>
              <a:off x="4952880" y="3641760"/>
              <a:ext cx="3862080" cy="1027080"/>
              <a:chOff x="4952880" y="3641760"/>
              <a:chExt cx="3862080" cy="102708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486400" y="3641760"/>
                <a:ext cx="3328560" cy="1027080"/>
                <a:chOff x="5486400" y="3641760"/>
                <a:chExt cx="3328560" cy="10270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590080" y="3641760"/>
                  <a:ext cx="3120840" cy="930240"/>
                </a:xfrm>
                <a:prstGeom prst="flowChartDocumen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86400" y="3708000"/>
                  <a:ext cx="3328560" cy="96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900" spc="-1" strike="noStrike">
                      <a:solidFill>
                        <a:srgbClr val="000000"/>
                      </a:solidFill>
                      <a:latin typeface="Arial"/>
                    </a:rPr>
                    <a:t>شرط تنفيذ الحلقة أن تكون قيمة المتغير</a:t>
                  </a:r>
                  <a:r>
                    <a:rPr b="1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num</a:t>
                  </a:r>
                  <a:r>
                    <a:rPr b="1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1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19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أقل من أو تساوى</a:t>
                  </a:r>
                  <a:r>
                    <a:rPr b="1" lang="en-US" sz="19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100</a:t>
                  </a:r>
                  <a:r>
                    <a:rPr b="1" lang="en-US" sz="19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 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 flipH="1">
                <a:off x="4952880" y="4114800"/>
                <a:ext cx="609840" cy="244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5257800" y="40384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62120" y="3123720"/>
            <a:ext cx="2057400" cy="1220760"/>
            <a:chOff x="762120" y="3123720"/>
            <a:chExt cx="2057400" cy="1220760"/>
          </a:xfrm>
        </p:grpSpPr>
        <p:sp>
          <p:nvSpPr>
            <p:cNvPr id="322" name=""/>
            <p:cNvSpPr/>
            <p:nvPr/>
          </p:nvSpPr>
          <p:spPr>
            <a:xfrm>
              <a:off x="762120" y="3429000"/>
              <a:ext cx="2057400" cy="91548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زيادة قيمة المتغير بواحد بعد كل تكرار لل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828800" y="3123720"/>
              <a:ext cx="457200" cy="3049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76520" y="31240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327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uessNum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uessNum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num + 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464832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2819520"/>
            <a:ext cx="7315200" cy="243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286000"/>
            <a:ext cx="693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num 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5881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4648320"/>
            <a:ext cx="37339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um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609480" y="1143000"/>
            <a:ext cx="8077320" cy="1218960"/>
            <a:chOff x="609480" y="1143000"/>
            <a:chExt cx="8077320" cy="1218960"/>
          </a:xfrm>
        </p:grpSpPr>
        <p:sp>
          <p:nvSpPr>
            <p:cNvPr id="342" name=""/>
            <p:cNvSpPr/>
            <p:nvPr/>
          </p:nvSpPr>
          <p:spPr>
            <a:xfrm>
              <a:off x="609480" y="1143000"/>
              <a:ext cx="8077320" cy="121896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120" y="121896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do-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قوم بطباعة </a:t>
              </a:r>
              <a:r>
                <a:rPr b="1" lang="ar-SA" sz="2600" spc="-1" strike="noStrike">
                  <a:solidFill>
                    <a:srgbClr val="ff0000"/>
                  </a:solidFill>
                  <a:latin typeface="Arial"/>
                </a:rPr>
                <a:t>مجموع الأعداد الفردية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المحصورة فى المدى من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50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en-US" sz="2600" spc="-1" strike="noStrike">
                  <a:solidFill>
                    <a:srgbClr val="00007d"/>
                  </a:solidFill>
                  <a:latin typeface="Arial"/>
                </a:rPr>
                <a:t>1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حيث يكون ناتج تنفيذ البرنامج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80880" y="28954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Summation o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odd numb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between 10 - 50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6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685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طباعة مجموع الاعداد الفردية بين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5181480"/>
            <a:ext cx="2590560" cy="83844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5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962520" y="6019920"/>
            <a:ext cx="304560" cy="685800"/>
            <a:chOff x="3962520" y="6019920"/>
            <a:chExt cx="304560" cy="685800"/>
          </a:xfrm>
        </p:grpSpPr>
        <p:sp>
          <p:nvSpPr>
            <p:cNvPr id="349" name=""/>
            <p:cNvSpPr/>
            <p:nvPr/>
          </p:nvSpPr>
          <p:spPr>
            <a:xfrm>
              <a:off x="3962520" y="6438960"/>
              <a:ext cx="304560" cy="2667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14800" y="6019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11480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519588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601992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85080" y="2057040"/>
            <a:ext cx="3429000" cy="3581280"/>
            <a:chOff x="685080" y="2057040"/>
            <a:chExt cx="3429000" cy="3581280"/>
          </a:xfrm>
        </p:grpSpPr>
        <p:grpSp>
          <p:nvGrpSpPr>
            <p:cNvPr id="355" name=""/>
            <p:cNvGrpSpPr/>
            <p:nvPr/>
          </p:nvGrpSpPr>
          <p:grpSpPr>
            <a:xfrm>
              <a:off x="685800" y="2057040"/>
              <a:ext cx="2133360" cy="3581280"/>
              <a:chOff x="685800" y="2057040"/>
              <a:chExt cx="2133360" cy="3581280"/>
            </a:xfrm>
          </p:grpSpPr>
          <p:sp>
            <p:nvSpPr>
              <p:cNvPr id="356" name=""/>
              <p:cNvSpPr/>
              <p:nvPr/>
            </p:nvSpPr>
            <p:spPr>
              <a:xfrm flipH="1">
                <a:off x="685800" y="5638320"/>
                <a:ext cx="213336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85800" y="2057040"/>
                <a:ext cx="0" cy="358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019920" y="4605480"/>
            <a:ext cx="2944440" cy="1082520"/>
            <a:chOff x="6019920" y="4605480"/>
            <a:chExt cx="2944440" cy="1082520"/>
          </a:xfrm>
        </p:grpSpPr>
        <p:sp>
          <p:nvSpPr>
            <p:cNvPr id="360" name=""/>
            <p:cNvSpPr/>
            <p:nvPr/>
          </p:nvSpPr>
          <p:spPr>
            <a:xfrm>
              <a:off x="6111360" y="4605480"/>
              <a:ext cx="2760480" cy="10332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920" y="4680720"/>
              <a:ext cx="29444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شرط تنفيذ الحلقة أن تكون قيمة المتغير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أقل من أو تساوى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 flipH="1">
            <a:off x="5257800" y="5257800"/>
            <a:ext cx="838080" cy="3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5181480"/>
            <a:ext cx="1447560" cy="67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مواصلة التنفي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95480" y="1295280"/>
            <a:ext cx="25146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0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066680" y="914400"/>
            <a:ext cx="1981080" cy="702360"/>
            <a:chOff x="1066680" y="914400"/>
            <a:chExt cx="1981080" cy="702360"/>
          </a:xfrm>
        </p:grpSpPr>
        <p:sp>
          <p:nvSpPr>
            <p:cNvPr id="367" name=""/>
            <p:cNvSpPr/>
            <p:nvPr/>
          </p:nvSpPr>
          <p:spPr>
            <a:xfrm>
              <a:off x="1066680" y="914400"/>
              <a:ext cx="1471680" cy="70236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قيمة الابتدائ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38360" y="1295280"/>
              <a:ext cx="5094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429000" y="4343400"/>
            <a:ext cx="14479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90920" y="9907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91320" y="5105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2286000"/>
            <a:ext cx="2666880" cy="1066680"/>
          </a:xfrm>
          <a:prstGeom prst="flowChartDecision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 % 2 !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3276720"/>
            <a:ext cx="2361960" cy="45720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um = sum + 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876560" y="2819520"/>
            <a:ext cx="1143360" cy="1752480"/>
            <a:chOff x="4876560" y="2819520"/>
            <a:chExt cx="1143360" cy="1752480"/>
          </a:xfrm>
        </p:grpSpPr>
        <p:sp>
          <p:nvSpPr>
            <p:cNvPr id="375" name=""/>
            <p:cNvSpPr/>
            <p:nvPr/>
          </p:nvSpPr>
          <p:spPr>
            <a:xfrm>
              <a:off x="5357880" y="2819520"/>
              <a:ext cx="66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18840" y="2819520"/>
              <a:ext cx="108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876560" y="45720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423040" y="2438280"/>
            <a:ext cx="9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981080" y="2438280"/>
            <a:ext cx="836640" cy="838080"/>
            <a:chOff x="1981080" y="2438280"/>
            <a:chExt cx="836640" cy="838080"/>
          </a:xfrm>
        </p:grpSpPr>
        <p:sp>
          <p:nvSpPr>
            <p:cNvPr id="380" name=""/>
            <p:cNvSpPr/>
            <p:nvPr/>
          </p:nvSpPr>
          <p:spPr>
            <a:xfrm>
              <a:off x="1981080" y="28191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81080" y="24382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81080" y="281916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981080" y="3733920"/>
            <a:ext cx="2133720" cy="609120"/>
            <a:chOff x="1981080" y="3733920"/>
            <a:chExt cx="2133720" cy="609120"/>
          </a:xfrm>
        </p:grpSpPr>
        <p:sp>
          <p:nvSpPr>
            <p:cNvPr id="384" name=""/>
            <p:cNvSpPr/>
            <p:nvPr/>
          </p:nvSpPr>
          <p:spPr>
            <a:xfrm>
              <a:off x="1981080" y="3733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1080" y="403848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14800" y="40384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76560" y="1328760"/>
            <a:ext cx="3809880" cy="1387440"/>
            <a:chOff x="4876560" y="1328760"/>
            <a:chExt cx="3809880" cy="1387440"/>
          </a:xfrm>
        </p:grpSpPr>
        <p:grpSp>
          <p:nvGrpSpPr>
            <p:cNvPr id="388" name=""/>
            <p:cNvGrpSpPr/>
            <p:nvPr/>
          </p:nvGrpSpPr>
          <p:grpSpPr>
            <a:xfrm>
              <a:off x="5742000" y="1328760"/>
              <a:ext cx="2944440" cy="1387440"/>
              <a:chOff x="5742000" y="1328760"/>
              <a:chExt cx="2944440" cy="1387440"/>
            </a:xfrm>
          </p:grpSpPr>
          <p:sp>
            <p:nvSpPr>
              <p:cNvPr id="389" name=""/>
              <p:cNvSpPr/>
              <p:nvPr/>
            </p:nvSpPr>
            <p:spPr>
              <a:xfrm>
                <a:off x="5833440" y="1328760"/>
                <a:ext cx="2760480" cy="103356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42000" y="1404000"/>
                <a:ext cx="294444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باستخدام عبارة الاختيار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 يتم اختبار العدد اذا كان فردى أو ل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4876560" y="2057400"/>
              <a:ext cx="990360" cy="609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8120" y="44197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457200" y="762120"/>
            <a:ext cx="8457840" cy="5943240"/>
            <a:chOff x="457200" y="762120"/>
            <a:chExt cx="8457840" cy="5943240"/>
          </a:xfrm>
        </p:grpSpPr>
        <p:sp>
          <p:nvSpPr>
            <p:cNvPr id="395" name=""/>
            <p:cNvSpPr/>
            <p:nvPr/>
          </p:nvSpPr>
          <p:spPr>
            <a:xfrm>
              <a:off x="457200" y="1147680"/>
              <a:ext cx="845784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" y="762120"/>
              <a:ext cx="845784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Odd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33520" y="11574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Odd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15382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2452680"/>
            <a:ext cx="40388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90720" y="432576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572940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2529000"/>
            <a:ext cx="7010640" cy="2361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1995480"/>
            <a:ext cx="3429000" cy="458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  x = 10 , sum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618660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2941560"/>
            <a:ext cx="6476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check if num is o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28800" y="3398760"/>
            <a:ext cx="51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um = sum +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824280"/>
            <a:ext cx="990360" cy="82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x 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4281480"/>
            <a:ext cx="2743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&lt;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489096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summation of odd number betw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” + sum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457200" y="838080"/>
            <a:ext cx="8077320" cy="2133720"/>
            <a:chOff x="457200" y="838080"/>
            <a:chExt cx="8077320" cy="2133720"/>
          </a:xfrm>
        </p:grpSpPr>
        <p:sp>
          <p:nvSpPr>
            <p:cNvPr id="412" name=""/>
            <p:cNvSpPr/>
            <p:nvPr/>
          </p:nvSpPr>
          <p:spPr>
            <a:xfrm>
              <a:off x="457200" y="838080"/>
              <a:ext cx="8077320" cy="2133720"/>
            </a:xfrm>
            <a:prstGeom prst="rect">
              <a:avLst/>
            </a:prstGeom>
            <a:noFill/>
            <a:ln w="22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840" y="1295280"/>
              <a:ext cx="7772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بإستخدام حلقة </a:t>
              </a:r>
              <a:r>
                <a:rPr b="1" i="1" lang="en-US" sz="2500" spc="-1" strike="noStrike">
                  <a:solidFill>
                    <a:srgbClr val="00007d"/>
                  </a:solidFill>
                  <a:latin typeface="Arial"/>
                </a:rPr>
                <a:t>do-while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اكتب برنامج يطلب من المستخدم ادخال عدد صحيح (من النوع </a:t>
              </a:r>
              <a:r>
                <a:rPr b="1" lang="en-US" sz="2600" spc="-1" strike="noStrike">
                  <a:solidFill>
                    <a:srgbClr val="0000ff"/>
                  </a:solidFill>
                  <a:latin typeface="Arial"/>
                </a:rPr>
                <a:t>int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) لعدد من المرات، بحيث يستمر المستخدم فى الادخال الى أن يتم إدخال القيمة </a:t>
              </a:r>
              <a:r>
                <a:rPr b="1" lang="ar-SA" sz="2600" spc="-1" strike="noStrike">
                  <a:solidFill>
                    <a:srgbClr val="0000ff"/>
                  </a:solidFill>
                  <a:latin typeface="Arial"/>
                </a:rPr>
                <a:t>صفر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1" lang="ar-SA" sz="2600" spc="-1" strike="noStrike">
                  <a:solidFill>
                    <a:srgbClr val="ff0000"/>
                  </a:solidFill>
                  <a:latin typeface="Arial"/>
                </a:rPr>
                <a:t>لإنهاء الإدخال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، ثم يقوم البرنامج </a:t>
              </a:r>
              <a:r>
                <a:rPr b="1" lang="ar-SA" sz="2600" spc="-1" strike="noStrike">
                  <a:solidFill>
                    <a:srgbClr val="00007d"/>
                  </a:solidFill>
                  <a:latin typeface="Arial"/>
                </a:rPr>
                <a:t>بطباعة مجموع الاعداد</a:t>
              </a:r>
              <a:r>
                <a:rPr b="1" lang="ar-SA" sz="2600" spc="-1" strike="noStrike">
                  <a:solidFill>
                    <a:srgbClr val="000000"/>
                  </a:solidFill>
                  <a:latin typeface="Arial"/>
                </a:rPr>
                <a:t> التى قام المستخدم بادخالها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80880" y="3048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إفتراض أن المستخدم قام بإدخال القيم الآتية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 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summation of inserted numbers is 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533520"/>
            <a:ext cx="8534520" cy="609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tents: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محتويات المحاضرة</a:t>
            </a:r>
            <a:r>
              <a:rPr b="1" lang="ar-SA" sz="3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1. Introdu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90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3. </a:t>
            </a:r>
            <a:r>
              <a:rPr b="1" i="1" lang="en-US" sz="2700" spc="-1" strike="noStrike">
                <a:solidFill>
                  <a:srgbClr val="4d4d4d"/>
                </a:solidFill>
                <a:latin typeface="Arial"/>
              </a:rPr>
              <a:t>The while Loop</a:t>
            </a: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4.2)</a:t>
            </a: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1911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Examp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4d4d4d"/>
                </a:solidFill>
                <a:latin typeface="Arial"/>
              </a:rPr>
              <a:t>2. The  for  Loop 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(sec 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352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Loo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ec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4.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دخال اعداد صحيحة من المستخدم، وطباعة مجموع هذه الاعداد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3809880"/>
            <a:ext cx="2286000" cy="106704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14800" y="4876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480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90060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8480" y="4800600"/>
            <a:ext cx="1143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08760" y="1905120"/>
            <a:ext cx="3505320" cy="2437920"/>
            <a:chOff x="608760" y="1905120"/>
            <a:chExt cx="3505320" cy="2437920"/>
          </a:xfrm>
        </p:grpSpPr>
        <p:grpSp>
          <p:nvGrpSpPr>
            <p:cNvPr id="423" name=""/>
            <p:cNvGrpSpPr/>
            <p:nvPr/>
          </p:nvGrpSpPr>
          <p:grpSpPr>
            <a:xfrm>
              <a:off x="609120" y="1905120"/>
              <a:ext cx="2438280" cy="2437920"/>
              <a:chOff x="609120" y="1905120"/>
              <a:chExt cx="2438280" cy="243792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609120" y="4343040"/>
                <a:ext cx="2438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609480" y="1905120"/>
                <a:ext cx="0" cy="243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08760" y="190512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838080" y="4419720"/>
            <a:ext cx="1981440" cy="67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مواصلة التنفيذ للحلق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95480" y="1219320"/>
            <a:ext cx="289584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 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1752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105160" y="3657600"/>
            <a:ext cx="3352680" cy="1378440"/>
            <a:chOff x="5105160" y="3657600"/>
            <a:chExt cx="3352680" cy="1378440"/>
          </a:xfrm>
        </p:grpSpPr>
        <p:grpSp>
          <p:nvGrpSpPr>
            <p:cNvPr id="431" name=""/>
            <p:cNvGrpSpPr/>
            <p:nvPr/>
          </p:nvGrpSpPr>
          <p:grpSpPr>
            <a:xfrm>
              <a:off x="5105160" y="3657600"/>
              <a:ext cx="3352680" cy="1378440"/>
              <a:chOff x="5105160" y="3657600"/>
              <a:chExt cx="3352680" cy="137844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5634000" y="3657600"/>
                <a:ext cx="2823840" cy="1378440"/>
                <a:chOff x="5634000" y="3657600"/>
                <a:chExt cx="2823840" cy="1378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721840" y="3657600"/>
                  <a:ext cx="2647440" cy="930240"/>
                </a:xfrm>
                <a:prstGeom prst="flowChartDocumen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634000" y="3723840"/>
                  <a:ext cx="2823840" cy="13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Arial"/>
                    </a:rPr>
                    <a:t>شرط تنفيذ الحلقة أن تكون قيمة المتغير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um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ar-SA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أكبر من </a:t>
                  </a:r>
                  <a:r>
                    <a:rPr b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</a:rPr>
                    <a:t>0</a:t>
                  </a:r>
                  <a:r>
                    <a:rPr b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 flipH="1">
                <a:off x="5105160" y="4130640"/>
                <a:ext cx="593640" cy="136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410080" y="38098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2209680"/>
            <a:ext cx="4876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“Enter number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(press 0 to Exit)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: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25909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scanner.nextInt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30481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 = sum +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2133720"/>
            <a:ext cx="7010280" cy="137160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962520" y="5791320"/>
            <a:ext cx="304560" cy="685800"/>
            <a:chOff x="3962520" y="5791320"/>
            <a:chExt cx="304560" cy="685800"/>
          </a:xfrm>
        </p:grpSpPr>
        <p:sp>
          <p:nvSpPr>
            <p:cNvPr id="443" name=""/>
            <p:cNvSpPr/>
            <p:nvPr/>
          </p:nvSpPr>
          <p:spPr>
            <a:xfrm>
              <a:off x="3962520" y="617220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14800" y="5791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438280" y="5257800"/>
            <a:ext cx="3505320" cy="53352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System.out.prin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sum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1219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666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31240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2209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457200" y="762120"/>
            <a:ext cx="8458200" cy="5943600"/>
            <a:chOff x="457200" y="762120"/>
            <a:chExt cx="8458200" cy="5943600"/>
          </a:xfrm>
        </p:grpSpPr>
        <p:sp>
          <p:nvSpPr>
            <p:cNvPr id="451" name=""/>
            <p:cNvSpPr/>
            <p:nvPr/>
          </p:nvSpPr>
          <p:spPr>
            <a:xfrm>
              <a:off x="457200" y="1066680"/>
              <a:ext cx="8458200" cy="56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" y="762120"/>
              <a:ext cx="8458200" cy="304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etNum.j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533520" y="14479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Num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18288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3124080"/>
            <a:ext cx="403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  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689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5943600"/>
            <a:ext cx="7162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124080"/>
            <a:ext cx="7925040" cy="2133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220968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sum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63244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19320" y="4343400"/>
            <a:ext cx="5105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 = sum +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95280" y="475452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5197320"/>
            <a:ext cx="8001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The summation of inserted number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” +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350532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Enter number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(press 0 to Exit)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: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38862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898920"/>
            <a:ext cx="7619760" cy="76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2666520"/>
            <a:ext cx="67057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09480" y="762120"/>
            <a:ext cx="8077320" cy="175248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إستخدام حلقة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اكتب برنامج يطلب من المستخدم ادخال مجموعة من الحروف تنتهى بإدخال العلامة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، ثم يقوم البرنامج بإختبار الحروف المُدخلة وتحديد ما اذا كانت من ضمن الحروف المتحركة "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owel letter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”، وطباعة مجموعها بحيث يكون التنفيذ كالآتى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2743200"/>
            <a:ext cx="274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har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2666880"/>
            <a:ext cx="381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ناتج التنفيذ بعد الإدخال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761400" y="1523520"/>
            <a:ext cx="3733560" cy="4114800"/>
            <a:chOff x="761400" y="1523520"/>
            <a:chExt cx="3733560" cy="4114800"/>
          </a:xfrm>
        </p:grpSpPr>
        <p:grpSp>
          <p:nvGrpSpPr>
            <p:cNvPr id="475" name=""/>
            <p:cNvGrpSpPr/>
            <p:nvPr/>
          </p:nvGrpSpPr>
          <p:grpSpPr>
            <a:xfrm>
              <a:off x="784080" y="1523520"/>
              <a:ext cx="1730160" cy="4114800"/>
              <a:chOff x="784080" y="1523520"/>
              <a:chExt cx="1730160" cy="4114800"/>
            </a:xfrm>
          </p:grpSpPr>
          <p:sp>
            <p:nvSpPr>
              <p:cNvPr id="476" name=""/>
              <p:cNvSpPr/>
              <p:nvPr/>
            </p:nvSpPr>
            <p:spPr>
              <a:xfrm flipH="1">
                <a:off x="784080" y="5638320"/>
                <a:ext cx="173016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84080" y="1523520"/>
                <a:ext cx="0" cy="411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761400" y="1523880"/>
              <a:ext cx="373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2590920" y="609480"/>
            <a:ext cx="502920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Enter char :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ch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.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xt()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1371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0880" y="609480"/>
            <a:ext cx="2286000" cy="1312200"/>
            <a:chOff x="380880" y="609480"/>
            <a:chExt cx="2286000" cy="1312200"/>
          </a:xfrm>
        </p:grpSpPr>
        <p:sp>
          <p:nvSpPr>
            <p:cNvPr id="482" name=""/>
            <p:cNvSpPr/>
            <p:nvPr/>
          </p:nvSpPr>
          <p:spPr>
            <a:xfrm>
              <a:off x="380880" y="609480"/>
              <a:ext cx="1989360" cy="13122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قراءة القيمة الابتدائية لبداية تنفيذ ا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20920" y="990360"/>
              <a:ext cx="345960" cy="1843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114800" y="6248520"/>
            <a:ext cx="375840" cy="533160"/>
            <a:chOff x="4114800" y="6248520"/>
            <a:chExt cx="375840" cy="533160"/>
          </a:xfrm>
        </p:grpSpPr>
        <p:sp>
          <p:nvSpPr>
            <p:cNvPr id="485" name=""/>
            <p:cNvSpPr/>
            <p:nvPr/>
          </p:nvSpPr>
          <p:spPr>
            <a:xfrm>
              <a:off x="4114800" y="6515280"/>
              <a:ext cx="37584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02720" y="62485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266720" y="4419720"/>
            <a:ext cx="3886560" cy="1828800"/>
            <a:chOff x="4266720" y="4419720"/>
            <a:chExt cx="3886560" cy="1828800"/>
          </a:xfrm>
        </p:grpSpPr>
        <p:sp>
          <p:nvSpPr>
            <p:cNvPr id="488" name=""/>
            <p:cNvSpPr/>
            <p:nvPr/>
          </p:nvSpPr>
          <p:spPr>
            <a:xfrm>
              <a:off x="5638680" y="4419720"/>
              <a:ext cx="251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53280" y="441972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4266720" y="6248520"/>
              <a:ext cx="388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486400" y="4038480"/>
            <a:ext cx="121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0880" y="152280"/>
            <a:ext cx="8534520" cy="38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09680" y="1676520"/>
            <a:ext cx="4648320" cy="213336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witch (ch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A’: case ‘a’ :   op1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E’: case ‘e’ :   op2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I’: case ‘i’ :     op3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O’: case ‘o’ :  op4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 ‘U’: case ‘u’ :  op5++;  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14600" y="5029200"/>
            <a:ext cx="4419720" cy="76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(“Enter char :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h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xt().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6064200"/>
            <a:ext cx="3657600" cy="702360"/>
            <a:chOff x="533520" y="6064200"/>
            <a:chExt cx="3657600" cy="702360"/>
          </a:xfrm>
        </p:grpSpPr>
        <p:sp>
          <p:nvSpPr>
            <p:cNvPr id="497" name=""/>
            <p:cNvSpPr/>
            <p:nvPr/>
          </p:nvSpPr>
          <p:spPr>
            <a:xfrm>
              <a:off x="533520" y="6064200"/>
              <a:ext cx="1912680" cy="70236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طباعة قيم المتغير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38280" y="6324480"/>
              <a:ext cx="1752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990720" y="4495680"/>
            <a:ext cx="1676160" cy="1189800"/>
            <a:chOff x="990720" y="4495680"/>
            <a:chExt cx="1676160" cy="1189800"/>
          </a:xfrm>
        </p:grpSpPr>
        <p:sp>
          <p:nvSpPr>
            <p:cNvPr id="500" name=""/>
            <p:cNvSpPr/>
            <p:nvPr/>
          </p:nvSpPr>
          <p:spPr>
            <a:xfrm>
              <a:off x="990720" y="4495680"/>
              <a:ext cx="1676160" cy="118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قراءة حرف جديد لمواصلة التنفي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62320" y="5181480"/>
              <a:ext cx="228600" cy="3049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352680" y="4038480"/>
            <a:ext cx="2286000" cy="7621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9568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57600" y="464832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457200" y="685800"/>
            <a:ext cx="8458200" cy="5943240"/>
            <a:chOff x="457200" y="685800"/>
            <a:chExt cx="8458200" cy="5943240"/>
          </a:xfrm>
        </p:grpSpPr>
        <p:sp>
          <p:nvSpPr>
            <p:cNvPr id="506" name=""/>
            <p:cNvSpPr/>
            <p:nvPr/>
          </p:nvSpPr>
          <p:spPr>
            <a:xfrm>
              <a:off x="457200" y="1006560"/>
              <a:ext cx="8458200" cy="56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7200" y="685800"/>
              <a:ext cx="8458200" cy="4816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etChar.j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09480" y="152388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Char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14400" y="190512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4038480"/>
            <a:ext cx="1066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4146480"/>
            <a:ext cx="7543800" cy="25592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2362320"/>
            <a:ext cx="502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1, op2, op3, op4, op5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4419720"/>
            <a:ext cx="594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h) 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start switch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1142640"/>
            <a:ext cx="845820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143000" y="327672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char: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3657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28800" y="495288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p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28800" y="548640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e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E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p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28800" y="601992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i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I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op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66680" y="2819160"/>
            <a:ext cx="67057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457200" y="685800"/>
            <a:ext cx="8458200" cy="5943240"/>
            <a:chOff x="457200" y="685800"/>
            <a:chExt cx="8458200" cy="5943240"/>
          </a:xfrm>
        </p:grpSpPr>
        <p:sp>
          <p:nvSpPr>
            <p:cNvPr id="523" name=""/>
            <p:cNvSpPr/>
            <p:nvPr/>
          </p:nvSpPr>
          <p:spPr>
            <a:xfrm>
              <a:off x="457200" y="1006560"/>
              <a:ext cx="8458200" cy="56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00" y="685800"/>
              <a:ext cx="8458200" cy="4816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etChar.j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838080" y="1219320"/>
            <a:ext cx="7543800" cy="28191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121932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o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O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p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1752480"/>
            <a:ext cx="640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u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a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U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p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342900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459240"/>
            <a:ext cx="3886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‘$’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59092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char: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143000" y="30481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harAt[0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2209680"/>
            <a:ext cx="6629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قراءة حرف جديد لمواصلة التنفيذ الى أن يتم ادخال العلامة 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66680" y="45720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4191120"/>
            <a:ext cx="7162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عند انهاء الادخال بالعلامة 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‘$’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يتم طباعة قيم المتغيرات الخمسة كالآتى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66680" y="50292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66680" y="556272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457200" y="685800"/>
            <a:ext cx="8458200" cy="5943240"/>
            <a:chOff x="457200" y="685800"/>
            <a:chExt cx="8458200" cy="5943240"/>
          </a:xfrm>
        </p:grpSpPr>
        <p:sp>
          <p:nvSpPr>
            <p:cNvPr id="539" name=""/>
            <p:cNvSpPr/>
            <p:nvPr/>
          </p:nvSpPr>
          <p:spPr>
            <a:xfrm>
              <a:off x="457200" y="1006560"/>
              <a:ext cx="8458200" cy="56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7200" y="685800"/>
              <a:ext cx="8458200" cy="4816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etChar.j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0720" y="137160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1905120"/>
            <a:ext cx="731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number of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p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259092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31384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85800" y="320040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بإفتراض أن المستخدم قام بإدخال الآتى: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 number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00007d"/>
                </a:solidFill>
                <a:latin typeface="Arial"/>
              </a:rPr>
              <a:t>The minimum number i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        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838080"/>
            <a:ext cx="8077320" cy="213372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اكتب برنامج يطلب من ؇لمستخدم ادخال مجموعة من الأعداد الصحيحة (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 بحيث ينتهى الادخال بإدخال الرقم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، ثم يقوم البرنامج بطباعة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العدد الاصغر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من بين تلك الاعداد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95280" y="1790280"/>
            <a:ext cx="7010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أ) قم بكتابة هذا البرنامج بإستخدام حلقة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do-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71600" y="2323800"/>
            <a:ext cx="7010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(ب) قم بكتابة هذا البرنامج بإستخدام حلقة 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971800" y="5410080"/>
            <a:ext cx="2438280" cy="60984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-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038480" y="6019920"/>
            <a:ext cx="304560" cy="533160"/>
            <a:chOff x="4038480" y="6019920"/>
            <a:chExt cx="304560" cy="533160"/>
          </a:xfrm>
        </p:grpSpPr>
        <p:sp>
          <p:nvSpPr>
            <p:cNvPr id="554" name=""/>
            <p:cNvSpPr/>
            <p:nvPr/>
          </p:nvSpPr>
          <p:spPr>
            <a:xfrm>
              <a:off x="4038480" y="6286680"/>
              <a:ext cx="304560" cy="26640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90760" y="60199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85080" y="2590920"/>
            <a:ext cx="3429000" cy="3124080"/>
            <a:chOff x="685080" y="2590920"/>
            <a:chExt cx="3429000" cy="3124080"/>
          </a:xfrm>
        </p:grpSpPr>
        <p:grpSp>
          <p:nvGrpSpPr>
            <p:cNvPr id="557" name=""/>
            <p:cNvGrpSpPr/>
            <p:nvPr/>
          </p:nvGrpSpPr>
          <p:grpSpPr>
            <a:xfrm>
              <a:off x="685440" y="2590920"/>
              <a:ext cx="2255400" cy="3124080"/>
              <a:chOff x="685440" y="2590920"/>
              <a:chExt cx="2255400" cy="3124080"/>
            </a:xfrm>
          </p:grpSpPr>
          <p:sp>
            <p:nvSpPr>
              <p:cNvPr id="558" name=""/>
              <p:cNvSpPr/>
              <p:nvPr/>
            </p:nvSpPr>
            <p:spPr>
              <a:xfrm flipH="1">
                <a:off x="685440" y="5715000"/>
                <a:ext cx="225540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85800" y="2590920"/>
                <a:ext cx="0" cy="312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685080" y="259092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191120" y="1676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8380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“Enter number: ”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91120" y="24382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scanner.nextInt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0" y="762120"/>
            <a:ext cx="4952880" cy="91440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 Work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2819520"/>
            <a:ext cx="2667240" cy="761760"/>
          </a:xfrm>
          <a:prstGeom prst="flowChartDecision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 &lt; 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43000" y="3581280"/>
            <a:ext cx="1828800" cy="457200"/>
          </a:xfrm>
          <a:prstGeom prst="rect">
            <a:avLst/>
          </a:prstGeom>
          <a:solidFill>
            <a:srgbClr val="0000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n = 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2058840" y="2895480"/>
            <a:ext cx="836640" cy="685440"/>
            <a:chOff x="2058840" y="2895480"/>
            <a:chExt cx="836640" cy="685440"/>
          </a:xfrm>
        </p:grpSpPr>
        <p:sp>
          <p:nvSpPr>
            <p:cNvPr id="570" name=""/>
            <p:cNvSpPr/>
            <p:nvPr/>
          </p:nvSpPr>
          <p:spPr>
            <a:xfrm>
              <a:off x="2058840" y="32068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58840" y="28954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58840" y="3206880"/>
              <a:ext cx="83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423040" y="2819520"/>
            <a:ext cx="2120760" cy="1904760"/>
            <a:chOff x="5423040" y="2819520"/>
            <a:chExt cx="2120760" cy="1904760"/>
          </a:xfrm>
        </p:grpSpPr>
        <p:grpSp>
          <p:nvGrpSpPr>
            <p:cNvPr id="574" name=""/>
            <p:cNvGrpSpPr/>
            <p:nvPr/>
          </p:nvGrpSpPr>
          <p:grpSpPr>
            <a:xfrm>
              <a:off x="5562720" y="3200400"/>
              <a:ext cx="1981080" cy="1523880"/>
              <a:chOff x="5562720" y="3200400"/>
              <a:chExt cx="1981080" cy="1523880"/>
            </a:xfrm>
          </p:grpSpPr>
          <p:sp>
            <p:nvSpPr>
              <p:cNvPr id="575" name=""/>
              <p:cNvSpPr/>
              <p:nvPr/>
            </p:nvSpPr>
            <p:spPr>
              <a:xfrm>
                <a:off x="5562720" y="3200400"/>
                <a:ext cx="198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543800" y="3200400"/>
                <a:ext cx="0" cy="152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162920" y="472428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5423040" y="2819520"/>
              <a:ext cx="97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981080" y="4038480"/>
            <a:ext cx="2133720" cy="304560"/>
            <a:chOff x="1981080" y="4038480"/>
            <a:chExt cx="2133720" cy="304560"/>
          </a:xfrm>
        </p:grpSpPr>
        <p:sp>
          <p:nvSpPr>
            <p:cNvPr id="580" name=""/>
            <p:cNvSpPr/>
            <p:nvPr/>
          </p:nvSpPr>
          <p:spPr>
            <a:xfrm>
              <a:off x="1981080" y="4038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419076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14800" y="4190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4191120" y="5105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5958000"/>
            <a:ext cx="1143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09680" y="534816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76720" y="1981080"/>
            <a:ext cx="18288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434340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7d"/>
                </a:solidFill>
                <a:latin typeface="Arial"/>
              </a:rPr>
              <a:t>System.out.pr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“Enter number: ”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09680" y="4648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scanner.nextInt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09680" y="4343400"/>
            <a:ext cx="4953240" cy="76212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457200" y="762120"/>
            <a:ext cx="8457840" cy="5943240"/>
            <a:chOff x="457200" y="762120"/>
            <a:chExt cx="8457840" cy="5943240"/>
          </a:xfrm>
        </p:grpSpPr>
        <p:sp>
          <p:nvSpPr>
            <p:cNvPr id="591" name=""/>
            <p:cNvSpPr/>
            <p:nvPr/>
          </p:nvSpPr>
          <p:spPr>
            <a:xfrm>
              <a:off x="457200" y="1147680"/>
              <a:ext cx="8457840" cy="555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7200" y="762120"/>
              <a:ext cx="8457840" cy="3855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etMin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0020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GetMin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205740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3124080"/>
            <a:ext cx="53341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number: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4400" y="36576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" y="1142640"/>
            <a:ext cx="8458200" cy="427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mpor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java.util.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Scanner 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تحديد مكان وجود الـ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2590560"/>
            <a:ext cx="670572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anner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4191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x;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 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بأول عدد تتم قرائته من المستخدم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min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تحديد القيمة الابتدائية للمتغير</a:t>
            </a:r>
            <a:r>
              <a:rPr b="1" lang="ar-SA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4692600"/>
            <a:ext cx="4038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of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28800" y="5257800"/>
            <a:ext cx="7010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if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 min </a:t>
            </a:r>
            <a:r>
              <a:rPr b="1" i="1" lang="ar-SA" sz="2000" spc="-1" strike="noStrike">
                <a:solidFill>
                  <a:srgbClr val="4d4d4d"/>
                </a:solidFill>
                <a:latin typeface="Arial"/>
              </a:rPr>
              <a:t>مقارنة العدد مع القيمة المخزنة بالمتغ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38280" y="5867280"/>
            <a:ext cx="327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914400"/>
            <a:ext cx="7296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yntax of 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do-</a:t>
            </a:r>
            <a:r>
              <a:rPr b="1" lang="en-US" sz="27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878360"/>
            <a:ext cx="990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480" y="2209680"/>
            <a:ext cx="1828800" cy="702360"/>
            <a:chOff x="609480" y="2209680"/>
            <a:chExt cx="1828800" cy="702360"/>
          </a:xfrm>
        </p:grpSpPr>
        <p:sp>
          <p:nvSpPr>
            <p:cNvPr id="114" name=""/>
            <p:cNvSpPr/>
            <p:nvPr/>
          </p:nvSpPr>
          <p:spPr>
            <a:xfrm flipH="1">
              <a:off x="990360" y="2590560"/>
              <a:ext cx="228600" cy="3063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2209680"/>
              <a:ext cx="1676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2276280"/>
              <a:ext cx="228600" cy="239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723920" y="5335560"/>
            <a:ext cx="3048480" cy="991080"/>
            <a:chOff x="4723920" y="5335560"/>
            <a:chExt cx="3048480" cy="991080"/>
          </a:xfrm>
        </p:grpSpPr>
        <p:sp>
          <p:nvSpPr>
            <p:cNvPr id="118" name=""/>
            <p:cNvSpPr/>
            <p:nvPr/>
          </p:nvSpPr>
          <p:spPr>
            <a:xfrm flipH="1" flipV="1">
              <a:off x="4723920" y="5335560"/>
              <a:ext cx="381240" cy="3808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2880" y="5624280"/>
              <a:ext cx="28195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شرط 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56242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00200" y="2576520"/>
            <a:ext cx="3429000" cy="549360"/>
            <a:chOff x="1600200" y="2576520"/>
            <a:chExt cx="3429000" cy="549360"/>
          </a:xfrm>
        </p:grpSpPr>
        <p:sp>
          <p:nvSpPr>
            <p:cNvPr id="122" name=""/>
            <p:cNvSpPr/>
            <p:nvPr/>
          </p:nvSpPr>
          <p:spPr>
            <a:xfrm flipH="1">
              <a:off x="1600200" y="2820960"/>
              <a:ext cx="990720" cy="304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2576520"/>
              <a:ext cx="236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 loop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14600" y="259236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143000" y="3354120"/>
            <a:ext cx="7772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// Loop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597840"/>
            <a:ext cx="80773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ment(s);  //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التعليمات المراد تنفيذها عند تحقق شرط تنفيذ الحلقة التكراري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772040" y="2895480"/>
            <a:ext cx="304920" cy="990720"/>
            <a:chOff x="7772040" y="2895480"/>
            <a:chExt cx="304920" cy="990720"/>
          </a:xfrm>
        </p:grpSpPr>
        <p:sp>
          <p:nvSpPr>
            <p:cNvPr id="128" name=""/>
            <p:cNvSpPr/>
            <p:nvPr/>
          </p:nvSpPr>
          <p:spPr>
            <a:xfrm flipH="1">
              <a:off x="7772040" y="3200400"/>
              <a:ext cx="15228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48360" y="289548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4862520"/>
            <a:ext cx="381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863600"/>
            <a:ext cx="51055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op- continuation-conditi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86380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616040"/>
            <a:ext cx="1904760" cy="41256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itial-action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666520" y="1639800"/>
            <a:ext cx="4800600" cy="702360"/>
            <a:chOff x="2666520" y="1639800"/>
            <a:chExt cx="4800600" cy="702360"/>
          </a:xfrm>
        </p:grpSpPr>
        <p:sp>
          <p:nvSpPr>
            <p:cNvPr id="135" name=""/>
            <p:cNvSpPr/>
            <p:nvPr/>
          </p:nvSpPr>
          <p:spPr>
            <a:xfrm>
              <a:off x="3453840" y="1639800"/>
              <a:ext cx="4013280" cy="7023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لتنفيذ الحلقة التكرار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66520" y="1807920"/>
              <a:ext cx="8658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066680" y="4360320"/>
            <a:ext cx="3353040" cy="39744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ction-after-each-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419360" y="4343400"/>
            <a:ext cx="4572360" cy="702360"/>
            <a:chOff x="4419360" y="4343400"/>
            <a:chExt cx="4572360" cy="702360"/>
          </a:xfrm>
        </p:grpSpPr>
        <p:sp>
          <p:nvSpPr>
            <p:cNvPr id="139" name=""/>
            <p:cNvSpPr/>
            <p:nvPr/>
          </p:nvSpPr>
          <p:spPr>
            <a:xfrm>
              <a:off x="4727520" y="4343400"/>
              <a:ext cx="4264200" cy="7023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معدل الزيادة أو النقصان لمواصلة التنفيذ ل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419360" y="4495680"/>
              <a:ext cx="3157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120" y="2879640"/>
            <a:ext cx="7617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0880" y="5335560"/>
            <a:ext cx="1447920" cy="930960"/>
            <a:chOff x="380880" y="5335560"/>
            <a:chExt cx="1447920" cy="930960"/>
          </a:xfrm>
        </p:grpSpPr>
        <p:sp>
          <p:nvSpPr>
            <p:cNvPr id="143" name=""/>
            <p:cNvSpPr/>
            <p:nvPr/>
          </p:nvSpPr>
          <p:spPr>
            <a:xfrm flipV="1">
              <a:off x="533160" y="5335560"/>
              <a:ext cx="457200" cy="3808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160" y="5564160"/>
              <a:ext cx="12956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 loop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5640120"/>
              <a:ext cx="22860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04760" y="5335560"/>
            <a:ext cx="2361960" cy="915120"/>
            <a:chOff x="1904760" y="5335560"/>
            <a:chExt cx="2361960" cy="915120"/>
          </a:xfrm>
        </p:grpSpPr>
        <p:sp>
          <p:nvSpPr>
            <p:cNvPr id="147" name=""/>
            <p:cNvSpPr/>
            <p:nvPr/>
          </p:nvSpPr>
          <p:spPr>
            <a:xfrm flipH="1" flipV="1">
              <a:off x="1904760" y="5335560"/>
              <a:ext cx="533160" cy="3045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5548320"/>
              <a:ext cx="1676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كلمة المحجو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1960" y="55641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57200" y="952560"/>
            <a:ext cx="8458200" cy="49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" y="838080"/>
            <a:ext cx="8458200" cy="3812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Min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482904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" y="534816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4114800"/>
            <a:ext cx="784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he min number 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+ min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76520" y="3657600"/>
            <a:ext cx="6553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300" spc="-1" strike="noStrike">
                <a:solidFill>
                  <a:srgbClr val="4d4d4d"/>
                </a:solidFill>
                <a:latin typeface="Arial"/>
              </a:rPr>
              <a:t> طباعة العدد الأصغر من بين الاعداد التى تم ادخالها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3016080"/>
            <a:ext cx="457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2971800"/>
            <a:ext cx="32004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!=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152280"/>
            <a:ext cx="876312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71600" y="1828800"/>
            <a:ext cx="533412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“Enter number:”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2362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canner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In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76920" y="1371600"/>
            <a:ext cx="3429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//</a:t>
            </a:r>
            <a:r>
              <a:rPr b="1" lang="ar-SA" sz="2200" spc="-1" strike="noStrike">
                <a:solidFill>
                  <a:srgbClr val="4d4d4d"/>
                </a:solidFill>
                <a:latin typeface="Arial"/>
              </a:rPr>
              <a:t> قراءة عدد جديد لمواصلة التنفي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320" y="7621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-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p flow chart: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-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تسلسل تنفيذ الحلقة التكرار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3657600"/>
            <a:ext cx="2590920" cy="16002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di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5257800"/>
            <a:ext cx="304560" cy="1066680"/>
            <a:chOff x="4267080" y="5257800"/>
            <a:chExt cx="304560" cy="1066680"/>
          </a:xfrm>
        </p:grpSpPr>
        <p:sp>
          <p:nvSpPr>
            <p:cNvPr id="153" name=""/>
            <p:cNvSpPr/>
            <p:nvPr/>
          </p:nvSpPr>
          <p:spPr>
            <a:xfrm>
              <a:off x="4267080" y="6019920"/>
              <a:ext cx="304560" cy="30456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360" y="5257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7080" y="1447920"/>
            <a:ext cx="304560" cy="914400"/>
            <a:chOff x="4267080" y="1447920"/>
            <a:chExt cx="304560" cy="914400"/>
          </a:xfrm>
        </p:grpSpPr>
        <p:sp>
          <p:nvSpPr>
            <p:cNvPr id="156" name=""/>
            <p:cNvSpPr/>
            <p:nvPr/>
          </p:nvSpPr>
          <p:spPr>
            <a:xfrm>
              <a:off x="441936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1447920"/>
              <a:ext cx="304560" cy="3045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124080" y="2362320"/>
            <a:ext cx="274320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oop body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Statement(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124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962520"/>
            <a:ext cx="762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41600" y="5424480"/>
            <a:ext cx="978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437920" y="1980720"/>
            <a:ext cx="1981800" cy="2514960"/>
            <a:chOff x="2437920" y="1980720"/>
            <a:chExt cx="1981800" cy="2514960"/>
          </a:xfrm>
        </p:grpSpPr>
        <p:grpSp>
          <p:nvGrpSpPr>
            <p:cNvPr id="163" name=""/>
            <p:cNvGrpSpPr/>
            <p:nvPr/>
          </p:nvGrpSpPr>
          <p:grpSpPr>
            <a:xfrm>
              <a:off x="2437920" y="1980720"/>
              <a:ext cx="762120" cy="2514960"/>
              <a:chOff x="2437920" y="1980720"/>
              <a:chExt cx="762120" cy="251496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437920" y="4495680"/>
                <a:ext cx="7621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2438280" y="1980720"/>
                <a:ext cx="0" cy="2514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2438280" y="1981080"/>
              <a:ext cx="1981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952880" y="5181480"/>
            <a:ext cx="251460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نهاء 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09720" y="3336840"/>
            <a:ext cx="3505320" cy="1073520"/>
            <a:chOff x="5409720" y="3336840"/>
            <a:chExt cx="3505320" cy="1073520"/>
          </a:xfrm>
        </p:grpSpPr>
        <p:grpSp>
          <p:nvGrpSpPr>
            <p:cNvPr id="169" name=""/>
            <p:cNvGrpSpPr/>
            <p:nvPr/>
          </p:nvGrpSpPr>
          <p:grpSpPr>
            <a:xfrm>
              <a:off x="5907240" y="3336840"/>
              <a:ext cx="3007800" cy="1073520"/>
              <a:chOff x="5907240" y="3336840"/>
              <a:chExt cx="3007800" cy="1073520"/>
            </a:xfrm>
          </p:grpSpPr>
          <p:sp>
            <p:nvSpPr>
              <p:cNvPr id="170" name=""/>
              <p:cNvSpPr/>
              <p:nvPr/>
            </p:nvSpPr>
            <p:spPr>
              <a:xfrm>
                <a:off x="6000840" y="3336840"/>
                <a:ext cx="281988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07240" y="3403080"/>
                <a:ext cx="300780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7d"/>
                    </a:solidFill>
                    <a:latin typeface="Arial"/>
                  </a:rPr>
                  <a:t>اختبار شرط تنفيذ الحلقة التكرارية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rue</a:t>
                </a: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 or 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flipH="1">
              <a:off x="5409720" y="3962520"/>
              <a:ext cx="568440" cy="22860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52280" y="2711520"/>
            <a:ext cx="2210040" cy="1312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تم الرجوع لمواصلة التنفيذ للحلقة التكر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2860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714640" y="1447920"/>
            <a:ext cx="3048480" cy="1433160"/>
            <a:chOff x="5714640" y="1447920"/>
            <a:chExt cx="3048480" cy="1433160"/>
          </a:xfrm>
        </p:grpSpPr>
        <p:sp>
          <p:nvSpPr>
            <p:cNvPr id="176" name=""/>
            <p:cNvSpPr/>
            <p:nvPr/>
          </p:nvSpPr>
          <p:spPr>
            <a:xfrm>
              <a:off x="6019920" y="1447920"/>
              <a:ext cx="2743200" cy="1433160"/>
            </a:xfrm>
            <a:prstGeom prst="rect">
              <a:avLst/>
            </a:prstGeom>
            <a:solidFill>
              <a:srgbClr val="00007d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ffffff"/>
                  </a:solidFill>
                  <a:latin typeface="Arial"/>
                </a:rPr>
                <a:t>يتم البدء بتنفيذ التعليمات قبل اختبار شرط تنفيذ الحلق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714640" y="1828800"/>
              <a:ext cx="304920" cy="456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2193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executes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oop body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en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checks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oop-continuation-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determine whether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in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m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lo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66688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تقوم حلق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ببدء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تنفيذ التعليمات الموجودة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بجسم الحلقة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أولاً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ثم بعد ذلك تقوم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بإختبار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شرط تنفيذ تكرار الحلقة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ففى حالة الحصول على القيمة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المواصلة فى التنفيذ، أما فى حالة الحصول على 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يتم مباشرة انهاء تنفيذ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320" y="990720"/>
            <a:ext cx="9067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jor dif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a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is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which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op-continuation-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valuated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op body execu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209680"/>
            <a:ext cx="8534520" cy="838440"/>
          </a:xfrm>
          <a:prstGeom prst="rect">
            <a:avLst/>
          </a:prstGeom>
          <a:noFill/>
          <a:ln w="22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جد أن الاختلاف الأساسى بين حلقة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whi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كون فى ترتيب(تسلسل) التنفيذ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لشرط الحلقة التكرار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نفيذ </a:t>
            </a:r>
            <a:r>
              <a:rPr b="1" lang="ar-SA" sz="2400" spc="-1" strike="noStrike">
                <a:solidFill>
                  <a:srgbClr val="00007d"/>
                </a:solidFill>
                <a:latin typeface="Arial"/>
              </a:rPr>
              <a:t>التعليمات الموجودة بجسم الحل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04920"/>
            <a:ext cx="8762760" cy="5331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&amp;  whil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27672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27144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ففى تنفيذ حلق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يتم البدء 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بتنفيذ التعليمات الموجودة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بجسم الحلقة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ar-SA" sz="2600" spc="-1" strike="noStrike" u="sng">
                <a:solidFill>
                  <a:srgbClr val="0000ff"/>
                </a:solidFill>
                <a:uFillTx/>
                <a:latin typeface="Arial"/>
              </a:rPr>
              <a:t>أولاً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،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ثم بعد ذلك يتم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إختبار </a:t>
            </a:r>
            <a:r>
              <a:rPr b="1" lang="ar-SA" sz="2500" spc="-1" strike="noStrike" u="sng">
                <a:solidFill>
                  <a:srgbClr val="ff0000"/>
                </a:solidFill>
                <a:uFillTx/>
                <a:latin typeface="Arial"/>
              </a:rPr>
              <a:t>شرط تنفيذ تكرار 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  (لذلك نلاحظ أن حلقة 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do-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تُنفذ عباراتها(أى التعليمات بجسم الحلقة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ar-SA" sz="2500" spc="-1" strike="noStrike" u="sng">
                <a:solidFill>
                  <a:srgbClr val="00007d"/>
                </a:solidFill>
                <a:uFillTx/>
                <a:latin typeface="Arial"/>
              </a:rPr>
              <a:t>مرة واحدة على الأقل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وذلك لأنها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تٌنفذ أولا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ثم بعد ذلك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تختبر شرط التنفيذ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105520"/>
            <a:ext cx="8610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أما عند تنفيذ حلق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l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Arial"/>
              </a:rPr>
              <a:t>يتم البدء</a:t>
            </a:r>
            <a:r>
              <a:rPr b="1" lang="ar-SA" sz="2500" spc="-1" strike="noStrike" u="sng">
                <a:solidFill>
                  <a:srgbClr val="0000ff"/>
                </a:solidFill>
                <a:uFillTx/>
                <a:latin typeface="Arial"/>
              </a:rPr>
              <a:t> أولا</a:t>
            </a:r>
            <a:r>
              <a:rPr b="1" lang="ar-SA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بإختبار</a:t>
            </a:r>
            <a:r>
              <a:rPr b="1" lang="ar-SA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ar-SA" sz="2500" spc="-1" strike="noStrike">
                <a:solidFill>
                  <a:srgbClr val="ff0000"/>
                </a:solidFill>
                <a:latin typeface="Arial"/>
              </a:rPr>
              <a:t>شرط تنفيذ تكرارالحلقة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، وفى حالة تحقق الشرط بالقيمة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يتم مباشرةً تنفيذ التعليمات الموجودة بجسم الحلقة(</a:t>
            </a: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loop body</a:t>
            </a: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1066680"/>
            <a:ext cx="8077320" cy="1600200"/>
          </a:xfrm>
          <a:prstGeom prst="rect">
            <a:avLst/>
          </a:prstGeom>
          <a:noFill/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743200"/>
            <a:ext cx="7848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ناتج تنفيذ البرنام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welcome to ja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إستخدام حلقة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o-while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، اكتب برنامج يقوم بطباعة الرسالة ”</a:t>
            </a:r>
            <a:r>
              <a:rPr b="1" lang="en-US" sz="2600" spc="-1" strike="noStrike">
                <a:solidFill>
                  <a:srgbClr val="00007d"/>
                </a:solidFill>
                <a:latin typeface="Arial"/>
              </a:rPr>
              <a:t>welcome to java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“ بحيث يكون عدد مرات طباعة هذه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رة على شاشة التنفي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808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7120" indent="-357120" algn="r" rtl="1"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سلسل تنفيذ البرنامج لطباعة الرسا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رة بالتنفي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3962520"/>
            <a:ext cx="2438640" cy="14475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count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&lt; 100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62520" y="5410080"/>
            <a:ext cx="304560" cy="914400"/>
            <a:chOff x="3962520" y="5410080"/>
            <a:chExt cx="304560" cy="914400"/>
          </a:xfrm>
        </p:grpSpPr>
        <p:sp>
          <p:nvSpPr>
            <p:cNvPr id="193" name=""/>
            <p:cNvSpPr/>
            <p:nvPr/>
          </p:nvSpPr>
          <p:spPr>
            <a:xfrm>
              <a:off x="3962520" y="6019560"/>
              <a:ext cx="304560" cy="304920"/>
            </a:xfrm>
            <a:prstGeom prst="flowChartConnector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4800" y="54100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600200" y="2362320"/>
            <a:ext cx="5105520" cy="761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(“welcome to java”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count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205160"/>
            <a:ext cx="761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51440" y="5334120"/>
            <a:ext cx="9777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fa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5080" y="2057040"/>
            <a:ext cx="3429000" cy="2591280"/>
            <a:chOff x="685080" y="2057040"/>
            <a:chExt cx="3429000" cy="2591280"/>
          </a:xfrm>
        </p:grpSpPr>
        <p:grpSp>
          <p:nvGrpSpPr>
            <p:cNvPr id="200" name=""/>
            <p:cNvGrpSpPr/>
            <p:nvPr/>
          </p:nvGrpSpPr>
          <p:grpSpPr>
            <a:xfrm>
              <a:off x="685440" y="2057040"/>
              <a:ext cx="2209320" cy="2591280"/>
              <a:chOff x="685440" y="2057040"/>
              <a:chExt cx="2209320" cy="259128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685440" y="4648320"/>
                <a:ext cx="22093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85800" y="2057040"/>
                <a:ext cx="0" cy="259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685080" y="205740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029200" y="5334120"/>
            <a:ext cx="2057400" cy="9460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تم انهاء التنفيذ للحل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3429000"/>
            <a:ext cx="3199680" cy="1234800"/>
            <a:chOff x="5029200" y="3429000"/>
            <a:chExt cx="3199680" cy="1234800"/>
          </a:xfrm>
        </p:grpSpPr>
        <p:grpSp>
          <p:nvGrpSpPr>
            <p:cNvPr id="206" name=""/>
            <p:cNvGrpSpPr/>
            <p:nvPr/>
          </p:nvGrpSpPr>
          <p:grpSpPr>
            <a:xfrm>
              <a:off x="5541120" y="3429000"/>
              <a:ext cx="2687760" cy="930240"/>
              <a:chOff x="5541120" y="3429000"/>
              <a:chExt cx="2687760" cy="930240"/>
            </a:xfrm>
          </p:grpSpPr>
          <p:sp>
            <p:nvSpPr>
              <p:cNvPr id="207" name=""/>
              <p:cNvSpPr/>
              <p:nvPr/>
            </p:nvSpPr>
            <p:spPr>
              <a:xfrm>
                <a:off x="5624640" y="3429000"/>
                <a:ext cx="2520000" cy="930240"/>
              </a:xfrm>
              <a:prstGeom prst="flowChartDocumen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41120" y="3495240"/>
                <a:ext cx="2687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oop Continu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Condition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H="1">
              <a:off x="5029200" y="4206600"/>
              <a:ext cx="5760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85800" y="4724280"/>
            <a:ext cx="1981080" cy="12200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فى حالة القيم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تم مواصلة التنفيذ للحلقة التكر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1295280"/>
            <a:ext cx="205740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c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1828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914400"/>
            <a:ext cx="2666880" cy="1007280"/>
            <a:chOff x="457200" y="914400"/>
            <a:chExt cx="2666880" cy="1007280"/>
          </a:xfrm>
        </p:grpSpPr>
        <p:sp>
          <p:nvSpPr>
            <p:cNvPr id="214" name=""/>
            <p:cNvSpPr/>
            <p:nvPr/>
          </p:nvSpPr>
          <p:spPr>
            <a:xfrm>
              <a:off x="457200" y="914400"/>
              <a:ext cx="2009880" cy="100728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قيمة الابتدائية لبداية تنفيذ الحل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3080" y="1295280"/>
              <a:ext cx="711000" cy="304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295280" y="3047760"/>
            <a:ext cx="1676520" cy="1494720"/>
            <a:chOff x="1295280" y="3047760"/>
            <a:chExt cx="1676520" cy="1494720"/>
          </a:xfrm>
        </p:grpSpPr>
        <p:sp>
          <p:nvSpPr>
            <p:cNvPr id="217" name=""/>
            <p:cNvSpPr/>
            <p:nvPr/>
          </p:nvSpPr>
          <p:spPr>
            <a:xfrm>
              <a:off x="1295280" y="3352680"/>
              <a:ext cx="1676520" cy="1189800"/>
            </a:xfrm>
            <a:prstGeom prst="rect">
              <a:avLst/>
            </a:prstGeom>
            <a:solidFill>
              <a:srgbClr val="00007d"/>
            </a:solid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زيادة قيمة المتغير بعد كل تكرار للحل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057400" y="3047760"/>
              <a:ext cx="228600" cy="2286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80880" y="838080"/>
            <a:ext cx="8305560" cy="5638680"/>
            <a:chOff x="380880" y="838080"/>
            <a:chExt cx="8305560" cy="5638680"/>
          </a:xfrm>
        </p:grpSpPr>
        <p:sp>
          <p:nvSpPr>
            <p:cNvPr id="221" name=""/>
            <p:cNvSpPr/>
            <p:nvPr/>
          </p:nvSpPr>
          <p:spPr>
            <a:xfrm>
              <a:off x="380880" y="1203840"/>
              <a:ext cx="8305560" cy="52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880" y="838080"/>
              <a:ext cx="8305560" cy="365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playText.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62120" y="12193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lass DisplayText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752480"/>
            <a:ext cx="716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ublic static void 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tring[ ] args)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895480"/>
            <a:ext cx="6933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/start loop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505320"/>
            <a:ext cx="69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System.out.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”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elcome to 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632480"/>
            <a:ext cx="457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4100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7d"/>
                </a:solidFill>
                <a:latin typeface="Arial"/>
              </a:rPr>
              <a:t>}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2819520"/>
            <a:ext cx="6934320" cy="2514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2286000"/>
            <a:ext cx="6934320" cy="473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nt  count =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881680"/>
            <a:ext cx="7162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//end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038480"/>
            <a:ext cx="1676520" cy="504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u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52280"/>
            <a:ext cx="8762760" cy="533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4. The do-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loop  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ثال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4616280"/>
            <a:ext cx="6934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5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40:41Z</dcterms:created>
  <dc:creator>SUST</dc:creator>
  <dc:description/>
  <dc:language>en-US</dc:language>
  <cp:lastModifiedBy>Yahia</cp:lastModifiedBy>
  <dcterms:modified xsi:type="dcterms:W3CDTF">2011-06-06T00:19:33Z</dcterms:modified>
  <cp:revision>2014</cp:revision>
  <dc:subject>Programming Fundamentals</dc:subject>
  <dc:title>Primitive Data Type</dc:title>
</cp:coreProperties>
</file>