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CE8E-CC5C-48B6-9486-2771F38DCA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B904-6EC3-4BA0-B396-A4433B6B30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D25B-EF18-43F5-8CF4-0184C8252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C045-324C-42A9-8D01-E072AD6F71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3660-3344-4C10-9DA6-24F5A7EC0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A60D-4177-4CDB-B093-1FBD6E4FFD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F29A-75F6-4C9E-AEA6-817F0693AD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1522-29BC-42E7-8220-6F3FE985BE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8F66-4A88-41B2-8CF9-E304A7686A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6578-FF1E-4C31-862A-04D04CF4B7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DC38-97C3-471C-BFD1-AAF8982DD7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8433-2D75-4F1E-87BB-597553B7AA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2B494-B5B4-4450-B2A6-90D09632F0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F2063-F2F5-40FD-A355-CD3520021F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1863-7EA3-4397-BB80-04E720A0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25ED6-3D66-4D57-B033-740D37AB4D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52511-DE13-4DBA-A891-A74B3DF3E7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EAED5-9904-42AA-AC81-46B85F1D4D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25361-A5B3-46A9-94D5-1BBFF6DBD8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03F2F-865D-4EB7-B900-5E907AFE5C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72675-A4DF-4E69-A3DE-AF0D992D1E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6C60-B85B-460E-92CA-D70E3DAC1B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280C-19A6-459D-8A2C-18943F5DDB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C577F-FEA8-479F-82AF-CF82BFEB8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9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2F67-79BA-4F92-92EE-D98DB3582E7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52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44E-FD42-436E-B026-71205236CD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5105520" y="762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0880" y="1233360"/>
            <a:ext cx="37339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80880" y="1219320"/>
            <a:ext cx="38102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66680" y="16002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457200" y="190512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762120" y="2347920"/>
            <a:ext cx="32763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219320" y="2743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685800" y="3124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990720" y="3505320"/>
            <a:ext cx="30477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1447920" y="3886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914400" y="4267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219320" y="4710240"/>
            <a:ext cx="28191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1676520" y="51814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1143000" y="556272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1676520" y="58672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1"/>
          <p:cNvGrpSpPr/>
          <p:nvPr/>
        </p:nvGrpSpPr>
        <p:grpSpPr>
          <a:xfrm>
            <a:off x="4190760" y="1219320"/>
            <a:ext cx="838440" cy="380880"/>
            <a:chOff x="4190760" y="1219320"/>
            <a:chExt cx="838440" cy="380880"/>
          </a:xfrm>
        </p:grpSpPr>
        <p:sp>
          <p:nvSpPr>
            <p:cNvPr id="361" name="Oval 31"/>
            <p:cNvSpPr/>
            <p:nvPr/>
          </p:nvSpPr>
          <p:spPr>
            <a:xfrm>
              <a:off x="4724280" y="121932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0"/>
            <p:cNvSpPr/>
            <p:nvPr/>
          </p:nvSpPr>
          <p:spPr>
            <a:xfrm flipH="1">
              <a:off x="4190760" y="144792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42"/>
          <p:cNvGrpSpPr/>
          <p:nvPr/>
        </p:nvGrpSpPr>
        <p:grpSpPr>
          <a:xfrm>
            <a:off x="4190760" y="2286000"/>
            <a:ext cx="838440" cy="380880"/>
            <a:chOff x="4190760" y="2286000"/>
            <a:chExt cx="838440" cy="380880"/>
          </a:xfrm>
        </p:grpSpPr>
        <p:sp>
          <p:nvSpPr>
            <p:cNvPr id="364" name="Oval 43"/>
            <p:cNvSpPr/>
            <p:nvPr/>
          </p:nvSpPr>
          <p:spPr>
            <a:xfrm>
              <a:off x="4724280" y="228600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4190760" y="251460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45"/>
          <p:cNvGrpSpPr/>
          <p:nvPr/>
        </p:nvGrpSpPr>
        <p:grpSpPr>
          <a:xfrm>
            <a:off x="4190760" y="3429000"/>
            <a:ext cx="838440" cy="380880"/>
            <a:chOff x="4190760" y="3429000"/>
            <a:chExt cx="838440" cy="380880"/>
          </a:xfrm>
        </p:grpSpPr>
        <p:sp>
          <p:nvSpPr>
            <p:cNvPr id="367" name="Oval 46"/>
            <p:cNvSpPr/>
            <p:nvPr/>
          </p:nvSpPr>
          <p:spPr>
            <a:xfrm>
              <a:off x="4724280" y="342900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7"/>
            <p:cNvSpPr/>
            <p:nvPr/>
          </p:nvSpPr>
          <p:spPr>
            <a:xfrm flipH="1">
              <a:off x="4190760" y="365760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8"/>
          <p:cNvGrpSpPr/>
          <p:nvPr/>
        </p:nvGrpSpPr>
        <p:grpSpPr>
          <a:xfrm>
            <a:off x="4190760" y="4724280"/>
            <a:ext cx="838440" cy="380880"/>
            <a:chOff x="4190760" y="4724280"/>
            <a:chExt cx="838440" cy="380880"/>
          </a:xfrm>
        </p:grpSpPr>
        <p:sp>
          <p:nvSpPr>
            <p:cNvPr id="370" name="Oval 49"/>
            <p:cNvSpPr/>
            <p:nvPr/>
          </p:nvSpPr>
          <p:spPr>
            <a:xfrm>
              <a:off x="4724280" y="472428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0"/>
            <p:cNvSpPr/>
            <p:nvPr/>
          </p:nvSpPr>
          <p:spPr>
            <a:xfrm flipH="1">
              <a:off x="4190760" y="495288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51"/>
          <p:cNvGrpSpPr/>
          <p:nvPr/>
        </p:nvGrpSpPr>
        <p:grpSpPr>
          <a:xfrm>
            <a:off x="4190760" y="5867280"/>
            <a:ext cx="838440" cy="380880"/>
            <a:chOff x="4190760" y="5867280"/>
            <a:chExt cx="838440" cy="380880"/>
          </a:xfrm>
        </p:grpSpPr>
        <p:sp>
          <p:nvSpPr>
            <p:cNvPr id="373" name="Oval 52"/>
            <p:cNvSpPr/>
            <p:nvPr/>
          </p:nvSpPr>
          <p:spPr>
            <a:xfrm>
              <a:off x="4724280" y="586728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53"/>
            <p:cNvSpPr/>
            <p:nvPr/>
          </p:nvSpPr>
          <p:spPr>
            <a:xfrm flipH="1">
              <a:off x="4190760" y="6095880"/>
              <a:ext cx="5331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76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Grad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Grade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core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066680" y="4419720"/>
            <a:ext cx="69343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990720" y="4343400"/>
            <a:ext cx="7010280" cy="914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990720" y="51814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990720" y="38098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grad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1523880" y="48006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219320" y="5638680"/>
            <a:ext cx="69339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1676520" y="61102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990720" y="5257800"/>
            <a:ext cx="7010280" cy="12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394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Grade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1219320" y="1752480"/>
            <a:ext cx="70866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914400" y="1219320"/>
            <a:ext cx="746748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1219320" y="2819520"/>
            <a:ext cx="7086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1600200" y="220968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1600200" y="3276720"/>
            <a:ext cx="67057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1981080" y="3733920"/>
            <a:ext cx="5867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990720" y="129528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1523880" y="42814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2057400" y="4662360"/>
            <a:ext cx="5867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914400" y="2819520"/>
            <a:ext cx="746748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914400" y="4343400"/>
            <a:ext cx="7467480" cy="838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066680" y="5334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The Grade =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990720" y="7621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80880" y="1233360"/>
            <a:ext cx="34290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380880" y="1219320"/>
            <a:ext cx="34290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1066680" y="16002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457200" y="190512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762120" y="2347920"/>
            <a:ext cx="30477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5"/>
          <p:cNvSpPr/>
          <p:nvPr/>
        </p:nvSpPr>
        <p:spPr>
          <a:xfrm>
            <a:off x="1219320" y="2743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685800" y="3124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990720" y="3505320"/>
            <a:ext cx="28191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1447920" y="38862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9"/>
          <p:cNvSpPr/>
          <p:nvPr/>
        </p:nvSpPr>
        <p:spPr>
          <a:xfrm>
            <a:off x="914400" y="4267080"/>
            <a:ext cx="3276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1219320" y="4710240"/>
            <a:ext cx="25905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1"/>
          <p:cNvSpPr/>
          <p:nvPr/>
        </p:nvSpPr>
        <p:spPr>
          <a:xfrm>
            <a:off x="1676520" y="51814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1143000" y="556272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1676520" y="586728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4648320" y="1843200"/>
            <a:ext cx="373356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6"/>
          <p:cNvSpPr/>
          <p:nvPr/>
        </p:nvSpPr>
        <p:spPr>
          <a:xfrm>
            <a:off x="5105520" y="2300400"/>
            <a:ext cx="19047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7"/>
          <p:cNvSpPr/>
          <p:nvPr/>
        </p:nvSpPr>
        <p:spPr>
          <a:xfrm>
            <a:off x="4648320" y="281952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5410080" y="283356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4648320" y="388620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5410080" y="390060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5181480" y="327672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5181480" y="443376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4648320" y="495288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4"/>
          <p:cNvSpPr/>
          <p:nvPr/>
        </p:nvSpPr>
        <p:spPr>
          <a:xfrm>
            <a:off x="5410080" y="4967280"/>
            <a:ext cx="29718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co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&gt;= 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5"/>
          <p:cNvSpPr/>
          <p:nvPr/>
        </p:nvSpPr>
        <p:spPr>
          <a:xfrm>
            <a:off x="5181480" y="541008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4648320" y="5791320"/>
            <a:ext cx="990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7"/>
          <p:cNvSpPr/>
          <p:nvPr/>
        </p:nvSpPr>
        <p:spPr>
          <a:xfrm>
            <a:off x="5181480" y="6186600"/>
            <a:ext cx="1905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de = ‘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’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304920" y="91440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2"/>
          <p:cNvGrpSpPr/>
          <p:nvPr/>
        </p:nvGrpSpPr>
        <p:grpSpPr>
          <a:xfrm>
            <a:off x="4419720" y="990720"/>
            <a:ext cx="4266720" cy="5638320"/>
            <a:chOff x="4419720" y="990720"/>
            <a:chExt cx="4266720" cy="5638320"/>
          </a:xfrm>
        </p:grpSpPr>
        <p:sp>
          <p:nvSpPr>
            <p:cNvPr id="442" name="Rectangle 35"/>
            <p:cNvSpPr/>
            <p:nvPr/>
          </p:nvSpPr>
          <p:spPr>
            <a:xfrm>
              <a:off x="4586760" y="1232280"/>
              <a:ext cx="4099680" cy="539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51"/>
            <p:cNvSpPr/>
            <p:nvPr/>
          </p:nvSpPr>
          <p:spPr>
            <a:xfrm>
              <a:off x="4419720" y="990720"/>
              <a:ext cx="334800" cy="40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53"/>
          <p:cNvSpPr/>
          <p:nvPr/>
        </p:nvSpPr>
        <p:spPr>
          <a:xfrm>
            <a:off x="4724280" y="1263600"/>
            <a:ext cx="3962520" cy="73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ffff"/>
                </a:solidFill>
                <a:latin typeface="Arial"/>
              </a:rPr>
              <a:t>لسهولة متابعة البرنامج يمكن كتابتة كالآتى</a:t>
            </a:r>
            <a:r>
              <a:rPr b="1" lang="ar-SA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609480" y="762120"/>
            <a:ext cx="8229600" cy="21333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762120" y="32004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Software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762120" y="7621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العدد وفقاً للخيارت الات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المدخل فى المدى من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طباعة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oftwar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المدخل فى المدى من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طباعة ”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hardwar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ذا كان العدد أكبر من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رسالة ”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invalid numb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50" name="Rectangle 3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5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2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nsert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6680" y="396252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oftwa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990720" y="3886200"/>
            <a:ext cx="7315200" cy="2743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447920" y="5334120"/>
            <a:ext cx="6933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1676520" y="58816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hardwa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609480" y="762120"/>
            <a:ext cx="8305920" cy="2971800"/>
            <a:chOff x="609480" y="762120"/>
            <a:chExt cx="8305920" cy="2971800"/>
          </a:xfrm>
        </p:grpSpPr>
        <p:sp>
          <p:nvSpPr>
            <p:cNvPr id="466" name="Rectangle 3"/>
            <p:cNvSpPr/>
            <p:nvPr/>
          </p:nvSpPr>
          <p:spPr>
            <a:xfrm>
              <a:off x="609480" y="955800"/>
              <a:ext cx="8305920" cy="277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609480" y="762120"/>
              <a:ext cx="8305920" cy="304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838080" y="25909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685800" y="30621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143000" y="121932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76520" y="17524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i="1" lang="en-US" sz="2300" spc="-1" strike="noStrike">
                <a:solidFill>
                  <a:srgbClr val="cc0000"/>
                </a:solidFill>
                <a:latin typeface="Arial"/>
              </a:rPr>
              <a:t>invalid numbe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609480" y="76212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762120" y="25909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first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second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first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max number is 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621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ثلاثة أعداد صحيحة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مقارنة هذه الاعداد وطباعة رسالة توضح العدد الأكبر من بين تلك الاعدا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609480" y="762120"/>
            <a:ext cx="8305560" cy="5638320"/>
            <a:chOff x="609480" y="762120"/>
            <a:chExt cx="8305560" cy="5638320"/>
          </a:xfrm>
        </p:grpSpPr>
        <p:sp>
          <p:nvSpPr>
            <p:cNvPr id="478" name="Rectangle 3"/>
            <p:cNvSpPr/>
            <p:nvPr/>
          </p:nvSpPr>
          <p:spPr>
            <a:xfrm>
              <a:off x="609480" y="1127880"/>
              <a:ext cx="8305560" cy="527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609480" y="76212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5"/>
          <p:cNvSpPr/>
          <p:nvPr/>
        </p:nvSpPr>
        <p:spPr>
          <a:xfrm>
            <a:off x="8380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990720" y="350532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90720" y="251424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990720" y="3048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first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7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990720" y="45720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990720" y="4114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second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990720" y="5638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z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990720" y="5181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Enter Thirs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609480" y="762120"/>
            <a:ext cx="8305560" cy="5714640"/>
            <a:chOff x="609480" y="762120"/>
            <a:chExt cx="8305560" cy="5714640"/>
          </a:xfrm>
        </p:grpSpPr>
        <p:sp>
          <p:nvSpPr>
            <p:cNvPr id="492" name="Rectangle 3"/>
            <p:cNvSpPr/>
            <p:nvPr/>
          </p:nvSpPr>
          <p:spPr>
            <a:xfrm>
              <a:off x="609480" y="113292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"/>
            <p:cNvSpPr/>
            <p:nvPr/>
          </p:nvSpPr>
          <p:spPr>
            <a:xfrm>
              <a:off x="609480" y="76212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1"/>
          <p:cNvSpPr/>
          <p:nvPr/>
        </p:nvSpPr>
        <p:spPr>
          <a:xfrm>
            <a:off x="1066680" y="137160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z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2"/>
          <p:cNvSpPr/>
          <p:nvPr/>
        </p:nvSpPr>
        <p:spPr>
          <a:xfrm>
            <a:off x="990720" y="237636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1447920" y="19051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914400" y="1295280"/>
            <a:ext cx="7696080" cy="4114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447920" y="2833560"/>
            <a:ext cx="6933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y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x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z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828800" y="33670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y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371600" y="382428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1828800" y="4281480"/>
            <a:ext cx="6553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z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x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z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 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19810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max number i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+ z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838080" y="54864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685800" y="59580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2895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on Statements 3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cture(6)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609480" y="762120"/>
            <a:ext cx="8077320" cy="45720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38080" y="1461960"/>
            <a:ext cx="75438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1066680" y="199548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1371600" y="251460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z  =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1371600" y="2971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z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z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1143000" y="3443400"/>
            <a:ext cx="73152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inn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4400" y="396252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out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914400" y="4357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12952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x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09480" y="54100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لن يتم طباعة أى محتوى عند ال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press any key to continue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1371600" y="838080"/>
            <a:ext cx="358128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بافتراض أن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3 , y = 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09480" y="762120"/>
            <a:ext cx="8077320" cy="45720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952880" y="8380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ماهو ناتج تنفيذ البرنامج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Nested if stat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838080" y="1461960"/>
            <a:ext cx="75438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066680" y="199548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 &gt;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1371600" y="251460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z  =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1371600" y="2971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z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z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143000" y="3443400"/>
            <a:ext cx="73152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inn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914400" y="3962520"/>
            <a:ext cx="7315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// end of outer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914400" y="43578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1295280" y="481500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x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 + x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609480" y="54100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اتج تنفيذ البرنامج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z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1447920" y="838080"/>
            <a:ext cx="358128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بافتراض أن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x = 3 , y = 4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304920" y="914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كرة عملها تشابه الـ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حيث تُستخدم لتحديد أو أسناد قيم للمتغيرات وفقاً للقيمة المنطقية التى يتم التحصل عليها من التعبير المنطقى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990720" y="3047400"/>
            <a:ext cx="6476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ssig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x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 greater than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 less than or equal to 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600200" y="4038840"/>
            <a:ext cx="4952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x &gt; 0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828800" y="449568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1600200" y="5029200"/>
            <a:ext cx="4800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less than or equal to 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1905120" y="5562720"/>
            <a:ext cx="3200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1523880" y="4038480"/>
            <a:ext cx="51818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228600" y="2209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ight want to assign a value to a variable that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tricted(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قيود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ertain 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80880" y="990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mbols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 together in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nditional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y form a conditional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33520" y="3962520"/>
            <a:ext cx="830556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pression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expression2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38040" y="1981080"/>
            <a:ext cx="8425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operator is called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ernary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t uses three ope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the only ternary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تميز بوجود ثلاثة معاملات أساسية يتم الفصل بينها بالعلامتين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80880" y="3276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ntax of Conditional expression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6"/>
          <p:cNvGrpSpPr/>
          <p:nvPr/>
        </p:nvGrpSpPr>
        <p:grpSpPr>
          <a:xfrm>
            <a:off x="990720" y="4419720"/>
            <a:ext cx="2361960" cy="1218600"/>
            <a:chOff x="990720" y="4419720"/>
            <a:chExt cx="2361960" cy="1218600"/>
          </a:xfrm>
        </p:grpSpPr>
        <p:sp>
          <p:nvSpPr>
            <p:cNvPr id="547" name="Rectangle 14"/>
            <p:cNvSpPr/>
            <p:nvPr/>
          </p:nvSpPr>
          <p:spPr>
            <a:xfrm>
              <a:off x="990720" y="4933080"/>
              <a:ext cx="2361960" cy="70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ختبار قيمة التعبير المنطقى</a:t>
              </a:r>
              <a:r>
                <a:rPr b="1" lang="ar-SA" sz="20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 or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2171520" y="4419720"/>
              <a:ext cx="0" cy="513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0"/>
          <p:cNvGrpSpPr/>
          <p:nvPr/>
        </p:nvGrpSpPr>
        <p:grpSpPr>
          <a:xfrm>
            <a:off x="4191120" y="4495680"/>
            <a:ext cx="1752480" cy="1142640"/>
            <a:chOff x="4191120" y="4495680"/>
            <a:chExt cx="1752480" cy="1142640"/>
          </a:xfrm>
        </p:grpSpPr>
        <p:sp>
          <p:nvSpPr>
            <p:cNvPr id="550" name="Rectangle 18"/>
            <p:cNvSpPr/>
            <p:nvPr/>
          </p:nvSpPr>
          <p:spPr>
            <a:xfrm>
              <a:off x="4191120" y="4976640"/>
              <a:ext cx="1752480" cy="6616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يتم تنفيذها فى حال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9"/>
            <p:cNvSpPr/>
            <p:nvPr/>
          </p:nvSpPr>
          <p:spPr>
            <a:xfrm flipV="1">
              <a:off x="5105520" y="4495680"/>
              <a:ext cx="0" cy="480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6553080" y="4495680"/>
            <a:ext cx="1752480" cy="1219320"/>
            <a:chOff x="6553080" y="4495680"/>
            <a:chExt cx="1752480" cy="1219320"/>
          </a:xfrm>
        </p:grpSpPr>
        <p:sp>
          <p:nvSpPr>
            <p:cNvPr id="553" name="Rectangle 22"/>
            <p:cNvSpPr/>
            <p:nvPr/>
          </p:nvSpPr>
          <p:spPr>
            <a:xfrm>
              <a:off x="6553080" y="5009040"/>
              <a:ext cx="1752480" cy="70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يتم تنفيذها فى حال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3"/>
            <p:cNvSpPr/>
            <p:nvPr/>
          </p:nvSpPr>
          <p:spPr>
            <a:xfrm flipV="1">
              <a:off x="7467480" y="4495680"/>
              <a:ext cx="0" cy="513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24"/>
          <p:cNvSpPr/>
          <p:nvPr/>
        </p:nvSpPr>
        <p:spPr>
          <a:xfrm>
            <a:off x="4114800" y="3962520"/>
            <a:ext cx="1981080" cy="533160"/>
          </a:xfrm>
          <a:prstGeom prst="rect">
            <a:avLst/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5"/>
          <p:cNvSpPr/>
          <p:nvPr/>
        </p:nvSpPr>
        <p:spPr>
          <a:xfrm>
            <a:off x="6477120" y="39625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685800" y="510552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7"/>
          <p:cNvSpPr/>
          <p:nvPr/>
        </p:nvSpPr>
        <p:spPr>
          <a:xfrm>
            <a:off x="4648320" y="457200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8"/>
          <p:cNvSpPr/>
          <p:nvPr/>
        </p:nvSpPr>
        <p:spPr>
          <a:xfrm>
            <a:off x="7086600" y="457200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3505320" y="4419720"/>
            <a:ext cx="457200" cy="1828800"/>
            <a:chOff x="3505320" y="4419720"/>
            <a:chExt cx="457200" cy="1828800"/>
          </a:xfrm>
        </p:grpSpPr>
        <p:sp>
          <p:nvSpPr>
            <p:cNvPr id="561" name="Line 30"/>
            <p:cNvSpPr/>
            <p:nvPr/>
          </p:nvSpPr>
          <p:spPr>
            <a:xfrm flipV="1">
              <a:off x="3733920" y="4419720"/>
              <a:ext cx="152280" cy="1371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3505320" y="57913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943600" y="4419720"/>
            <a:ext cx="457200" cy="1828800"/>
            <a:chOff x="5943600" y="4419720"/>
            <a:chExt cx="457200" cy="1828800"/>
          </a:xfrm>
        </p:grpSpPr>
        <p:sp>
          <p:nvSpPr>
            <p:cNvPr id="564" name="Line 34"/>
            <p:cNvSpPr/>
            <p:nvPr/>
          </p:nvSpPr>
          <p:spPr>
            <a:xfrm flipV="1">
              <a:off x="6172200" y="4419720"/>
              <a:ext cx="152280" cy="1371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35"/>
            <p:cNvSpPr/>
            <p:nvPr/>
          </p:nvSpPr>
          <p:spPr>
            <a:xfrm>
              <a:off x="5943600" y="57913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04920" y="83808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3"/>
          <p:cNvGrpSpPr/>
          <p:nvPr/>
        </p:nvGrpSpPr>
        <p:grpSpPr>
          <a:xfrm>
            <a:off x="152280" y="1980360"/>
            <a:ext cx="8839440" cy="824040"/>
            <a:chOff x="152280" y="1980360"/>
            <a:chExt cx="8839440" cy="824040"/>
          </a:xfrm>
        </p:grpSpPr>
        <p:sp>
          <p:nvSpPr>
            <p:cNvPr id="569" name="Rectangle 19"/>
            <p:cNvSpPr/>
            <p:nvPr/>
          </p:nvSpPr>
          <p:spPr>
            <a:xfrm>
              <a:off x="457200" y="1980360"/>
              <a:ext cx="853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assign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f </a:t>
              </a:r>
              <a:r>
                <a:rPr b="1" i="1" lang="en-US" sz="2400" spc="-1" strike="noStrike" u="sng">
                  <a:solidFill>
                    <a:srgbClr val="00007d"/>
                  </a:solidFill>
                  <a:uFillTx/>
                  <a:latin typeface="Arial"/>
                </a:rPr>
                <a:t>x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is greater than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–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if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is less than or equal to </a:t>
              </a: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>
              <a:off x="152280" y="20570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41"/>
          <p:cNvGrpSpPr/>
          <p:nvPr/>
        </p:nvGrpSpPr>
        <p:grpSpPr>
          <a:xfrm>
            <a:off x="457200" y="3276720"/>
            <a:ext cx="2362320" cy="2133360"/>
            <a:chOff x="457200" y="3276720"/>
            <a:chExt cx="2362320" cy="2133360"/>
          </a:xfrm>
        </p:grpSpPr>
        <p:sp>
          <p:nvSpPr>
            <p:cNvPr id="572" name="Rectangle 22"/>
            <p:cNvSpPr/>
            <p:nvPr/>
          </p:nvSpPr>
          <p:spPr>
            <a:xfrm>
              <a:off x="533520" y="33361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x &gt; 0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3"/>
            <p:cNvSpPr/>
            <p:nvPr/>
          </p:nvSpPr>
          <p:spPr>
            <a:xfrm>
              <a:off x="762120" y="381708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4"/>
            <p:cNvSpPr/>
            <p:nvPr/>
          </p:nvSpPr>
          <p:spPr>
            <a:xfrm>
              <a:off x="533520" y="4350240"/>
              <a:ext cx="144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5"/>
            <p:cNvSpPr/>
            <p:nvPr/>
          </p:nvSpPr>
          <p:spPr>
            <a:xfrm>
              <a:off x="838080" y="480744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6"/>
            <p:cNvSpPr/>
            <p:nvPr/>
          </p:nvSpPr>
          <p:spPr>
            <a:xfrm>
              <a:off x="457200" y="3276720"/>
              <a:ext cx="236232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28"/>
          <p:cNvSpPr/>
          <p:nvPr/>
        </p:nvSpPr>
        <p:spPr>
          <a:xfrm>
            <a:off x="3124080" y="29718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3124080" y="3748320"/>
            <a:ext cx="685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37"/>
          <p:cNvGrpSpPr/>
          <p:nvPr/>
        </p:nvGrpSpPr>
        <p:grpSpPr>
          <a:xfrm>
            <a:off x="6629400" y="4236840"/>
            <a:ext cx="1218960" cy="1218960"/>
            <a:chOff x="6629400" y="4236840"/>
            <a:chExt cx="1218960" cy="1218960"/>
          </a:xfrm>
        </p:grpSpPr>
        <p:sp>
          <p:nvSpPr>
            <p:cNvPr id="580" name="Rectangle 34"/>
            <p:cNvSpPr/>
            <p:nvPr/>
          </p:nvSpPr>
          <p:spPr>
            <a:xfrm>
              <a:off x="6629400" y="4749480"/>
              <a:ext cx="1218960" cy="70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=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5"/>
            <p:cNvSpPr/>
            <p:nvPr/>
          </p:nvSpPr>
          <p:spPr>
            <a:xfrm flipV="1">
              <a:off x="7162560" y="4236840"/>
              <a:ext cx="0" cy="51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8"/>
          <p:cNvGrpSpPr/>
          <p:nvPr/>
        </p:nvGrpSpPr>
        <p:grpSpPr>
          <a:xfrm>
            <a:off x="5181480" y="4236840"/>
            <a:ext cx="1218960" cy="1218960"/>
            <a:chOff x="5181480" y="4236840"/>
            <a:chExt cx="1218960" cy="1218960"/>
          </a:xfrm>
        </p:grpSpPr>
        <p:sp>
          <p:nvSpPr>
            <p:cNvPr id="583" name="Rectangle 39"/>
            <p:cNvSpPr/>
            <p:nvPr/>
          </p:nvSpPr>
          <p:spPr>
            <a:xfrm>
              <a:off x="5181480" y="4749480"/>
              <a:ext cx="1218960" cy="70632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0"/>
            <p:cNvSpPr/>
            <p:nvPr/>
          </p:nvSpPr>
          <p:spPr>
            <a:xfrm flipV="1">
              <a:off x="5714640" y="4236840"/>
              <a:ext cx="0" cy="51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42"/>
          <p:cNvSpPr/>
          <p:nvPr/>
        </p:nvSpPr>
        <p:spPr>
          <a:xfrm>
            <a:off x="380880" y="1371600"/>
            <a:ext cx="769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rite a statement using the conditional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3809880" y="3733920"/>
            <a:ext cx="1295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x &gt; 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5"/>
          <p:cNvSpPr/>
          <p:nvPr/>
        </p:nvSpPr>
        <p:spPr>
          <a:xfrm>
            <a:off x="4952880" y="3733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6"/>
          <p:cNvSpPr/>
          <p:nvPr/>
        </p:nvSpPr>
        <p:spPr>
          <a:xfrm>
            <a:off x="5562720" y="3733920"/>
            <a:ext cx="457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7"/>
          <p:cNvSpPr/>
          <p:nvPr/>
        </p:nvSpPr>
        <p:spPr>
          <a:xfrm>
            <a:off x="6858000" y="3733920"/>
            <a:ext cx="762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8"/>
          <p:cNvSpPr/>
          <p:nvPr/>
        </p:nvSpPr>
        <p:spPr>
          <a:xfrm>
            <a:off x="6324480" y="37339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152280" y="1675800"/>
            <a:ext cx="8839440" cy="824040"/>
            <a:chOff x="152280" y="1675800"/>
            <a:chExt cx="8839440" cy="824040"/>
          </a:xfrm>
        </p:grpSpPr>
        <p:sp>
          <p:nvSpPr>
            <p:cNvPr id="593" name="Rectangle 4"/>
            <p:cNvSpPr/>
            <p:nvPr/>
          </p:nvSpPr>
          <p:spPr>
            <a:xfrm>
              <a:off x="457200" y="1675800"/>
              <a:ext cx="853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ign the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larger numb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tween variabl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       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حديد العدد الأكبر بين العدد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5"/>
            <p:cNvSpPr/>
            <p:nvPr/>
          </p:nvSpPr>
          <p:spPr>
            <a:xfrm>
              <a:off x="152280" y="16765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09480" y="2590920"/>
            <a:ext cx="5257800" cy="1752480"/>
            <a:chOff x="609480" y="2590920"/>
            <a:chExt cx="5257800" cy="1752480"/>
          </a:xfrm>
        </p:grpSpPr>
        <p:sp>
          <p:nvSpPr>
            <p:cNvPr id="596" name="Rectangle 7"/>
            <p:cNvSpPr/>
            <p:nvPr/>
          </p:nvSpPr>
          <p:spPr>
            <a:xfrm>
              <a:off x="749160" y="2617200"/>
              <a:ext cx="5118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num1 &gt; num2)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8"/>
            <p:cNvSpPr/>
            <p:nvPr/>
          </p:nvSpPr>
          <p:spPr>
            <a:xfrm>
              <a:off x="1218960" y="3036240"/>
              <a:ext cx="401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num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609480" y="3440880"/>
              <a:ext cx="2628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1260360" y="3777480"/>
              <a:ext cx="414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max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m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1"/>
            <p:cNvSpPr/>
            <p:nvPr/>
          </p:nvSpPr>
          <p:spPr>
            <a:xfrm>
              <a:off x="609480" y="2590920"/>
              <a:ext cx="52578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12"/>
          <p:cNvSpPr/>
          <p:nvPr/>
        </p:nvSpPr>
        <p:spPr>
          <a:xfrm>
            <a:off x="3124080" y="43434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380880" y="4854240"/>
            <a:ext cx="36576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( num1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26"/>
          <p:cNvGrpSpPr/>
          <p:nvPr/>
        </p:nvGrpSpPr>
        <p:grpSpPr>
          <a:xfrm>
            <a:off x="4038480" y="5334120"/>
            <a:ext cx="1752480" cy="1218600"/>
            <a:chOff x="4038480" y="5334120"/>
            <a:chExt cx="1752480" cy="1218600"/>
          </a:xfrm>
        </p:grpSpPr>
        <p:sp>
          <p:nvSpPr>
            <p:cNvPr id="604" name="Rectangle 18"/>
            <p:cNvSpPr/>
            <p:nvPr/>
          </p:nvSpPr>
          <p:spPr>
            <a:xfrm>
              <a:off x="4038480" y="5846760"/>
              <a:ext cx="1752480" cy="70596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 = 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9"/>
            <p:cNvSpPr/>
            <p:nvPr/>
          </p:nvSpPr>
          <p:spPr>
            <a:xfrm flipV="1">
              <a:off x="4876560" y="5334120"/>
              <a:ext cx="0" cy="51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304920" y="82224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380880" y="1219320"/>
            <a:ext cx="769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rite a statement using the conditional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6019920" y="5334120"/>
            <a:ext cx="1752480" cy="1218600"/>
            <a:chOff x="6019920" y="5334120"/>
            <a:chExt cx="1752480" cy="1218600"/>
          </a:xfrm>
        </p:grpSpPr>
        <p:sp>
          <p:nvSpPr>
            <p:cNvPr id="609" name="Rectangle 28"/>
            <p:cNvSpPr/>
            <p:nvPr/>
          </p:nvSpPr>
          <p:spPr>
            <a:xfrm>
              <a:off x="6019920" y="5846760"/>
              <a:ext cx="1752480" cy="70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 = 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9"/>
            <p:cNvSpPr/>
            <p:nvPr/>
          </p:nvSpPr>
          <p:spPr>
            <a:xfrm flipV="1">
              <a:off x="6858000" y="5334120"/>
              <a:ext cx="0" cy="512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Rectangle 30"/>
          <p:cNvSpPr/>
          <p:nvPr/>
        </p:nvSpPr>
        <p:spPr>
          <a:xfrm>
            <a:off x="3962520" y="4723560"/>
            <a:ext cx="4572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1"/>
          <p:cNvSpPr/>
          <p:nvPr/>
        </p:nvSpPr>
        <p:spPr>
          <a:xfrm>
            <a:off x="4495680" y="495252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5715000" y="4906440"/>
            <a:ext cx="304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6400800" y="47696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di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2"/>
          <p:cNvGrpSpPr/>
          <p:nvPr/>
        </p:nvGrpSpPr>
        <p:grpSpPr>
          <a:xfrm>
            <a:off x="152280" y="1127520"/>
            <a:ext cx="8839440" cy="1189800"/>
            <a:chOff x="152280" y="1127520"/>
            <a:chExt cx="8839440" cy="1189800"/>
          </a:xfrm>
        </p:grpSpPr>
        <p:sp>
          <p:nvSpPr>
            <p:cNvPr id="617" name="Rectangle 4"/>
            <p:cNvSpPr/>
            <p:nvPr/>
          </p:nvSpPr>
          <p:spPr>
            <a:xfrm>
              <a:off x="457200" y="1127520"/>
              <a:ext cx="8534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isplays the messa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"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is ev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"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f num is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ev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d otherwise displays "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is od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طباعة رسالة اذا كان العدد زوجى أو فرد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>
              <a:off x="152280" y="13874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2"/>
          <p:cNvSpPr/>
          <p:nvPr/>
        </p:nvSpPr>
        <p:spPr>
          <a:xfrm>
            <a:off x="3124080" y="4114800"/>
            <a:ext cx="5791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عند استخدام الـ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itional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228600" y="4654800"/>
            <a:ext cx="2743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4"/>
          <p:cNvGrpSpPr/>
          <p:nvPr/>
        </p:nvGrpSpPr>
        <p:grpSpPr>
          <a:xfrm>
            <a:off x="4876920" y="5181120"/>
            <a:ext cx="1752480" cy="1219680"/>
            <a:chOff x="4876920" y="5181120"/>
            <a:chExt cx="1752480" cy="1219680"/>
          </a:xfrm>
        </p:grpSpPr>
        <p:sp>
          <p:nvSpPr>
            <p:cNvPr id="622" name="Rectangle 15"/>
            <p:cNvSpPr/>
            <p:nvPr/>
          </p:nvSpPr>
          <p:spPr>
            <a:xfrm>
              <a:off x="4876920" y="5694480"/>
              <a:ext cx="1752480" cy="70632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eve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6"/>
            <p:cNvSpPr/>
            <p:nvPr/>
          </p:nvSpPr>
          <p:spPr>
            <a:xfrm flipV="1">
              <a:off x="5715000" y="5181120"/>
              <a:ext cx="0" cy="513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17"/>
          <p:cNvSpPr/>
          <p:nvPr/>
        </p:nvSpPr>
        <p:spPr>
          <a:xfrm>
            <a:off x="304920" y="822240"/>
            <a:ext cx="2133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6781680" y="5181120"/>
            <a:ext cx="1752480" cy="1219680"/>
            <a:chOff x="6781680" y="5181120"/>
            <a:chExt cx="1752480" cy="1219680"/>
          </a:xfrm>
        </p:grpSpPr>
        <p:sp>
          <p:nvSpPr>
            <p:cNvPr id="626" name="Rectangle 20"/>
            <p:cNvSpPr/>
            <p:nvPr/>
          </p:nvSpPr>
          <p:spPr>
            <a:xfrm>
              <a:off x="6781680" y="5694480"/>
              <a:ext cx="1752480" cy="70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od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 flipV="1">
              <a:off x="7619760" y="5181120"/>
              <a:ext cx="0" cy="513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5"/>
          <p:cNvGrpSpPr/>
          <p:nvPr/>
        </p:nvGrpSpPr>
        <p:grpSpPr>
          <a:xfrm>
            <a:off x="609480" y="2286000"/>
            <a:ext cx="7696440" cy="1752480"/>
            <a:chOff x="609480" y="2286000"/>
            <a:chExt cx="7696440" cy="1752480"/>
          </a:xfrm>
        </p:grpSpPr>
        <p:grpSp>
          <p:nvGrpSpPr>
            <p:cNvPr id="629" name="Group 24"/>
            <p:cNvGrpSpPr/>
            <p:nvPr/>
          </p:nvGrpSpPr>
          <p:grpSpPr>
            <a:xfrm>
              <a:off x="609480" y="2286000"/>
              <a:ext cx="7696440" cy="1752480"/>
              <a:chOff x="609480" y="2286000"/>
              <a:chExt cx="7696440" cy="1752480"/>
            </a:xfrm>
          </p:grpSpPr>
          <p:sp>
            <p:nvSpPr>
              <p:cNvPr id="630" name="Rectangle 7"/>
              <p:cNvSpPr/>
              <p:nvPr/>
            </p:nvSpPr>
            <p:spPr>
              <a:xfrm>
                <a:off x="662040" y="2305080"/>
                <a:ext cx="7491240" cy="4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f ( 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num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2 ==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)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8"/>
              <p:cNvSpPr/>
              <p:nvPr/>
            </p:nvSpPr>
            <p:spPr>
              <a:xfrm>
                <a:off x="1501920" y="2731680"/>
                <a:ext cx="587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ystem.out.print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(“is even”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9"/>
              <p:cNvSpPr/>
              <p:nvPr/>
            </p:nvSpPr>
            <p:spPr>
              <a:xfrm>
                <a:off x="609480" y="3136680"/>
                <a:ext cx="3848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el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1"/>
              <p:cNvSpPr/>
              <p:nvPr/>
            </p:nvSpPr>
            <p:spPr>
              <a:xfrm>
                <a:off x="609480" y="2286000"/>
                <a:ext cx="769644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Rectangle 23"/>
            <p:cNvSpPr/>
            <p:nvPr/>
          </p:nvSpPr>
          <p:spPr>
            <a:xfrm>
              <a:off x="1514520" y="3428640"/>
              <a:ext cx="587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stem.out.print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(“is odd”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Rectangle 26"/>
          <p:cNvSpPr/>
          <p:nvPr/>
        </p:nvSpPr>
        <p:spPr>
          <a:xfrm>
            <a:off x="2743200" y="4724280"/>
            <a:ext cx="22860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7"/>
          <p:cNvSpPr/>
          <p:nvPr/>
        </p:nvSpPr>
        <p:spPr>
          <a:xfrm>
            <a:off x="2743200" y="4692600"/>
            <a:ext cx="5562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um % 2 == 0)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is even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is odd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8"/>
          <p:cNvSpPr/>
          <p:nvPr/>
        </p:nvSpPr>
        <p:spPr>
          <a:xfrm>
            <a:off x="8153280" y="4465800"/>
            <a:ext cx="4572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380880" y="762120"/>
            <a:ext cx="8458200" cy="19810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762120" y="2971800"/>
            <a:ext cx="7848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حيث يكون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posi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Nega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533520" y="838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العدد بإستخدا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ـ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ditional expressi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طباعة رسالة اذا كان العدد موجب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positive number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و العدد سالب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egative number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609480" y="12952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f 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838080" y="20574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1. 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838080" y="26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777777"/>
                </a:solidFill>
                <a:latin typeface="Arial"/>
              </a:rPr>
              <a:t>3.3.2. 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914400" y="33670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685800" y="48006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685800" y="3962520"/>
            <a:ext cx="579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conditional Expr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600" spc="-1" strike="noStrike">
                <a:solidFill>
                  <a:srgbClr val="00007d"/>
                </a:solidFill>
                <a:latin typeface="Arial"/>
              </a:rPr>
              <a:t>(if </a:t>
            </a:r>
            <a:r>
              <a:rPr b="1" i="1" lang="ar-SA" sz="26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3124080" y="26668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2"/>
          <p:cNvGrpSpPr/>
          <p:nvPr/>
        </p:nvGrpSpPr>
        <p:grpSpPr>
          <a:xfrm>
            <a:off x="4038480" y="5105520"/>
            <a:ext cx="304920" cy="914400"/>
            <a:chOff x="4038480" y="5105520"/>
            <a:chExt cx="304920" cy="914400"/>
          </a:xfrm>
        </p:grpSpPr>
        <p:sp>
          <p:nvSpPr>
            <p:cNvPr id="219" name="AutoShape 37"/>
            <p:cNvSpPr/>
            <p:nvPr/>
          </p:nvSpPr>
          <p:spPr>
            <a:xfrm>
              <a:off x="4038480" y="571536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191120" y="51055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60"/>
          <p:cNvGrpSpPr/>
          <p:nvPr/>
        </p:nvGrpSpPr>
        <p:grpSpPr>
          <a:xfrm>
            <a:off x="4038480" y="1981080"/>
            <a:ext cx="304920" cy="685800"/>
            <a:chOff x="4038480" y="1981080"/>
            <a:chExt cx="304920" cy="685800"/>
          </a:xfrm>
        </p:grpSpPr>
        <p:sp>
          <p:nvSpPr>
            <p:cNvPr id="222" name="Line 33"/>
            <p:cNvSpPr/>
            <p:nvPr/>
          </p:nvSpPr>
          <p:spPr>
            <a:xfrm>
              <a:off x="4191120" y="2286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4038480" y="19810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1"/>
          <p:cNvGrpSpPr/>
          <p:nvPr/>
        </p:nvGrpSpPr>
        <p:grpSpPr>
          <a:xfrm>
            <a:off x="2895480" y="4038480"/>
            <a:ext cx="2743200" cy="1066680"/>
            <a:chOff x="2895480" y="4038480"/>
            <a:chExt cx="2743200" cy="1066680"/>
          </a:xfrm>
        </p:grpSpPr>
        <p:sp>
          <p:nvSpPr>
            <p:cNvPr id="225" name="Line 35"/>
            <p:cNvSpPr/>
            <p:nvPr/>
          </p:nvSpPr>
          <p:spPr>
            <a:xfrm>
              <a:off x="419112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6"/>
            <p:cNvSpPr/>
            <p:nvPr/>
          </p:nvSpPr>
          <p:spPr>
            <a:xfrm>
              <a:off x="2895480" y="4572000"/>
              <a:ext cx="27432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tatement(s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0"/>
            <p:cNvSpPr/>
            <p:nvPr/>
          </p:nvSpPr>
          <p:spPr>
            <a:xfrm>
              <a:off x="3276720" y="40384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64"/>
          <p:cNvGrpSpPr/>
          <p:nvPr/>
        </p:nvGrpSpPr>
        <p:grpSpPr>
          <a:xfrm>
            <a:off x="4191120" y="3048120"/>
            <a:ext cx="2209680" cy="2361600"/>
            <a:chOff x="4191120" y="3048120"/>
            <a:chExt cx="2209680" cy="2361600"/>
          </a:xfrm>
        </p:grpSpPr>
        <p:grpSp>
          <p:nvGrpSpPr>
            <p:cNvPr id="229" name="Group 63"/>
            <p:cNvGrpSpPr/>
            <p:nvPr/>
          </p:nvGrpSpPr>
          <p:grpSpPr>
            <a:xfrm>
              <a:off x="4191120" y="3429000"/>
              <a:ext cx="2209680" cy="1980720"/>
              <a:chOff x="4191120" y="3429000"/>
              <a:chExt cx="2209680" cy="1980720"/>
            </a:xfrm>
          </p:grpSpPr>
          <p:sp>
            <p:nvSpPr>
              <p:cNvPr id="230" name="Line 41"/>
              <p:cNvSpPr/>
              <p:nvPr/>
            </p:nvSpPr>
            <p:spPr>
              <a:xfrm>
                <a:off x="5257800" y="342900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42"/>
              <p:cNvSpPr/>
              <p:nvPr/>
            </p:nvSpPr>
            <p:spPr>
              <a:xfrm>
                <a:off x="6400800" y="3429000"/>
                <a:ext cx="0" cy="19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3"/>
              <p:cNvSpPr/>
              <p:nvPr/>
            </p:nvSpPr>
            <p:spPr>
              <a:xfrm flipH="1">
                <a:off x="4191120" y="54097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51"/>
            <p:cNvSpPr/>
            <p:nvPr/>
          </p:nvSpPr>
          <p:spPr>
            <a:xfrm>
              <a:off x="5410080" y="30481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304920" y="1905120"/>
            <a:ext cx="2819160" cy="1294920"/>
            <a:chOff x="304920" y="1905120"/>
            <a:chExt cx="2819160" cy="1294920"/>
          </a:xfrm>
        </p:grpSpPr>
        <p:grpSp>
          <p:nvGrpSpPr>
            <p:cNvPr id="235" name="Group 57"/>
            <p:cNvGrpSpPr/>
            <p:nvPr/>
          </p:nvGrpSpPr>
          <p:grpSpPr>
            <a:xfrm>
              <a:off x="304920" y="1905120"/>
              <a:ext cx="2438280" cy="1242000"/>
              <a:chOff x="304920" y="1905120"/>
              <a:chExt cx="2438280" cy="1242000"/>
            </a:xfrm>
          </p:grpSpPr>
          <p:sp>
            <p:nvSpPr>
              <p:cNvPr id="236" name="AutoShape 48"/>
              <p:cNvSpPr/>
              <p:nvPr/>
            </p:nvSpPr>
            <p:spPr>
              <a:xfrm>
                <a:off x="380880" y="1905120"/>
                <a:ext cx="2286000" cy="106668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52"/>
              <p:cNvSpPr/>
              <p:nvPr/>
            </p:nvSpPr>
            <p:spPr>
              <a:xfrm>
                <a:off x="304920" y="198108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54"/>
            <p:cNvSpPr/>
            <p:nvPr/>
          </p:nvSpPr>
          <p:spPr>
            <a:xfrm>
              <a:off x="2590920" y="2514600"/>
              <a:ext cx="533160" cy="68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56"/>
          <p:cNvSpPr/>
          <p:nvPr/>
        </p:nvSpPr>
        <p:spPr>
          <a:xfrm>
            <a:off x="380880" y="4191120"/>
            <a:ext cx="2286000" cy="22269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تنفيذ التعليمات التابعة لعبارة ال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محصورة ب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9"/>
          <p:cNvSpPr/>
          <p:nvPr/>
        </p:nvSpPr>
        <p:spPr>
          <a:xfrm>
            <a:off x="6629400" y="279396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 if .. els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28600" y="990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..else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3352680" y="2590920"/>
            <a:ext cx="213372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45"/>
          <p:cNvGrpSpPr/>
          <p:nvPr/>
        </p:nvGrpSpPr>
        <p:grpSpPr>
          <a:xfrm>
            <a:off x="4343400" y="5334120"/>
            <a:ext cx="304560" cy="761400"/>
            <a:chOff x="4343400" y="5334120"/>
            <a:chExt cx="304560" cy="761400"/>
          </a:xfrm>
        </p:grpSpPr>
        <p:sp>
          <p:nvSpPr>
            <p:cNvPr id="245" name="AutoShape 7"/>
            <p:cNvSpPr/>
            <p:nvPr/>
          </p:nvSpPr>
          <p:spPr>
            <a:xfrm>
              <a:off x="4343400" y="579096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4495680" y="53341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9"/>
          <p:cNvGrpSpPr/>
          <p:nvPr/>
        </p:nvGrpSpPr>
        <p:grpSpPr>
          <a:xfrm>
            <a:off x="4267080" y="1905120"/>
            <a:ext cx="304920" cy="685800"/>
            <a:chOff x="4267080" y="1905120"/>
            <a:chExt cx="304920" cy="685800"/>
          </a:xfrm>
        </p:grpSpPr>
        <p:sp>
          <p:nvSpPr>
            <p:cNvPr id="248" name="Line 10"/>
            <p:cNvSpPr/>
            <p:nvPr/>
          </p:nvSpPr>
          <p:spPr>
            <a:xfrm>
              <a:off x="4419720" y="22100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1"/>
            <p:cNvSpPr/>
            <p:nvPr/>
          </p:nvSpPr>
          <p:spPr>
            <a:xfrm>
              <a:off x="4267080" y="19051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609480" y="4267080"/>
            <a:ext cx="35053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for tru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3"/>
          <p:cNvGrpSpPr/>
          <p:nvPr/>
        </p:nvGrpSpPr>
        <p:grpSpPr>
          <a:xfrm>
            <a:off x="5349960" y="2971800"/>
            <a:ext cx="1736640" cy="1295280"/>
            <a:chOff x="5349960" y="2971800"/>
            <a:chExt cx="1736640" cy="1295280"/>
          </a:xfrm>
        </p:grpSpPr>
        <p:sp>
          <p:nvSpPr>
            <p:cNvPr id="252" name="Line 18"/>
            <p:cNvSpPr/>
            <p:nvPr/>
          </p:nvSpPr>
          <p:spPr>
            <a:xfrm>
              <a:off x="5486400" y="335268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7086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5349960" y="2971800"/>
              <a:ext cx="1355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2"/>
          <p:cNvGrpSpPr/>
          <p:nvPr/>
        </p:nvGrpSpPr>
        <p:grpSpPr>
          <a:xfrm>
            <a:off x="838080" y="1752480"/>
            <a:ext cx="2819160" cy="1295640"/>
            <a:chOff x="838080" y="1752480"/>
            <a:chExt cx="2819160" cy="1295640"/>
          </a:xfrm>
        </p:grpSpPr>
        <p:grpSp>
          <p:nvGrpSpPr>
            <p:cNvPr id="256" name="Group 23"/>
            <p:cNvGrpSpPr/>
            <p:nvPr/>
          </p:nvGrpSpPr>
          <p:grpSpPr>
            <a:xfrm>
              <a:off x="838080" y="1752480"/>
              <a:ext cx="2438280" cy="1242360"/>
              <a:chOff x="838080" y="1752480"/>
              <a:chExt cx="2438280" cy="1242360"/>
            </a:xfrm>
          </p:grpSpPr>
          <p:sp>
            <p:nvSpPr>
              <p:cNvPr id="257" name="AutoShape 24"/>
              <p:cNvSpPr/>
              <p:nvPr/>
            </p:nvSpPr>
            <p:spPr>
              <a:xfrm>
                <a:off x="914040" y="1752480"/>
                <a:ext cx="2286000" cy="10670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25"/>
              <p:cNvSpPr/>
              <p:nvPr/>
            </p:nvSpPr>
            <p:spPr>
              <a:xfrm>
                <a:off x="838080" y="182880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ine 26"/>
            <p:cNvSpPr/>
            <p:nvPr/>
          </p:nvSpPr>
          <p:spPr>
            <a:xfrm>
              <a:off x="3124080" y="2362320"/>
              <a:ext cx="53316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1"/>
          <p:cNvGrpSpPr/>
          <p:nvPr/>
        </p:nvGrpSpPr>
        <p:grpSpPr>
          <a:xfrm>
            <a:off x="1981080" y="2895480"/>
            <a:ext cx="1371600" cy="1371600"/>
            <a:chOff x="1981080" y="2895480"/>
            <a:chExt cx="1371600" cy="1371600"/>
          </a:xfrm>
        </p:grpSpPr>
        <p:sp>
          <p:nvSpPr>
            <p:cNvPr id="261" name="Line 33"/>
            <p:cNvSpPr/>
            <p:nvPr/>
          </p:nvSpPr>
          <p:spPr>
            <a:xfrm flipV="1">
              <a:off x="1981080" y="327636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4"/>
            <p:cNvSpPr/>
            <p:nvPr/>
          </p:nvSpPr>
          <p:spPr>
            <a:xfrm>
              <a:off x="1981080" y="32763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2209680" y="28954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36"/>
          <p:cNvSpPr/>
          <p:nvPr/>
        </p:nvSpPr>
        <p:spPr>
          <a:xfrm>
            <a:off x="5181480" y="4267080"/>
            <a:ext cx="3657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for fals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4"/>
          <p:cNvGrpSpPr/>
          <p:nvPr/>
        </p:nvGrpSpPr>
        <p:grpSpPr>
          <a:xfrm>
            <a:off x="4647960" y="4800600"/>
            <a:ext cx="2438640" cy="380880"/>
            <a:chOff x="4647960" y="4800600"/>
            <a:chExt cx="2438640" cy="380880"/>
          </a:xfrm>
        </p:grpSpPr>
        <p:sp>
          <p:nvSpPr>
            <p:cNvPr id="266" name="Line 20"/>
            <p:cNvSpPr/>
            <p:nvPr/>
          </p:nvSpPr>
          <p:spPr>
            <a:xfrm flipH="1">
              <a:off x="4647960" y="51814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708660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2"/>
          <p:cNvGrpSpPr/>
          <p:nvPr/>
        </p:nvGrpSpPr>
        <p:grpSpPr>
          <a:xfrm>
            <a:off x="1981080" y="4800600"/>
            <a:ext cx="2666880" cy="533160"/>
            <a:chOff x="1981080" y="4800600"/>
            <a:chExt cx="2666880" cy="533160"/>
          </a:xfrm>
        </p:grpSpPr>
        <p:sp>
          <p:nvSpPr>
            <p:cNvPr id="269" name="AutoShape 38"/>
            <p:cNvSpPr/>
            <p:nvPr/>
          </p:nvSpPr>
          <p:spPr>
            <a:xfrm>
              <a:off x="4343400" y="502920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1981080" y="518148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0"/>
            <p:cNvSpPr/>
            <p:nvPr/>
          </p:nvSpPr>
          <p:spPr>
            <a:xfrm>
              <a:off x="198108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if Statements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المتداخلة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تعليمات الـ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3505320" y="2286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داخل أكثر من عبا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ع بعضها البعض كالآ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228600" y="9144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ner if statement can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ontain another if stat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3"/>
          <p:cNvSpPr/>
          <p:nvPr/>
        </p:nvSpPr>
        <p:spPr>
          <a:xfrm>
            <a:off x="304920" y="1523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ner if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sted inside the outer if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914400" y="3173400"/>
            <a:ext cx="609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219320" y="3189240"/>
            <a:ext cx="3733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4495680" y="3204720"/>
            <a:ext cx="37339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outer if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st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0"/>
          <p:cNvSpPr/>
          <p:nvPr/>
        </p:nvSpPr>
        <p:spPr>
          <a:xfrm>
            <a:off x="990720" y="5262120"/>
            <a:ext cx="7315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//end of outer i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7"/>
          <p:cNvGrpSpPr/>
          <p:nvPr/>
        </p:nvGrpSpPr>
        <p:grpSpPr>
          <a:xfrm>
            <a:off x="1371600" y="3733560"/>
            <a:ext cx="6858000" cy="1448640"/>
            <a:chOff x="1371600" y="3733560"/>
            <a:chExt cx="6858000" cy="1448640"/>
          </a:xfrm>
        </p:grpSpPr>
        <p:sp>
          <p:nvSpPr>
            <p:cNvPr id="281" name="Rectangle 53"/>
            <p:cNvSpPr/>
            <p:nvPr/>
          </p:nvSpPr>
          <p:spPr>
            <a:xfrm>
              <a:off x="5029200" y="373356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inner if</a:t>
              </a:r>
              <a:r>
                <a:rPr b="1" lang="en-US" sz="23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stat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1"/>
            <p:cNvSpPr/>
            <p:nvPr/>
          </p:nvSpPr>
          <p:spPr>
            <a:xfrm>
              <a:off x="1447560" y="3733920"/>
              <a:ext cx="6098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i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2"/>
            <p:cNvSpPr/>
            <p:nvPr/>
          </p:nvSpPr>
          <p:spPr>
            <a:xfrm>
              <a:off x="1828800" y="3733920"/>
              <a:ext cx="37335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Arial"/>
                </a:rPr>
                <a:t>booleanExpression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4"/>
            <p:cNvSpPr/>
            <p:nvPr/>
          </p:nvSpPr>
          <p:spPr>
            <a:xfrm>
              <a:off x="1371600" y="4091400"/>
              <a:ext cx="5943600" cy="8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ment(s); 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</a:t>
              </a:r>
              <a:r>
                <a:rPr b="1" i="1" lang="ar-SA" sz="2300" spc="-1" strike="noStrike">
                  <a:solidFill>
                    <a:srgbClr val="4d4d4d"/>
                  </a:solidFill>
                  <a:latin typeface="Arial"/>
                </a:rPr>
                <a:t>التعليمة المراد تنفيذها بالبرنامج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5"/>
            <p:cNvSpPr/>
            <p:nvPr/>
          </p:nvSpPr>
          <p:spPr>
            <a:xfrm>
              <a:off x="1447560" y="4723920"/>
              <a:ext cx="579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i="1" lang="en-US" sz="2300" spc="-1" strike="noStrike">
                  <a:solidFill>
                    <a:srgbClr val="4d4d4d"/>
                  </a:solidFill>
                  <a:latin typeface="Arial"/>
                </a:rPr>
                <a:t>//end of inner 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60"/>
          <p:cNvSpPr/>
          <p:nvPr/>
        </p:nvSpPr>
        <p:spPr>
          <a:xfrm>
            <a:off x="914400" y="57146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1"/>
          <p:cNvSpPr/>
          <p:nvPr/>
        </p:nvSpPr>
        <p:spPr>
          <a:xfrm>
            <a:off x="1447920" y="5940000"/>
            <a:ext cx="67053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tatement(s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ات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8"/>
          <p:cNvGrpSpPr/>
          <p:nvPr/>
        </p:nvGrpSpPr>
        <p:grpSpPr>
          <a:xfrm>
            <a:off x="457200" y="2442960"/>
            <a:ext cx="7848720" cy="3272040"/>
            <a:chOff x="457200" y="2442960"/>
            <a:chExt cx="7848720" cy="3272040"/>
          </a:xfrm>
        </p:grpSpPr>
        <p:sp>
          <p:nvSpPr>
            <p:cNvPr id="289" name="Rectangle 62"/>
            <p:cNvSpPr/>
            <p:nvPr/>
          </p:nvSpPr>
          <p:spPr>
            <a:xfrm>
              <a:off x="457200" y="2442960"/>
              <a:ext cx="2666880" cy="442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outer if state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1828800" y="2895480"/>
              <a:ext cx="0" cy="304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4"/>
            <p:cNvSpPr/>
            <p:nvPr/>
          </p:nvSpPr>
          <p:spPr>
            <a:xfrm>
              <a:off x="914400" y="3200400"/>
              <a:ext cx="7391520" cy="251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9"/>
          <p:cNvGrpSpPr/>
          <p:nvPr/>
        </p:nvGrpSpPr>
        <p:grpSpPr>
          <a:xfrm>
            <a:off x="1292400" y="3657600"/>
            <a:ext cx="7623000" cy="1600200"/>
            <a:chOff x="1292400" y="3657600"/>
            <a:chExt cx="7623000" cy="1600200"/>
          </a:xfrm>
        </p:grpSpPr>
        <p:sp>
          <p:nvSpPr>
            <p:cNvPr id="293" name="Rectangle 58"/>
            <p:cNvSpPr/>
            <p:nvPr/>
          </p:nvSpPr>
          <p:spPr>
            <a:xfrm>
              <a:off x="1292400" y="3657600"/>
              <a:ext cx="663552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7"/>
            <p:cNvSpPr/>
            <p:nvPr/>
          </p:nvSpPr>
          <p:spPr>
            <a:xfrm>
              <a:off x="7924680" y="3886200"/>
              <a:ext cx="990720" cy="838080"/>
            </a:xfrm>
            <a:prstGeom prst="leftArrow">
              <a:avLst>
                <a:gd name="adj1" fmla="val 50000"/>
                <a:gd name="adj2" fmla="val 29553"/>
              </a:avLst>
            </a:prstGeom>
            <a:solidFill>
              <a:srgbClr val="ff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n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09480" y="914040"/>
            <a:ext cx="74678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914400" y="1447560"/>
            <a:ext cx="6553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609480" y="1904760"/>
            <a:ext cx="74678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533520" y="22856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09480" y="914400"/>
            <a:ext cx="78487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066680" y="274284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371600" y="3276360"/>
            <a:ext cx="6553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066680" y="3733560"/>
            <a:ext cx="701064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914400" y="411444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447920" y="4571640"/>
            <a:ext cx="6629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1752480" y="5105160"/>
            <a:ext cx="655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 // </a:t>
            </a:r>
            <a:r>
              <a:rPr b="1" i="1" lang="ar-SA" sz="2200" spc="-1" strike="noStrike">
                <a:solidFill>
                  <a:srgbClr val="4d4d4d"/>
                </a:solidFill>
                <a:latin typeface="Arial"/>
              </a:rPr>
              <a:t>التعليمات المراد تنفيذ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1447920" y="5562360"/>
            <a:ext cx="6553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1371600" y="601956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990720" y="2666880"/>
            <a:ext cx="6933960" cy="1524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1295280" y="4495680"/>
            <a:ext cx="6629400" cy="1524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7924680" y="304812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7924680" y="480060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f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480" y="160020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i &gt; k) {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outer if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914400" y="213372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f (j &gt; k)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inner if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295280" y="2409480"/>
            <a:ext cx="67057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 and j are greater than 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304812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33520" y="349092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066680" y="3809880"/>
            <a:ext cx="6705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i less than or equal to k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0" y="9144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وجد عدة طرق للتعامل مع الـ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المتداخلة تختلف طريقة كتابتها على حسب تنفيذ البرنامج، على سبيل المثال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914400" y="2127240"/>
            <a:ext cx="7086600" cy="9144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609480" y="1600200"/>
            <a:ext cx="75438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85800" y="4510080"/>
            <a:ext cx="685800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um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066680" y="4967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 =‘A’;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single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609480" y="534816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1066680" y="5729400"/>
            <a:ext cx="655344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um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447920" y="61866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 =‘B’;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single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609480" y="4495680"/>
            <a:ext cx="75438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228600" y="160020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228600" y="4419720"/>
            <a:ext cx="3049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2"/>
          <p:cNvSpPr/>
          <p:nvPr/>
        </p:nvSpPr>
        <p:spPr>
          <a:xfrm>
            <a:off x="8001000" y="22096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7696080" y="556272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st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088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sted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n be used to implemen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ultiple alterna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تداخلة فى حالة وجود عدة خيارات ب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7"/>
          <p:cNvGrpSpPr/>
          <p:nvPr/>
        </p:nvGrpSpPr>
        <p:grpSpPr>
          <a:xfrm>
            <a:off x="609480" y="2057400"/>
            <a:ext cx="8077320" cy="4282200"/>
            <a:chOff x="609480" y="2057400"/>
            <a:chExt cx="8077320" cy="4282200"/>
          </a:xfrm>
        </p:grpSpPr>
        <p:sp>
          <p:nvSpPr>
            <p:cNvPr id="337" name="Rectangle 17"/>
            <p:cNvSpPr/>
            <p:nvPr/>
          </p:nvSpPr>
          <p:spPr>
            <a:xfrm>
              <a:off x="609480" y="2057400"/>
              <a:ext cx="8077320" cy="419112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62120" y="2147760"/>
              <a:ext cx="777240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مثال(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): اكتب برنامج يطلب من المستخدم ادخال عدد صحيح من النوع (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) يمثل </a:t>
              </a:r>
              <a:r>
                <a:rPr b="1" lang="ar-SA" sz="2500" spc="-1" strike="noStrike">
                  <a:solidFill>
                    <a:srgbClr val="00007d"/>
                  </a:solidFill>
                  <a:latin typeface="Arial"/>
                </a:rPr>
                <a:t>درجة الطالب بالامتحان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، يقوم البرنامج بتحديد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500" spc="-1" strike="noStrike">
                  <a:solidFill>
                    <a:srgbClr val="000000"/>
                  </a:solidFill>
                  <a:latin typeface="Arial"/>
                </a:rPr>
                <a:t>تقدير الطالب وفقاً للخيارت التالية: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9"/>
            <p:cNvSpPr/>
            <p:nvPr/>
          </p:nvSpPr>
          <p:spPr>
            <a:xfrm>
              <a:off x="1828800" y="3260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9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A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1828800" y="379368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8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B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1828800" y="4403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7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C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1828800" y="501300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كبر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6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D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1828800" y="5546520"/>
              <a:ext cx="6400800" cy="79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buClr>
                  <a:srgbClr val="00007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فى حالة أن الدرجة أقل من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60.0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 يتم طباعة التقدير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ahmed azez</cp:lastModifiedBy>
  <dcterms:modified xsi:type="dcterms:W3CDTF">2021-05-22T14:53:29Z</dcterms:modified>
  <cp:revision>1730</cp:revision>
  <dc:subject>Programming Fundamentals</dc:subject>
  <dc:title>Primitive Data Type</dc:title>
</cp:coreProperties>
</file>