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C420-609B-4A32-8417-470BAA517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B5F8-A2F2-4005-842D-DDF91FD13C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9BFC-7E54-46FC-BC61-667AC3BDB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B76A-92C2-44A7-8648-2ACBD23393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F696-1778-4845-9B01-A8036824C2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A649-C9D2-4F7B-BF45-5504374957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1745-27ED-462E-854F-059917633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96E3-C80C-4415-91B6-8B491B80F8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68C0-7D6C-4326-9079-CABFBBB10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61CF-E4C9-4ACD-9A39-5657EC921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5FF3-E2C8-4A38-9271-9A544E4D1F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FEE0-1151-43C8-B060-A3CBBD244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A3BC-ED6D-4A79-920D-5EE236E90A3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1905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4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44792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int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1905120"/>
            <a:ext cx="2209680" cy="838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1828800"/>
            <a:ext cx="20574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1981080"/>
            <a:ext cx="6858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590920"/>
            <a:ext cx="7315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57508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575080"/>
            <a:ext cx="1447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575080"/>
            <a:ext cx="1905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ntGra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6308640"/>
            <a:ext cx="6096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2590920"/>
            <a:ext cx="2514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x 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97180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29256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67344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97836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438768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472428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12136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548640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577548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60199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57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Double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درجة الطالب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5089680"/>
            <a:ext cx="76201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ntGrade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;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نلاحظ هنا يتم نداء الدالة بكتابة اسمها فق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495680"/>
            <a:ext cx="68580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printGrade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درجة الطالب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775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5089680"/>
            <a:ext cx="7391520" cy="6253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80880" y="457200"/>
            <a:ext cx="8305560" cy="6171480"/>
            <a:chOff x="380880" y="457200"/>
            <a:chExt cx="8305560" cy="6171480"/>
          </a:xfrm>
        </p:grpSpPr>
        <p:sp>
          <p:nvSpPr>
            <p:cNvPr id="272" name=""/>
            <p:cNvSpPr/>
            <p:nvPr/>
          </p:nvSpPr>
          <p:spPr>
            <a:xfrm>
              <a:off x="380880" y="857520"/>
              <a:ext cx="8305560" cy="57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457200"/>
              <a:ext cx="8305560" cy="400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5720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914400"/>
            <a:ext cx="7467840" cy="52578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4608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946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914400"/>
            <a:ext cx="213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1371600"/>
            <a:ext cx="3124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7654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571500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94608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2096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25430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1258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351936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03848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437184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4875120"/>
            <a:ext cx="3124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272200"/>
            <a:ext cx="3505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83736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wo 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all a method;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choice is based 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ther the metho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s a value or no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4929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جد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طريقتين ل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من داخل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ليتم بدء تنفيذها، وتعتمد طريقة النداء على حسب الدالة فى أنها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قوم بإرجاع قيمة عند تنفيذها أو لا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480" y="2666160"/>
            <a:ext cx="79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ig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result of the method to the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343400"/>
            <a:ext cx="79246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تحديد العدد الاكب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5409720"/>
            <a:ext cx="8458200" cy="83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يجب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321720"/>
            <a:ext cx="807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دالة تقو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بإرجاع 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 تنفيذها يتم ندائها من خلال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عريف متغي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من نفس نوع ناتج تنفيذ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800600"/>
            <a:ext cx="84582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إختبار العدد موجب أو سال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142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all to the method must be a statemen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313848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ispla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لا: نداء الدالة لطباعة رسالة ترحيب على شاشة التنفيذ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965960"/>
            <a:ext cx="807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ى حالة أن الدال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voi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ى 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يتم ندائها من 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خلال كتابة اسم الدالة فقط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كما ي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74796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intGrad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  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لا: نداء الدالة لطباعة تقدير الطال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4464720"/>
            <a:ext cx="7848720" cy="12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لايتم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ندما تكو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لا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91296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lling a method, you need to provide arguments (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hich must be given in the same order as their respective parameters in the method specif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25432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نداء الدالة لابد أن يت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إلتزام بالقيم التى سيتم إرس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حيث تكو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نفس ال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من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فس نوع البيا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تعريفها بالدالة(أى كما تم تعريفها بالـ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method header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4800600"/>
            <a:ext cx="6629400" cy="1523880"/>
            <a:chOff x="914400" y="4800600"/>
            <a:chExt cx="6629400" cy="1523880"/>
          </a:xfrm>
        </p:grpSpPr>
        <p:sp>
          <p:nvSpPr>
            <p:cNvPr id="309" name=""/>
            <p:cNvSpPr/>
            <p:nvPr/>
          </p:nvSpPr>
          <p:spPr>
            <a:xfrm>
              <a:off x="914400" y="4800600"/>
              <a:ext cx="57150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90720" y="4800600"/>
              <a:ext cx="6553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max (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y)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00200" y="5334120"/>
              <a:ext cx="4419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d4d4d"/>
                  </a:solidFill>
                  <a:latin typeface="Arial"/>
                </a:rPr>
                <a:t>// method bod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90720" y="5775480"/>
              <a:ext cx="60958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2120" y="3733920"/>
            <a:ext cx="79246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 لتحديد العدد الاكبر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4191120"/>
            <a:ext cx="76212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4191120"/>
            <a:ext cx="838440" cy="685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4191120"/>
            <a:ext cx="838440" cy="685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4267080"/>
            <a:ext cx="2133360" cy="366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Valu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4191120"/>
            <a:ext cx="2133720" cy="366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 by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9907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نص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وادخال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ثم يقوم البرنامج بنداء الدالة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isplayTex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عدد الصحيح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نص الذى تم ادخاله،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ثم تقوم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دالة بطباعة النص المُدخل بعدد مرات العدد الصحيح على شاشة التنفيذ، كما ي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3032280"/>
            <a:ext cx="72388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nter text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Hello first class on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4036680"/>
            <a:ext cx="7238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Hello first class o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1860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1860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828800"/>
            <a:ext cx="2133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Tex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2514600"/>
            <a:ext cx="7086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304812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32756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62720" y="2666880"/>
            <a:ext cx="2666880" cy="1524240"/>
            <a:chOff x="5562720" y="2666880"/>
            <a:chExt cx="2666880" cy="1524240"/>
          </a:xfrm>
        </p:grpSpPr>
        <p:grpSp>
          <p:nvGrpSpPr>
            <p:cNvPr id="331" name=""/>
            <p:cNvGrpSpPr/>
            <p:nvPr/>
          </p:nvGrpSpPr>
          <p:grpSpPr>
            <a:xfrm>
              <a:off x="5562720" y="2666880"/>
              <a:ext cx="380880" cy="1524240"/>
              <a:chOff x="5562720" y="2666880"/>
              <a:chExt cx="380880" cy="1524240"/>
            </a:xfrm>
          </p:grpSpPr>
          <p:sp>
            <p:nvSpPr>
              <p:cNvPr id="332" name=""/>
              <p:cNvSpPr/>
              <p:nvPr/>
            </p:nvSpPr>
            <p:spPr>
              <a:xfrm>
                <a:off x="5943600" y="2666880"/>
                <a:ext cx="0" cy="152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562720" y="26668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62720" y="41911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5791320" y="31698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514600" y="1042920"/>
            <a:ext cx="6248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Tex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1832040"/>
            <a:ext cx="3733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3581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25750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1066680"/>
            <a:ext cx="563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204156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2514600"/>
            <a:ext cx="1981440" cy="10666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2133720"/>
            <a:ext cx="20574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قيم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29718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3429000"/>
            <a:ext cx="815364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35370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35370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50532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4038480"/>
            <a:ext cx="708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449568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5627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350820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49528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1523880"/>
            <a:ext cx="701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نص (مثلا):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lo first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2438280"/>
            <a:ext cx="1981080" cy="10670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971800"/>
            <a:ext cx="205740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lo fisr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80880" y="838080"/>
            <a:ext cx="8305560" cy="5790960"/>
            <a:chOff x="380880" y="838080"/>
            <a:chExt cx="8305560" cy="5790960"/>
          </a:xfrm>
        </p:grpSpPr>
        <p:sp>
          <p:nvSpPr>
            <p:cNvPr id="361" name=""/>
            <p:cNvSpPr/>
            <p:nvPr/>
          </p:nvSpPr>
          <p:spPr>
            <a:xfrm>
              <a:off x="380880" y="1213920"/>
              <a:ext cx="8305560" cy="54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880" y="838080"/>
              <a:ext cx="8305560" cy="375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صحيح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638680"/>
            <a:ext cx="6933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text);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يتم نداء الدالة بكتابة اسمها فق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6095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5638680"/>
            <a:ext cx="7315200" cy="53352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4572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Text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4997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4267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نص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71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all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ethod examp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8195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Passing Parameters by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Value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0880" y="914400"/>
            <a:ext cx="8305560" cy="4876560"/>
            <a:chOff x="380880" y="914400"/>
            <a:chExt cx="8305560" cy="4876560"/>
          </a:xfrm>
        </p:grpSpPr>
        <p:sp>
          <p:nvSpPr>
            <p:cNvPr id="378" name=""/>
            <p:cNvSpPr/>
            <p:nvPr/>
          </p:nvSpPr>
          <p:spPr>
            <a:xfrm>
              <a:off x="380880" y="1230840"/>
              <a:ext cx="8305560" cy="45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914400"/>
              <a:ext cx="8305560" cy="3164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57200" y="4038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371600"/>
            <a:ext cx="7924680" cy="25146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32732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13273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1295280"/>
            <a:ext cx="2133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Tex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828800"/>
            <a:ext cx="708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 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k 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2286000"/>
            <a:ext cx="45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msg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3352680"/>
            <a:ext cx="609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5520" y="1298520"/>
            <a:ext cx="373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 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71600" y="27432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. Passing Parameters by Values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80820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e a method is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vo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system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tores parameters and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n area of memory, know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st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tores elements i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st-in first-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ash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2178000"/>
            <a:ext cx="8686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 نداء الدالة لبدء تنفيذها،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خصيص مساحة من الذاكر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يتم فيها تخزين جميع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تغيرات التابع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لبرنامج. وتُسمى هذه المساحة بالـ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المكدس)، حيث يكون مبدأ التخزين بالمكدس كالآتى(أول قيمة تم تخزينها هى آخر قيمة فى الترتيب لتخزين للعناصر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41140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method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inish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work and returns to its call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ociated space is rele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80096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ندما تقوم الدالة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بإنهاء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رجوع للدالة الرئيسي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مواصلة التنفيذ لجميع تعليمات البرنامج، ثم بعد ذلك يتم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حذف(تفريغ) المساح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م حجزها بالذاكرة بعد إكمال التنفيذ للبرن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761760"/>
            <a:ext cx="868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توضيح طريقة التخزين بالمكدس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5976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مكننا متابعة التنفيذ للدال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ى تقوم بإيجاد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عدد الأكبر بين عددي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كما يلى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85440" y="3581280"/>
            <a:ext cx="2362320" cy="2438280"/>
            <a:chOff x="685440" y="3581280"/>
            <a:chExt cx="2362320" cy="2438280"/>
          </a:xfrm>
        </p:grpSpPr>
        <p:sp>
          <p:nvSpPr>
            <p:cNvPr id="400" name=""/>
            <p:cNvSpPr/>
            <p:nvPr/>
          </p:nvSpPr>
          <p:spPr>
            <a:xfrm>
              <a:off x="685800" y="358128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7760" y="358128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85440" y="601956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85800" y="1676520"/>
            <a:ext cx="716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971800"/>
            <a:ext cx="609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2117880"/>
            <a:ext cx="586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um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2575080"/>
            <a:ext cx="754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1676520"/>
            <a:ext cx="63244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5562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5181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9625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47242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601992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2057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9520" y="2590920"/>
            <a:ext cx="3886200" cy="3808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838080"/>
            <a:ext cx="4876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266720" y="2514600"/>
            <a:ext cx="2362320" cy="3428640"/>
            <a:chOff x="4266720" y="2514600"/>
            <a:chExt cx="2362320" cy="3428640"/>
          </a:xfrm>
        </p:grpSpPr>
        <p:sp>
          <p:nvSpPr>
            <p:cNvPr id="420" name=""/>
            <p:cNvSpPr/>
            <p:nvPr/>
          </p:nvSpPr>
          <p:spPr>
            <a:xfrm>
              <a:off x="4267080" y="2514600"/>
              <a:ext cx="0" cy="342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29040" y="2514600"/>
              <a:ext cx="0" cy="342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266720" y="594324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257800" y="5638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3341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67080" y="43434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50292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59436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x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76212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7621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76212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4479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066680"/>
            <a:ext cx="426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447920"/>
            <a:ext cx="198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182880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1828800"/>
            <a:ext cx="198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219384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2514600"/>
            <a:ext cx="548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85800"/>
            <a:ext cx="3352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y )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39625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6576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67080" y="2590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3276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resul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267080" y="4343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629400" y="4114800"/>
            <a:ext cx="609480" cy="1676520"/>
            <a:chOff x="6629400" y="4114800"/>
            <a:chExt cx="609480" cy="1676520"/>
          </a:xfrm>
        </p:grpSpPr>
        <p:sp>
          <p:nvSpPr>
            <p:cNvPr id="445" name=""/>
            <p:cNvSpPr/>
            <p:nvPr/>
          </p:nvSpPr>
          <p:spPr>
            <a:xfrm>
              <a:off x="6629400" y="579132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9400" y="41148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38880" y="411480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629400" y="3809880"/>
            <a:ext cx="380880" cy="1676520"/>
            <a:chOff x="6629400" y="3809880"/>
            <a:chExt cx="380880" cy="1676520"/>
          </a:xfrm>
        </p:grpSpPr>
        <p:sp>
          <p:nvSpPr>
            <p:cNvPr id="449" name=""/>
            <p:cNvSpPr/>
            <p:nvPr/>
          </p:nvSpPr>
          <p:spPr>
            <a:xfrm>
              <a:off x="6629400" y="548640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29400" y="380988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10280" y="380988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505320" y="762120"/>
            <a:ext cx="761760" cy="380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5680" y="762120"/>
            <a:ext cx="685800" cy="380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209680"/>
            <a:ext cx="198108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1 Call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838080"/>
            <a:ext cx="4876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80520" y="838080"/>
            <a:ext cx="2362320" cy="3200040"/>
            <a:chOff x="380520" y="838080"/>
            <a:chExt cx="2362320" cy="3200040"/>
          </a:xfrm>
        </p:grpSpPr>
        <p:sp>
          <p:nvSpPr>
            <p:cNvPr id="458" name=""/>
            <p:cNvSpPr/>
            <p:nvPr/>
          </p:nvSpPr>
          <p:spPr>
            <a:xfrm>
              <a:off x="380880" y="838080"/>
              <a:ext cx="0" cy="320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2840" y="838080"/>
              <a:ext cx="0" cy="320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80520" y="403812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295280" y="28195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1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438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2193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981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output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0384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4d4d4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e main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5120" y="838080"/>
            <a:ext cx="2438640" cy="3276360"/>
            <a:chOff x="2895120" y="838080"/>
            <a:chExt cx="2438640" cy="3276360"/>
          </a:xfrm>
        </p:grpSpPr>
        <p:sp>
          <p:nvSpPr>
            <p:cNvPr id="467" name=""/>
            <p:cNvSpPr/>
            <p:nvPr/>
          </p:nvSpPr>
          <p:spPr>
            <a:xfrm>
              <a:off x="289548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376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895120" y="4114440"/>
              <a:ext cx="2438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3962520" y="37339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1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34290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um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438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3124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4114800"/>
            <a:ext cx="243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4d4d4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e max metho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20574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x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67080" y="1752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762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max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1371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result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971800" y="2438280"/>
            <a:ext cx="2362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334120" y="2209680"/>
            <a:ext cx="609480" cy="1676520"/>
            <a:chOff x="5334120" y="2209680"/>
            <a:chExt cx="609480" cy="1676520"/>
          </a:xfrm>
        </p:grpSpPr>
        <p:sp>
          <p:nvSpPr>
            <p:cNvPr id="481" name=""/>
            <p:cNvSpPr/>
            <p:nvPr/>
          </p:nvSpPr>
          <p:spPr>
            <a:xfrm>
              <a:off x="5334120" y="388620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4120" y="2209680"/>
              <a:ext cx="6094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43600" y="2209680"/>
              <a:ext cx="0" cy="167652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334120" y="1905120"/>
            <a:ext cx="380880" cy="1676160"/>
            <a:chOff x="5334120" y="1905120"/>
            <a:chExt cx="380880" cy="1676160"/>
          </a:xfrm>
        </p:grpSpPr>
        <p:sp>
          <p:nvSpPr>
            <p:cNvPr id="485" name=""/>
            <p:cNvSpPr/>
            <p:nvPr/>
          </p:nvSpPr>
          <p:spPr>
            <a:xfrm>
              <a:off x="5334120" y="358128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4120" y="190512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1905120"/>
              <a:ext cx="0" cy="167616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095520" y="838080"/>
            <a:ext cx="2362320" cy="3276360"/>
            <a:chOff x="6095520" y="838080"/>
            <a:chExt cx="2362320" cy="3276360"/>
          </a:xfrm>
        </p:grpSpPr>
        <p:sp>
          <p:nvSpPr>
            <p:cNvPr id="489" name=""/>
            <p:cNvSpPr/>
            <p:nvPr/>
          </p:nvSpPr>
          <p:spPr>
            <a:xfrm>
              <a:off x="609588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7840" y="838080"/>
              <a:ext cx="0" cy="32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095520" y="4114440"/>
              <a:ext cx="2361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086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3352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23623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pace requi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0" y="3048120"/>
            <a:ext cx="1371600" cy="304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utpu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41911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method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etur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181120" y="1523880"/>
            <a:ext cx="3505680" cy="1600200"/>
            <a:chOff x="5181120" y="1523880"/>
            <a:chExt cx="3505680" cy="1600200"/>
          </a:xfrm>
        </p:grpSpPr>
        <p:sp>
          <p:nvSpPr>
            <p:cNvPr id="498" name=""/>
            <p:cNvSpPr/>
            <p:nvPr/>
          </p:nvSpPr>
          <p:spPr>
            <a:xfrm>
              <a:off x="8305920" y="3124080"/>
              <a:ext cx="30456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81120" y="1523880"/>
              <a:ext cx="350532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86800" y="1523880"/>
              <a:ext cx="0" cy="160020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3520" y="4724280"/>
            <a:ext cx="2361600" cy="1676520"/>
            <a:chOff x="533520" y="4724280"/>
            <a:chExt cx="2361600" cy="1676520"/>
          </a:xfrm>
        </p:grpSpPr>
        <p:sp>
          <p:nvSpPr>
            <p:cNvPr id="502" name=""/>
            <p:cNvSpPr/>
            <p:nvPr/>
          </p:nvSpPr>
          <p:spPr>
            <a:xfrm>
              <a:off x="533520" y="4724280"/>
              <a:ext cx="0" cy="1676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95120" y="4724280"/>
              <a:ext cx="0" cy="1676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33520" y="6400800"/>
              <a:ext cx="2361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533520" y="55627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ck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64008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thod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71800" y="838080"/>
            <a:ext cx="23623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76212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العدد المُدخل وتحديد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ا اذا كان هذا العدد موجب أو سالب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ثم طباعة النتيجة على شاشة التنفيذ، كما ي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54032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1577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5775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346480"/>
            <a:ext cx="62481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nega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413160"/>
            <a:ext cx="62481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positive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144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743200"/>
            <a:ext cx="1218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33684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8098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34340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334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124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129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343400" y="1523880"/>
            <a:ext cx="2133720" cy="1295640"/>
            <a:chOff x="4343400" y="1523880"/>
            <a:chExt cx="2133720" cy="1295640"/>
          </a:xfrm>
        </p:grpSpPr>
        <p:sp>
          <p:nvSpPr>
            <p:cNvPr id="133" name=""/>
            <p:cNvSpPr/>
            <p:nvPr/>
          </p:nvSpPr>
          <p:spPr>
            <a:xfrm>
              <a:off x="43434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720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19920" y="1523880"/>
            <a:ext cx="2286000" cy="1371600"/>
            <a:chOff x="6019920" y="1523880"/>
            <a:chExt cx="2286000" cy="1371600"/>
          </a:xfrm>
        </p:grpSpPr>
        <p:sp>
          <p:nvSpPr>
            <p:cNvPr id="137" name=""/>
            <p:cNvSpPr/>
            <p:nvPr/>
          </p:nvSpPr>
          <p:spPr>
            <a:xfrm>
              <a:off x="6400800" y="1752480"/>
              <a:ext cx="1905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19920" y="2209680"/>
              <a:ext cx="83808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48520" y="3429000"/>
            <a:ext cx="2666880" cy="1828800"/>
            <a:chOff x="6248520" y="3429000"/>
            <a:chExt cx="2666880" cy="1828800"/>
          </a:xfrm>
        </p:grpSpPr>
        <p:grpSp>
          <p:nvGrpSpPr>
            <p:cNvPr id="141" name=""/>
            <p:cNvGrpSpPr/>
            <p:nvPr/>
          </p:nvGrpSpPr>
          <p:grpSpPr>
            <a:xfrm>
              <a:off x="6248520" y="3429000"/>
              <a:ext cx="380880" cy="1828800"/>
              <a:chOff x="6248520" y="3429000"/>
              <a:chExt cx="380880" cy="18288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29400" y="3429000"/>
                <a:ext cx="0" cy="1828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248520" y="34290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248520" y="52578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477120" y="403128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ck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74320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85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04156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600200"/>
            <a:ext cx="6477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133720"/>
            <a:ext cx="0" cy="10666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2133720"/>
            <a:ext cx="2057400" cy="761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7" idx="1"/>
            <a:endCxn id="153" idx="1"/>
          </p:cNvCxnSpPr>
          <p:nvPr/>
        </p:nvCxnSpPr>
        <p:spPr>
          <a:xfrm flipH="1" rot="10800000">
            <a:off x="761760" y="1836000"/>
            <a:ext cx="1219680" cy="2736000"/>
          </a:xfrm>
          <a:prstGeom prst="bentConnector3">
            <a:avLst>
              <a:gd name="adj1" fmla="val -18748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486400" y="259092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048120"/>
            <a:ext cx="7315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5228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:  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eck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ffffff"/>
                </a:solidFill>
                <a:latin typeface="Arial"/>
              </a:rPr>
              <a:t> لبدء تنفيذها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10824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310824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0824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7018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1752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70844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6386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108240"/>
            <a:ext cx="25146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08968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70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heck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check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342900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8545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487692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check 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41972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check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وارسال العدد لها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39424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876920"/>
            <a:ext cx="487692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457200"/>
            <a:ext cx="8305560" cy="5181120"/>
            <a:chOff x="380880" y="457200"/>
            <a:chExt cx="8305560" cy="5181120"/>
          </a:xfrm>
        </p:grpSpPr>
        <p:sp>
          <p:nvSpPr>
            <p:cNvPr id="186" name=""/>
            <p:cNvSpPr/>
            <p:nvPr/>
          </p:nvSpPr>
          <p:spPr>
            <a:xfrm>
              <a:off x="380880" y="793440"/>
              <a:ext cx="8305560" cy="484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457200"/>
              <a:ext cx="8305560" cy="3362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heck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828800" y="83808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che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6483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295280"/>
            <a:ext cx="7467840" cy="312444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295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295280"/>
            <a:ext cx="1447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1295280"/>
            <a:ext cx="1219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1889280"/>
            <a:ext cx="1828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236232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posi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2895480"/>
            <a:ext cx="1828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8257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295280"/>
            <a:ext cx="25146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327672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“negative numbe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7621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درجة الطالب بالإمتحان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rintGrad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درجة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rial"/>
              </a:rPr>
              <a:t>وطباعة تقدير الطالب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فقاً للتقديرات الآت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01924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9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53692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8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14640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7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75624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كبر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365720"/>
            <a:ext cx="75438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ى حالة أن الدرجة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أقل من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60.0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يتم طباعة التقدير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0350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03500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1003320"/>
            <a:ext cx="2133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Grad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523880"/>
            <a:ext cx="3124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9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99692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6232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29200" y="1752480"/>
            <a:ext cx="2666880" cy="4342680"/>
            <a:chOff x="5029200" y="1752480"/>
            <a:chExt cx="2666880" cy="4342680"/>
          </a:xfrm>
        </p:grpSpPr>
        <p:grpSp>
          <p:nvGrpSpPr>
            <p:cNvPr id="215" name=""/>
            <p:cNvGrpSpPr/>
            <p:nvPr/>
          </p:nvGrpSpPr>
          <p:grpSpPr>
            <a:xfrm>
              <a:off x="5029200" y="1752480"/>
              <a:ext cx="380880" cy="4342680"/>
              <a:chOff x="5029200" y="1752480"/>
              <a:chExt cx="380880" cy="4342680"/>
            </a:xfrm>
          </p:grpSpPr>
          <p:sp>
            <p:nvSpPr>
              <p:cNvPr id="216" name=""/>
              <p:cNvSpPr/>
              <p:nvPr/>
            </p:nvSpPr>
            <p:spPr>
              <a:xfrm>
                <a:off x="5410080" y="1752480"/>
                <a:ext cx="0" cy="434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29200" y="175248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29200" y="609516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257800" y="31824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90920" y="60948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ntGrad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10350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                                  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method exampl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49876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8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97180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0532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7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397836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47984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 if ( x &gt;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.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95288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5318280"/>
            <a:ext cx="3124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715000"/>
            <a:ext cx="350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3T15:47:58Z</dcterms:modified>
  <cp:revision>2117</cp:revision>
  <dc:subject>Programming Fundamentals</dc:subject>
  <dc:title>Chapter5: Methods</dc:title>
</cp:coreProperties>
</file>