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8D445-BE92-4747-BF66-99DE856C99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34607-F494-4541-8C97-E786CD3E4F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C4378-3BC3-45CF-9F1B-0C772BFF29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573AD-B6EC-4DC1-B86E-601989E776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B75A3-C547-4786-9134-DCFF8D4887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31AE5-936E-432E-B9C2-8D975B6F09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168FB-E677-48E7-9BC0-EE7A99BEFA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1C460-0075-491B-9653-80615BFF9F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2EA09-33FF-4E43-B668-6C3A5DABA9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429E8-E65F-49EA-833C-9F5FDE8B4E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A5AE2-EE23-4CC8-A28C-4C2A5C7E9D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2BEB9-0933-4EAF-8C96-6ECDB89AAE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56760" indent="-3567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1520" indent="-36144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055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844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51" name="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FA73-5599-4F9C-80C5-28BEC0A34336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11448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556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55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55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743200" y="914400"/>
            <a:ext cx="609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أساسيات البرمج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28440" y="304812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Selection Statement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2133720"/>
            <a:ext cx="5105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(3)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1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mple if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762120"/>
            <a:ext cx="8229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mportant Notes:(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(</a:t>
            </a:r>
            <a:r>
              <a:rPr b="1" lang="ar-SA" sz="2500" spc="-1" strike="noStrike">
                <a:solidFill>
                  <a:srgbClr val="cc0000"/>
                </a:solidFill>
                <a:latin typeface="Arial"/>
              </a:rPr>
              <a:t>ملاحظات هام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1320" y="1218600"/>
            <a:ext cx="8606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343080" indent="-343080"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booleanExpres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enclosed in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enthe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forms of the if state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2270160"/>
            <a:ext cx="5867280" cy="488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booleanExpression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76520" y="2567520"/>
            <a:ext cx="594360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(s);  </a:t>
            </a:r>
            <a:r>
              <a:rPr b="1" i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i="1" lang="ar-SA" sz="2300" spc="-1" strike="noStrike">
                <a:solidFill>
                  <a:srgbClr val="4d4d4d"/>
                </a:solidFill>
                <a:latin typeface="Arial"/>
              </a:rPr>
              <a:t>التعليمة المراد تنفيذها بالبرنامج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00200" y="3200040"/>
            <a:ext cx="579132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133360" y="1676520"/>
            <a:ext cx="5181480" cy="685800"/>
            <a:chOff x="2133360" y="1676520"/>
            <a:chExt cx="5181480" cy="685800"/>
          </a:xfrm>
        </p:grpSpPr>
        <p:sp>
          <p:nvSpPr>
            <p:cNvPr id="255" name=""/>
            <p:cNvSpPr/>
            <p:nvPr/>
          </p:nvSpPr>
          <p:spPr>
            <a:xfrm flipH="1">
              <a:off x="2133360" y="1676520"/>
              <a:ext cx="5181480" cy="685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105160" y="1676520"/>
              <a:ext cx="2209680" cy="685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143000" y="4556160"/>
            <a:ext cx="42670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( i &gt; 0 ) &amp;&amp; ( i &lt;= 10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066680" y="5714640"/>
            <a:ext cx="2590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90720" y="4419720"/>
            <a:ext cx="73911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5211360"/>
            <a:ext cx="68580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(“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 is number between 0 to 10”);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600200" y="4114800"/>
            <a:ext cx="2971440" cy="533160"/>
            <a:chOff x="1600200" y="4114800"/>
            <a:chExt cx="2971440" cy="533160"/>
          </a:xfrm>
        </p:grpSpPr>
        <p:sp>
          <p:nvSpPr>
            <p:cNvPr id="262" name=""/>
            <p:cNvSpPr/>
            <p:nvPr/>
          </p:nvSpPr>
          <p:spPr>
            <a:xfrm flipH="1">
              <a:off x="1600200" y="4114800"/>
              <a:ext cx="29714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00200" y="4114800"/>
              <a:ext cx="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71640" y="4114800"/>
              <a:ext cx="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752480" y="3962520"/>
            <a:ext cx="6553440" cy="1065960"/>
            <a:chOff x="1752480" y="3962520"/>
            <a:chExt cx="6553440" cy="1065960"/>
          </a:xfrm>
        </p:grpSpPr>
        <p:sp>
          <p:nvSpPr>
            <p:cNvPr id="266" name=""/>
            <p:cNvSpPr/>
            <p:nvPr/>
          </p:nvSpPr>
          <p:spPr>
            <a:xfrm>
              <a:off x="5638680" y="3962520"/>
              <a:ext cx="2667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7d"/>
                  </a:solidFill>
                  <a:latin typeface="Arial"/>
                </a:rPr>
                <a:t>Boolean Express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1752480" y="4190760"/>
              <a:ext cx="3962520" cy="837720"/>
              <a:chOff x="1752480" y="4190760"/>
              <a:chExt cx="3962520" cy="837720"/>
            </a:xfrm>
          </p:grpSpPr>
          <p:sp>
            <p:nvSpPr>
              <p:cNvPr id="268" name=""/>
              <p:cNvSpPr/>
              <p:nvPr/>
            </p:nvSpPr>
            <p:spPr>
              <a:xfrm>
                <a:off x="1752480" y="4571640"/>
                <a:ext cx="2667240" cy="45684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3962520" y="4190760"/>
                <a:ext cx="175248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0" name=""/>
          <p:cNvSpPr/>
          <p:nvPr/>
        </p:nvSpPr>
        <p:spPr>
          <a:xfrm>
            <a:off x="1981080" y="3733560"/>
            <a:ext cx="2210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enthe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1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mple if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762120"/>
            <a:ext cx="8229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mportant Notes:(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(</a:t>
            </a:r>
            <a:r>
              <a:rPr b="1" lang="ar-SA" sz="2500" spc="-1" strike="noStrike">
                <a:solidFill>
                  <a:srgbClr val="cc0000"/>
                </a:solidFill>
                <a:latin typeface="Arial"/>
              </a:rPr>
              <a:t>ملاحظات هام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-1478520" y="1432080"/>
            <a:ext cx="1218564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.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يمكن تجاهل كتابة الـ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f block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فى حالة وجود </a:t>
            </a:r>
            <a:r>
              <a:rPr b="1" lang="ar-SA" sz="2500" spc="-1" strike="noStrike" u="sng">
                <a:solidFill>
                  <a:srgbClr val="00007d"/>
                </a:solidFill>
                <a:uFillTx/>
                <a:latin typeface="Arial"/>
              </a:rPr>
              <a:t>تعليمة واحدة فقط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لعبارت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   أما فى حالة وجود </a:t>
            </a:r>
            <a:r>
              <a:rPr b="1" lang="ar-SA" sz="2500" spc="-1" strike="noStrike" u="sng">
                <a:solidFill>
                  <a:srgbClr val="00007d"/>
                </a:solidFill>
                <a:uFillTx/>
                <a:latin typeface="Arial"/>
              </a:rPr>
              <a:t>عدد من التعليمات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فلابد من كتابتها داخل الـ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f bloc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533520" y="2666880"/>
            <a:ext cx="3962160" cy="1676520"/>
            <a:chOff x="533520" y="2666880"/>
            <a:chExt cx="3962160" cy="1676520"/>
          </a:xfrm>
        </p:grpSpPr>
        <p:grpSp>
          <p:nvGrpSpPr>
            <p:cNvPr id="275" name=""/>
            <p:cNvGrpSpPr/>
            <p:nvPr/>
          </p:nvGrpSpPr>
          <p:grpSpPr>
            <a:xfrm>
              <a:off x="685800" y="2666880"/>
              <a:ext cx="3809880" cy="1676520"/>
              <a:chOff x="685800" y="2666880"/>
              <a:chExt cx="3809880" cy="1676520"/>
            </a:xfrm>
          </p:grpSpPr>
          <p:sp>
            <p:nvSpPr>
              <p:cNvPr id="276" name=""/>
              <p:cNvSpPr/>
              <p:nvPr/>
            </p:nvSpPr>
            <p:spPr>
              <a:xfrm>
                <a:off x="685800" y="3031920"/>
                <a:ext cx="3809880" cy="4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if</a:t>
                </a:r>
                <a:r>
                  <a:rPr b="1" lang="en-US" sz="2400" spc="-1" strike="noStrike">
                    <a:solidFill>
                      <a:srgbClr val="00007d"/>
                    </a:solidFill>
                    <a:latin typeface="Arial"/>
                  </a:rPr>
                  <a:t> </a:t>
                </a:r>
                <a:r>
                  <a:rPr b="1" lang="en-US" sz="2600" spc="-1" strike="noStrike">
                    <a:solidFill>
                      <a:srgbClr val="0000ff"/>
                    </a:solidFill>
                    <a:latin typeface="Arial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200" spc="-1" strike="noStrike">
                    <a:solidFill>
                      <a:srgbClr val="00007d"/>
                    </a:solidFill>
                    <a:latin typeface="Arial"/>
                  </a:rPr>
                  <a:t>booleanExpression</a:t>
                </a:r>
                <a:r>
                  <a:rPr b="1" lang="en-US" sz="2400" spc="-1" strike="noStrike">
                    <a:solidFill>
                      <a:srgbClr val="00007d"/>
                    </a:solidFill>
                    <a:latin typeface="Arial"/>
                  </a:rPr>
                  <a:t> </a:t>
                </a:r>
                <a:r>
                  <a:rPr b="1" lang="en-US" sz="2600" spc="-1" strike="noStrike">
                    <a:solidFill>
                      <a:srgbClr val="0000ff"/>
                    </a:solidFill>
                    <a:latin typeface="Arial"/>
                  </a:rPr>
                  <a:t>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85800" y="3611160"/>
                <a:ext cx="3048120" cy="4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200" spc="-1" strike="noStrike">
                    <a:solidFill>
                      <a:srgbClr val="ff0000"/>
                    </a:solidFill>
                    <a:latin typeface="Arial"/>
                  </a:rPr>
                  <a:t>      </a:t>
                </a:r>
                <a:r>
                  <a:rPr b="1" i="1" lang="en-US" sz="2200" spc="-1" strike="noStrike">
                    <a:solidFill>
                      <a:srgbClr val="ff0000"/>
                    </a:solidFill>
                    <a:latin typeface="Arial"/>
                  </a:rPr>
                  <a:t>single statement; 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85800" y="2666880"/>
                <a:ext cx="3429000" cy="167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533520" y="2743200"/>
              <a:ext cx="30456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4343400" y="2666880"/>
            <a:ext cx="4114800" cy="1677240"/>
            <a:chOff x="4343400" y="2666880"/>
            <a:chExt cx="4114800" cy="1677240"/>
          </a:xfrm>
        </p:grpSpPr>
        <p:sp>
          <p:nvSpPr>
            <p:cNvPr id="281" name=""/>
            <p:cNvSpPr/>
            <p:nvPr/>
          </p:nvSpPr>
          <p:spPr>
            <a:xfrm>
              <a:off x="4648320" y="2727360"/>
              <a:ext cx="38098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f</a:t>
              </a:r>
              <a:r>
                <a:rPr b="1" lang="en-US" sz="2400" spc="-1" strike="noStrike">
                  <a:solidFill>
                    <a:srgbClr val="00007d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00ff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7d"/>
                  </a:solidFill>
                  <a:latin typeface="Arial"/>
                </a:rPr>
                <a:t>booleanExpression</a:t>
              </a:r>
              <a:r>
                <a:rPr b="1" lang="en-US" sz="2400" spc="-1" strike="noStrike">
                  <a:solidFill>
                    <a:srgbClr val="00007d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{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029200" y="3214440"/>
              <a:ext cx="281952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     </a:t>
              </a: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statement 1;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724280" y="3885840"/>
              <a:ext cx="2590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}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648320" y="2666880"/>
              <a:ext cx="373356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52880" y="3611160"/>
              <a:ext cx="281952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     </a:t>
              </a: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statement 2;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343400" y="2743200"/>
              <a:ext cx="30492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1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mple if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4920" y="762120"/>
            <a:ext cx="8229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mportant Notes:(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(</a:t>
            </a:r>
            <a:r>
              <a:rPr b="1" lang="ar-SA" sz="2500" spc="-1" strike="noStrike">
                <a:solidFill>
                  <a:srgbClr val="cc0000"/>
                </a:solidFill>
                <a:latin typeface="Arial"/>
              </a:rPr>
              <a:t>ملاحظات هام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1220040"/>
            <a:ext cx="830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357120" indent="-357120">
              <a:buClr>
                <a:srgbClr val="00007d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of common mistake i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dding a semicol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t  the end of an if clause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600200" y="3092400"/>
            <a:ext cx="5867280" cy="488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booleanExpression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676520" y="3558240"/>
            <a:ext cx="594360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(s);  </a:t>
            </a:r>
            <a:r>
              <a:rPr b="1" i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i="1" lang="ar-SA" sz="2300" spc="-1" strike="noStrike">
                <a:solidFill>
                  <a:srgbClr val="4d4d4d"/>
                </a:solidFill>
                <a:latin typeface="Arial"/>
              </a:rPr>
              <a:t>التعليمة المراد تنفيذها بالبرنامج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4114440"/>
            <a:ext cx="5791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" y="1965960"/>
            <a:ext cx="83059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ن أكثر الاخطاء الشائعة التى يقوم بها المبرمجين عند كتابة عبارة الاختيار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هو إضافة العلامة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 بعد كتابة التعبير المنطقى، كما يلى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5486040" y="2895480"/>
            <a:ext cx="167652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600200" y="3504960"/>
            <a:ext cx="5791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4545000"/>
            <a:ext cx="8076960" cy="192132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ُصنف هذا الخطأ من الاخطاء (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Logical errors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: حيث يؤثرعلى تنفيذ عبارة الـ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ذلك 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بتجاهل الشرط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بالعبارة المنطقية وتنفيذ جميع التعليمات التابعة لعبارة الـ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1" i="1" lang="ar-SA" sz="2400" spc="-1" strike="noStrike">
                <a:solidFill>
                  <a:srgbClr val="ff0000"/>
                </a:solidFill>
                <a:latin typeface="Arial"/>
              </a:rPr>
              <a:t>(حتى فى حالة عدم تحقق الشرط)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ما يؤثر فى الحصول على </a:t>
            </a:r>
            <a:r>
              <a:rPr b="1" lang="ar-SA" sz="2400" spc="-1" strike="noStrike" u="sng">
                <a:solidFill>
                  <a:srgbClr val="cc0000"/>
                </a:solidFill>
                <a:uFillTx/>
                <a:latin typeface="Arial"/>
              </a:rPr>
              <a:t>قيم خاطئ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عند التنفي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1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mple if statements                            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62120" y="1295280"/>
            <a:ext cx="777240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مثال(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): اكتب برنامج يقوم بقراءة عدد صحيح من النوع (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byte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) من المستخدم، ثم يقوم البرنامج بتحديد اذا كان هذا العدد </a:t>
            </a:r>
            <a:r>
              <a:rPr b="1" lang="ar-SA" sz="2600" spc="-1" strike="noStrike">
                <a:solidFill>
                  <a:srgbClr val="00007d"/>
                </a:solidFill>
                <a:latin typeface="Arial"/>
              </a:rPr>
              <a:t>زوجى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أو </a:t>
            </a:r>
            <a:r>
              <a:rPr b="1" lang="ar-SA" sz="2600" spc="-1" strike="noStrike">
                <a:solidFill>
                  <a:srgbClr val="00007d"/>
                </a:solidFill>
                <a:latin typeface="Arial"/>
              </a:rPr>
              <a:t>فرد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09480" y="1219320"/>
            <a:ext cx="8077320" cy="1752480"/>
          </a:xfrm>
          <a:prstGeom prst="rect">
            <a:avLst/>
          </a:prstGeom>
          <a:noFill/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3352680"/>
            <a:ext cx="7848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ناتج تنفيذ البرنامج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Enter number: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1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is 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eve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Enter number: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 is  odd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609480" y="762120"/>
            <a:ext cx="8305560" cy="5409720"/>
            <a:chOff x="609480" y="762120"/>
            <a:chExt cx="8305560" cy="5409720"/>
          </a:xfrm>
        </p:grpSpPr>
        <p:sp>
          <p:nvSpPr>
            <p:cNvPr id="302" name=""/>
            <p:cNvSpPr/>
            <p:nvPr/>
          </p:nvSpPr>
          <p:spPr>
            <a:xfrm>
              <a:off x="609480" y="1113120"/>
              <a:ext cx="8305560" cy="50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09480" y="762120"/>
              <a:ext cx="8305560" cy="35100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uess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838080" y="182880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uess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14400" y="236232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066680" y="4038480"/>
            <a:ext cx="693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y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num = scanner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xtByte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1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mple if statements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9480" y="1081440"/>
            <a:ext cx="7620120" cy="76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mpor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java.util.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Scanner 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تحديد مكان وجود الـ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990720" y="2895120"/>
            <a:ext cx="701028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anner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ystem.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990720" y="3429000"/>
            <a:ext cx="731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ln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nter number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:“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66680" y="4724280"/>
            <a:ext cx="6934320" cy="838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 num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%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==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      </a:t>
            </a:r>
            <a:r>
              <a:rPr b="1" i="1" lang="en-US" sz="2300" spc="-1" strike="noStrike">
                <a:solidFill>
                  <a:srgbClr val="4d4d4d"/>
                </a:solidFill>
                <a:latin typeface="Arial"/>
              </a:rPr>
              <a:t>// </a:t>
            </a:r>
            <a:r>
              <a:rPr b="1" i="1" lang="ar-SA" sz="2300" spc="-1" strike="noStrike">
                <a:solidFill>
                  <a:srgbClr val="4d4d4d"/>
                </a:solidFill>
                <a:latin typeface="Arial"/>
              </a:rPr>
              <a:t>اختبار اذا كان العدد زوجى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95280" y="5334120"/>
            <a:ext cx="6705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rintln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um +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 is  even”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90720" y="4648320"/>
            <a:ext cx="7467480" cy="121896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533520" y="1193760"/>
            <a:ext cx="8305560" cy="292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990720"/>
            <a:ext cx="8305560" cy="3808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ess.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1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mple if statements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914400" y="1600200"/>
            <a:ext cx="6934320" cy="838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 num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%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!=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      </a:t>
            </a:r>
            <a:r>
              <a:rPr b="1" i="1" lang="en-US" sz="2300" spc="-1" strike="noStrike">
                <a:solidFill>
                  <a:srgbClr val="4d4d4d"/>
                </a:solidFill>
                <a:latin typeface="Arial"/>
              </a:rPr>
              <a:t>// </a:t>
            </a:r>
            <a:r>
              <a:rPr b="1" i="1" lang="ar-SA" sz="2300" spc="-1" strike="noStrike">
                <a:solidFill>
                  <a:srgbClr val="4d4d4d"/>
                </a:solidFill>
                <a:latin typeface="Arial"/>
              </a:rPr>
              <a:t>اختبار اذا كان العدد فردى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143000" y="2209680"/>
            <a:ext cx="6705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rintln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um +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 is  odd”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38080" y="1523880"/>
            <a:ext cx="7467840" cy="121932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297180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} </a:t>
            </a:r>
            <a:r>
              <a:rPr b="1" i="1" lang="en-US" sz="2400" spc="-1" strike="noStrike">
                <a:solidFill>
                  <a:srgbClr val="4d4d4d"/>
                </a:solidFill>
                <a:latin typeface="Arial"/>
              </a:rPr>
              <a:t>// end of m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480" y="350532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4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f Statements                    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عليمات الاختيار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" y="17524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ctions that an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f ... el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tement specifies differ based on whether the condition is true or fals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04920" y="108108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3.3.2. if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.. </a:t>
            </a: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else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statements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19520"/>
            <a:ext cx="8458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تعليمة الاختيار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f .. else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تقوم بتنفيذ الشرط (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العبارة المنطقية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 وفقاً للقيمة المنطقية التى يتم التحصل عليها سواءً كانت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true</a:t>
            </a:r>
            <a:r>
              <a:rPr b="1" lang="ar-SA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أو</a:t>
            </a:r>
            <a:r>
              <a:rPr b="1" lang="ar-SA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2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f .. else Statements                    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عليمات الاختيار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" y="99072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 syntax for a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if .. else stateme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i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2133720"/>
            <a:ext cx="609480" cy="488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600200" y="2133720"/>
            <a:ext cx="3733920" cy="473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booleanExpression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800600" y="2133360"/>
            <a:ext cx="213372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295280" y="2437920"/>
            <a:ext cx="762012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(s);</a:t>
            </a:r>
            <a:r>
              <a:rPr b="1" i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i="1" lang="en-US" sz="2300" spc="-1" strike="noStrike">
                <a:solidFill>
                  <a:srgbClr val="0000ff"/>
                </a:solidFill>
                <a:latin typeface="Arial"/>
              </a:rPr>
              <a:t>true</a:t>
            </a:r>
            <a:r>
              <a:rPr b="1" i="1" lang="en-US" sz="23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i="1" lang="ar-SA" sz="2000" spc="-1" strike="noStrike">
                <a:solidFill>
                  <a:srgbClr val="4d4d4d"/>
                </a:solidFill>
                <a:latin typeface="Arial"/>
              </a:rPr>
              <a:t>التعليمات التى سيتم تنفيذها فى حالة تنفيذ الشرط بالقيم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219320" y="3123720"/>
            <a:ext cx="579096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380880" y="1600200"/>
            <a:ext cx="2057400" cy="702360"/>
            <a:chOff x="380880" y="1600200"/>
            <a:chExt cx="2057400" cy="702360"/>
          </a:xfrm>
        </p:grpSpPr>
        <p:sp>
          <p:nvSpPr>
            <p:cNvPr id="334" name=""/>
            <p:cNvSpPr/>
            <p:nvPr/>
          </p:nvSpPr>
          <p:spPr>
            <a:xfrm>
              <a:off x="914400" y="1996920"/>
              <a:ext cx="380880" cy="2124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33520" y="1600200"/>
              <a:ext cx="190476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الكلمة المحجوزة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80880" y="1676160"/>
              <a:ext cx="22860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2743200" y="1600200"/>
            <a:ext cx="1600200" cy="702360"/>
            <a:chOff x="2743200" y="1600200"/>
            <a:chExt cx="1600200" cy="702360"/>
          </a:xfrm>
        </p:grpSpPr>
        <p:sp>
          <p:nvSpPr>
            <p:cNvPr id="338" name=""/>
            <p:cNvSpPr/>
            <p:nvPr/>
          </p:nvSpPr>
          <p:spPr>
            <a:xfrm flipH="1">
              <a:off x="3504960" y="1904760"/>
              <a:ext cx="75960" cy="30456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895480" y="1600200"/>
              <a:ext cx="14479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التعبير المنطق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43200" y="1676160"/>
              <a:ext cx="22860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5028840" y="1523880"/>
            <a:ext cx="3200760" cy="838080"/>
            <a:chOff x="5028840" y="1523880"/>
            <a:chExt cx="3200760" cy="838080"/>
          </a:xfrm>
        </p:grpSpPr>
        <p:sp>
          <p:nvSpPr>
            <p:cNvPr id="342" name=""/>
            <p:cNvSpPr/>
            <p:nvPr/>
          </p:nvSpPr>
          <p:spPr>
            <a:xfrm flipH="1">
              <a:off x="5028840" y="1981080"/>
              <a:ext cx="1143000" cy="38088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324480" y="1523880"/>
              <a:ext cx="1905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art if blo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095880" y="1599840"/>
              <a:ext cx="22860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152920" y="1905120"/>
            <a:ext cx="381600" cy="761400"/>
            <a:chOff x="8152920" y="1905120"/>
            <a:chExt cx="381600" cy="761400"/>
          </a:xfrm>
        </p:grpSpPr>
        <p:sp>
          <p:nvSpPr>
            <p:cNvPr id="346" name=""/>
            <p:cNvSpPr/>
            <p:nvPr/>
          </p:nvSpPr>
          <p:spPr>
            <a:xfrm flipH="1">
              <a:off x="8152920" y="2133360"/>
              <a:ext cx="228600" cy="53316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229600" y="19051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1447560" y="3139920"/>
            <a:ext cx="2819520" cy="397440"/>
            <a:chOff x="1447560" y="3139920"/>
            <a:chExt cx="2819520" cy="397440"/>
          </a:xfrm>
        </p:grpSpPr>
        <p:sp>
          <p:nvSpPr>
            <p:cNvPr id="349" name=""/>
            <p:cNvSpPr/>
            <p:nvPr/>
          </p:nvSpPr>
          <p:spPr>
            <a:xfrm flipH="1">
              <a:off x="1447560" y="3368520"/>
              <a:ext cx="60948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62320" y="3139920"/>
              <a:ext cx="1904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nd if blo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133720" y="3216240"/>
              <a:ext cx="22860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143000" y="4130640"/>
            <a:ext cx="914400" cy="473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el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981080" y="4130280"/>
            <a:ext cx="502920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19320" y="4434840"/>
            <a:ext cx="761976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(s);</a:t>
            </a:r>
            <a:r>
              <a:rPr b="1" i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i="1" lang="en-US" sz="2300" spc="-1" strike="noStrike">
                <a:solidFill>
                  <a:srgbClr val="cc0000"/>
                </a:solidFill>
                <a:latin typeface="Arial"/>
              </a:rPr>
              <a:t>false</a:t>
            </a:r>
            <a:r>
              <a:rPr b="1" i="1" lang="ar-SA" sz="2000" spc="-1" strike="noStrike">
                <a:solidFill>
                  <a:srgbClr val="4d4d4d"/>
                </a:solidFill>
                <a:latin typeface="Arial"/>
              </a:rPr>
              <a:t>التعليمات التى سيتم تنفيذها فى حالة تنفيذ الشرط بالقيم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143000" y="5121000"/>
            <a:ext cx="579132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04920" y="3733920"/>
            <a:ext cx="2361960" cy="702360"/>
            <a:chOff x="304920" y="3733920"/>
            <a:chExt cx="2361960" cy="702360"/>
          </a:xfrm>
        </p:grpSpPr>
        <p:sp>
          <p:nvSpPr>
            <p:cNvPr id="357" name=""/>
            <p:cNvSpPr/>
            <p:nvPr/>
          </p:nvSpPr>
          <p:spPr>
            <a:xfrm>
              <a:off x="762120" y="4146840"/>
              <a:ext cx="380880" cy="2124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80880" y="3733920"/>
              <a:ext cx="22860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الكلمة المحجوزة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se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04920" y="3749760"/>
              <a:ext cx="22860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2285640" y="3733920"/>
            <a:ext cx="3810240" cy="701640"/>
            <a:chOff x="2285640" y="3733920"/>
            <a:chExt cx="3810240" cy="701640"/>
          </a:xfrm>
        </p:grpSpPr>
        <p:sp>
          <p:nvSpPr>
            <p:cNvPr id="361" name=""/>
            <p:cNvSpPr/>
            <p:nvPr/>
          </p:nvSpPr>
          <p:spPr>
            <a:xfrm flipH="1">
              <a:off x="2285640" y="4054680"/>
              <a:ext cx="1143000" cy="38088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581280" y="3733920"/>
              <a:ext cx="2514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art </a:t>
              </a:r>
              <a:r>
                <a:rPr b="1" lang="en-US" sz="2000" spc="-1" strike="noStrike">
                  <a:solidFill>
                    <a:srgbClr val="00007d"/>
                  </a:solidFill>
                  <a:latin typeface="Arial"/>
                </a:rPr>
                <a:t>else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blo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52680" y="3826080"/>
              <a:ext cx="22860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7620120" y="3978360"/>
            <a:ext cx="380520" cy="761400"/>
            <a:chOff x="7620120" y="3978360"/>
            <a:chExt cx="380520" cy="761400"/>
          </a:xfrm>
        </p:grpSpPr>
        <p:sp>
          <p:nvSpPr>
            <p:cNvPr id="365" name=""/>
            <p:cNvSpPr/>
            <p:nvPr/>
          </p:nvSpPr>
          <p:spPr>
            <a:xfrm flipH="1">
              <a:off x="7620120" y="4206600"/>
              <a:ext cx="228240" cy="53316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696080" y="3978360"/>
              <a:ext cx="30456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447560" y="5121360"/>
            <a:ext cx="3124440" cy="397440"/>
            <a:chOff x="1447560" y="5121360"/>
            <a:chExt cx="3124440" cy="397440"/>
          </a:xfrm>
        </p:grpSpPr>
        <p:sp>
          <p:nvSpPr>
            <p:cNvPr id="368" name=""/>
            <p:cNvSpPr/>
            <p:nvPr/>
          </p:nvSpPr>
          <p:spPr>
            <a:xfrm flipH="1">
              <a:off x="1447560" y="5349600"/>
              <a:ext cx="60948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362320" y="5121360"/>
              <a:ext cx="2209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nd </a:t>
              </a:r>
              <a:r>
                <a:rPr b="1" lang="en-US" sz="2000" spc="-1" strike="noStrike">
                  <a:solidFill>
                    <a:srgbClr val="00007d"/>
                  </a:solidFill>
                  <a:latin typeface="Arial"/>
                </a:rPr>
                <a:t>else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blo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133720" y="5197320"/>
              <a:ext cx="22860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2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f .. else Statements                    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عليمات الاختيار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28600" y="99072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 execution flow chart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(if ..else</a:t>
            </a:r>
            <a:r>
              <a:rPr b="1" i="1" lang="ar-SA" sz="2500" spc="-1" strike="noStrike">
                <a:solidFill>
                  <a:srgbClr val="00007d"/>
                </a:solidFill>
                <a:latin typeface="Arial"/>
              </a:rPr>
              <a:t>تسلسل تنفيذ تعليمة الاختيار</a:t>
            </a:r>
            <a:r>
              <a:rPr b="0" i="1" lang="ar-SA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352680" y="2590920"/>
            <a:ext cx="2133720" cy="144756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Boole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4343400" y="5334120"/>
            <a:ext cx="304560" cy="761400"/>
            <a:chOff x="4343400" y="5334120"/>
            <a:chExt cx="304560" cy="761400"/>
          </a:xfrm>
        </p:grpSpPr>
        <p:sp>
          <p:nvSpPr>
            <p:cNvPr id="375" name=""/>
            <p:cNvSpPr/>
            <p:nvPr/>
          </p:nvSpPr>
          <p:spPr>
            <a:xfrm>
              <a:off x="4343400" y="5790960"/>
              <a:ext cx="304560" cy="304560"/>
            </a:xfrm>
            <a:prstGeom prst="flowChartConnector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495680" y="533412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4267080" y="1905120"/>
            <a:ext cx="304920" cy="685800"/>
            <a:chOff x="4267080" y="1905120"/>
            <a:chExt cx="304920" cy="685800"/>
          </a:xfrm>
        </p:grpSpPr>
        <p:sp>
          <p:nvSpPr>
            <p:cNvPr id="378" name=""/>
            <p:cNvSpPr/>
            <p:nvPr/>
          </p:nvSpPr>
          <p:spPr>
            <a:xfrm>
              <a:off x="4419720" y="221004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267080" y="1905120"/>
              <a:ext cx="304920" cy="304920"/>
            </a:xfrm>
            <a:prstGeom prst="flowChartConnector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609480" y="4267080"/>
            <a:ext cx="3505320" cy="533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7d"/>
                </a:solidFill>
                <a:latin typeface="Arial"/>
              </a:rPr>
              <a:t>Statement(s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) 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</a:rPr>
              <a:t>for tru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349960" y="2971800"/>
            <a:ext cx="1736640" cy="1295280"/>
            <a:chOff x="5349960" y="2971800"/>
            <a:chExt cx="1736640" cy="1295280"/>
          </a:xfrm>
        </p:grpSpPr>
        <p:sp>
          <p:nvSpPr>
            <p:cNvPr id="382" name=""/>
            <p:cNvSpPr/>
            <p:nvPr/>
          </p:nvSpPr>
          <p:spPr>
            <a:xfrm>
              <a:off x="5486400" y="3352680"/>
              <a:ext cx="159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086600" y="3352680"/>
              <a:ext cx="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349960" y="2971800"/>
              <a:ext cx="13554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cc0000"/>
                  </a:solidFill>
                  <a:latin typeface="Arial"/>
                </a:rPr>
                <a:t>fals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838080" y="1752480"/>
            <a:ext cx="2819160" cy="1295640"/>
            <a:chOff x="838080" y="1752480"/>
            <a:chExt cx="2819160" cy="1295640"/>
          </a:xfrm>
        </p:grpSpPr>
        <p:grpSp>
          <p:nvGrpSpPr>
            <p:cNvPr id="386" name=""/>
            <p:cNvGrpSpPr/>
            <p:nvPr/>
          </p:nvGrpSpPr>
          <p:grpSpPr>
            <a:xfrm>
              <a:off x="838080" y="1752480"/>
              <a:ext cx="2438280" cy="1242360"/>
              <a:chOff x="838080" y="1752480"/>
              <a:chExt cx="2438280" cy="1242360"/>
            </a:xfrm>
          </p:grpSpPr>
          <p:sp>
            <p:nvSpPr>
              <p:cNvPr id="387" name=""/>
              <p:cNvSpPr/>
              <p:nvPr/>
            </p:nvSpPr>
            <p:spPr>
              <a:xfrm>
                <a:off x="914040" y="1752480"/>
                <a:ext cx="2286000" cy="1067040"/>
              </a:xfrm>
              <a:prstGeom prst="flowChartDocumen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838080" y="1828800"/>
                <a:ext cx="2438280" cy="116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7d"/>
                    </a:solidFill>
                    <a:latin typeface="Arial"/>
                  </a:rPr>
                  <a:t>اختبار قيمة التعبير المنطقى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true</a:t>
                </a:r>
                <a:r>
                  <a:rPr b="1" lang="en-US" sz="2000" spc="-1" strike="noStrike">
                    <a:solidFill>
                      <a:srgbClr val="00007d"/>
                    </a:solidFill>
                    <a:latin typeface="Arial"/>
                  </a:rPr>
                  <a:t> or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fals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>
              <a:off x="3124080" y="2362320"/>
              <a:ext cx="533160" cy="6858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1981080" y="2895480"/>
            <a:ext cx="1371600" cy="1371600"/>
            <a:chOff x="1981080" y="2895480"/>
            <a:chExt cx="1371600" cy="1371600"/>
          </a:xfrm>
        </p:grpSpPr>
        <p:sp>
          <p:nvSpPr>
            <p:cNvPr id="391" name=""/>
            <p:cNvSpPr/>
            <p:nvPr/>
          </p:nvSpPr>
          <p:spPr>
            <a:xfrm flipV="1">
              <a:off x="1981080" y="3276360"/>
              <a:ext cx="0" cy="99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981080" y="3276360"/>
              <a:ext cx="1371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209680" y="2895480"/>
              <a:ext cx="9144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ff"/>
                  </a:solidFill>
                  <a:latin typeface="Arial"/>
                </a:rPr>
                <a:t>tru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5181480" y="4267080"/>
            <a:ext cx="3657600" cy="533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7d"/>
                </a:solidFill>
                <a:latin typeface="Arial"/>
              </a:rPr>
              <a:t>Statement(s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) for false cas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4647960" y="4800600"/>
            <a:ext cx="2438640" cy="380880"/>
            <a:chOff x="4647960" y="4800600"/>
            <a:chExt cx="2438640" cy="380880"/>
          </a:xfrm>
        </p:grpSpPr>
        <p:sp>
          <p:nvSpPr>
            <p:cNvPr id="396" name=""/>
            <p:cNvSpPr/>
            <p:nvPr/>
          </p:nvSpPr>
          <p:spPr>
            <a:xfrm flipH="1">
              <a:off x="4647960" y="5181480"/>
              <a:ext cx="2438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086600" y="48006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1981080" y="4800600"/>
            <a:ext cx="2666880" cy="533160"/>
            <a:chOff x="1981080" y="4800600"/>
            <a:chExt cx="2666880" cy="533160"/>
          </a:xfrm>
        </p:grpSpPr>
        <p:sp>
          <p:nvSpPr>
            <p:cNvPr id="399" name=""/>
            <p:cNvSpPr/>
            <p:nvPr/>
          </p:nvSpPr>
          <p:spPr>
            <a:xfrm>
              <a:off x="4343400" y="5029200"/>
              <a:ext cx="304560" cy="304560"/>
            </a:xfrm>
            <a:prstGeom prst="flowChartConnector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81080" y="5181480"/>
              <a:ext cx="2362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981080" y="48006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1523880" y="3200400"/>
            <a:ext cx="38124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162920" y="327672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2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.. else statements                            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2120" y="1295280"/>
            <a:ext cx="777240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مثال(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): اكتب برنامج يقوم بقراءة عدد صحيح من النوع (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byte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) من المستخدم، ثم يقوم البرنامج بتحديد اذا كان هذا العدد زوجى أو فردى، قم بتعديل البرنامج واستخدام عبارة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if .. else stat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480" y="1219320"/>
            <a:ext cx="8077320" cy="1752480"/>
          </a:xfrm>
          <a:prstGeom prst="rect">
            <a:avLst/>
          </a:prstGeom>
          <a:noFill/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85800" y="3352680"/>
            <a:ext cx="7848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ناتج تنفيذ البرنامج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Enter number: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is 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od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election Statements                    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عليمات الاختيار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9907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Java has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several type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of selection statements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6002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simple if statement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2209680"/>
            <a:ext cx="3809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f ... else statement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2819520"/>
            <a:ext cx="3886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nested if statement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3429000"/>
            <a:ext cx="419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switch statement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4038480"/>
            <a:ext cx="480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conditional expression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"/>
          <p:cNvGrpSpPr/>
          <p:nvPr/>
        </p:nvGrpSpPr>
        <p:grpSpPr>
          <a:xfrm>
            <a:off x="609480" y="762120"/>
            <a:ext cx="8305560" cy="5943240"/>
            <a:chOff x="609480" y="762120"/>
            <a:chExt cx="8305560" cy="5943240"/>
          </a:xfrm>
        </p:grpSpPr>
        <p:sp>
          <p:nvSpPr>
            <p:cNvPr id="409" name=""/>
            <p:cNvSpPr/>
            <p:nvPr/>
          </p:nvSpPr>
          <p:spPr>
            <a:xfrm>
              <a:off x="609480" y="1147680"/>
              <a:ext cx="8305560" cy="555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09480" y="762120"/>
              <a:ext cx="8305560" cy="3855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uess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838080" y="160020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uess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914400" y="205740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990720" y="3429000"/>
            <a:ext cx="693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y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num = scanner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xtByte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2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.. else statement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09480" y="1051560"/>
            <a:ext cx="7620120" cy="76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mpor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java.util.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Scanner 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تحديد مكان وجود الـ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990720" y="2514240"/>
            <a:ext cx="701028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anner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ystem.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90720" y="2971800"/>
            <a:ext cx="731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ln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nter number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:“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066680" y="3962520"/>
            <a:ext cx="6934320" cy="838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 num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%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==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      </a:t>
            </a:r>
            <a:r>
              <a:rPr b="1" i="1" lang="en-US" sz="2300" spc="-1" strike="noStrike">
                <a:solidFill>
                  <a:srgbClr val="4d4d4d"/>
                </a:solidFill>
                <a:latin typeface="Arial"/>
              </a:rPr>
              <a:t>// </a:t>
            </a:r>
            <a:r>
              <a:rPr b="1" i="1" lang="ar-SA" sz="2300" spc="-1" strike="noStrike">
                <a:solidFill>
                  <a:srgbClr val="4d4d4d"/>
                </a:solidFill>
                <a:latin typeface="Arial"/>
              </a:rPr>
              <a:t>فى حالة أن العدد زوجى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295280" y="4419720"/>
            <a:ext cx="6705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rintln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um +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 is  even”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990720" y="3886200"/>
            <a:ext cx="7467480" cy="205740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066680" y="4952880"/>
            <a:ext cx="6934320" cy="473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300" spc="-1" strike="noStrike">
                <a:solidFill>
                  <a:srgbClr val="4d4d4d"/>
                </a:solidFill>
                <a:latin typeface="Arial"/>
              </a:rPr>
              <a:t>// </a:t>
            </a:r>
            <a:r>
              <a:rPr b="1" i="1" lang="ar-SA" sz="2300" spc="-1" strike="noStrike">
                <a:solidFill>
                  <a:srgbClr val="4d4d4d"/>
                </a:solidFill>
                <a:latin typeface="Arial"/>
              </a:rPr>
              <a:t>فى حالة أن العدد فردى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371600" y="5410080"/>
            <a:ext cx="6705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rintln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um +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 is  odd”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38080" y="594360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ain</a:t>
            </a:r>
            <a:r>
              <a:rPr b="1" i="1" lang="en-US" sz="23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633888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9480" y="762120"/>
            <a:ext cx="8077320" cy="3047760"/>
          </a:xfrm>
          <a:prstGeom prst="rect">
            <a:avLst/>
          </a:prstGeom>
          <a:noFill/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2120" y="3962520"/>
            <a:ext cx="78483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ناتج تنفيذ البرنامج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Enter a year: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2008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is a Leap year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62120" y="83808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مثال(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): اكتب برنامج يقوم بقراءة عدد صحيح من النوع (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integer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) من المستخدم يمثل </a:t>
            </a:r>
            <a:r>
              <a:rPr b="1" lang="ar-SA" sz="2600" spc="-1" strike="noStrike">
                <a:solidFill>
                  <a:srgbClr val="ff0000"/>
                </a:solidFill>
                <a:latin typeface="Arial"/>
              </a:rPr>
              <a:t>السنة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، يقوم البرنامج بإختبار السنة وتحديد اذا كانت كبيسة أم لا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1371600" y="2088360"/>
            <a:ext cx="6705720" cy="1514520"/>
            <a:chOff x="1371600" y="2088360"/>
            <a:chExt cx="6705720" cy="1514520"/>
          </a:xfrm>
        </p:grpSpPr>
        <p:sp>
          <p:nvSpPr>
            <p:cNvPr id="430" name=""/>
            <p:cNvSpPr/>
            <p:nvPr/>
          </p:nvSpPr>
          <p:spPr>
            <a:xfrm>
              <a:off x="1371600" y="2088360"/>
              <a:ext cx="6705720" cy="8845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600" spc="-1" strike="noStrike">
                  <a:solidFill>
                    <a:srgbClr val="ffffff"/>
                  </a:solidFill>
                  <a:latin typeface="Arial"/>
                  <a:cs typeface="Traditional Arabic"/>
                </a:rPr>
                <a:t>يتم حساب السنة الكبيسة بتحقق الشرط الآتي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371600" y="2778840"/>
              <a:ext cx="670572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7d"/>
                  </a:solidFill>
                  <a:latin typeface="Arial"/>
                </a:rPr>
                <a:t> اذا كانت السنة المدخلة تقبل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القسمة على العدد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ar-SA" sz="2400" spc="-1" strike="noStrike">
                  <a:solidFill>
                    <a:srgbClr val="00007d"/>
                  </a:solidFill>
                  <a:latin typeface="Arial"/>
                </a:rPr>
                <a:t> ولا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تقبل القسمة على العدد</a:t>
              </a:r>
              <a:r>
                <a:rPr b="1" lang="ar-SA" sz="2400" spc="-1" strike="noStrike">
                  <a:solidFill>
                    <a:srgbClr val="00007d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7d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914400" y="5257800"/>
            <a:ext cx="7848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Enter a year: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2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is not a Leap year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"/>
          <p:cNvGrpSpPr/>
          <p:nvPr/>
        </p:nvGrpSpPr>
        <p:grpSpPr>
          <a:xfrm>
            <a:off x="609480" y="762120"/>
            <a:ext cx="8305560" cy="5943240"/>
            <a:chOff x="609480" y="762120"/>
            <a:chExt cx="8305560" cy="5943240"/>
          </a:xfrm>
        </p:grpSpPr>
        <p:sp>
          <p:nvSpPr>
            <p:cNvPr id="434" name=""/>
            <p:cNvSpPr/>
            <p:nvPr/>
          </p:nvSpPr>
          <p:spPr>
            <a:xfrm>
              <a:off x="609480" y="1147680"/>
              <a:ext cx="8305560" cy="555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09480" y="762120"/>
              <a:ext cx="8305560" cy="3855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eapYear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838080" y="152388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LeapYear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914400" y="198108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990720" y="3352680"/>
            <a:ext cx="693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year = scanner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xtInt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975240"/>
            <a:ext cx="7620120" cy="76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mpor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java.util.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Scanner 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تحديد مكان وجود الـ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990720" y="2437920"/>
            <a:ext cx="701028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anner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ystem.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990720" y="2895480"/>
            <a:ext cx="731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ln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nter a year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:“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066680" y="3962520"/>
            <a:ext cx="6934320" cy="442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year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%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==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 &amp;&amp; 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year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%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10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!=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990720" y="4876920"/>
            <a:ext cx="69339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e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447920" y="4510080"/>
            <a:ext cx="69339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.out.println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year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+”is a Leap Year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i="1" lang="en-US" sz="2500" spc="-1" strike="noStrike">
                <a:solidFill>
                  <a:srgbClr val="ffffff"/>
                </a:solidFill>
                <a:latin typeface="Arial"/>
              </a:rPr>
              <a:t>Leap Year</a:t>
            </a:r>
            <a:r>
              <a:rPr b="1" i="1" lang="ar-SA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5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25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i="1" lang="ar-SA" sz="25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523880" y="5334120"/>
            <a:ext cx="69343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.out.println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year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+”not a Leap Year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38080" y="586728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ain</a:t>
            </a:r>
            <a:r>
              <a:rPr b="1" i="1" lang="en-US" sz="23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85800" y="626256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990720" y="3886200"/>
            <a:ext cx="7315200" cy="19810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09480" y="762120"/>
            <a:ext cx="8077320" cy="2133360"/>
          </a:xfrm>
          <a:prstGeom prst="rect">
            <a:avLst/>
          </a:prstGeom>
          <a:noFill/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62120" y="3200400"/>
            <a:ext cx="784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ناتج تنفيذ البرنامج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Guess number: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26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correct number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621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مثال(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اكتب برنامج يقوم بقراءة عدد صحيح من النوع 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byte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 من المستخدم، يقوم البرنامج بإختبار ما اذا كان العدد محصور فى المدى من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، فى حالة ادخال عدد صحيح يتم طباعة الرسالة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correct number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“ وفى حالة ادخال قيمة خاطئة يتم طباعة الرسالة ”</a:t>
            </a: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wrong number, try again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914400" y="4648320"/>
            <a:ext cx="7848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Guess number: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30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cc0000"/>
                </a:solidFill>
                <a:latin typeface="Arial"/>
              </a:rPr>
              <a:t>wrong number, try agai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"/>
          <p:cNvGrpSpPr/>
          <p:nvPr/>
        </p:nvGrpSpPr>
        <p:grpSpPr>
          <a:xfrm>
            <a:off x="609480" y="762120"/>
            <a:ext cx="8305560" cy="5943240"/>
            <a:chOff x="609480" y="762120"/>
            <a:chExt cx="8305560" cy="5943240"/>
          </a:xfrm>
        </p:grpSpPr>
        <p:sp>
          <p:nvSpPr>
            <p:cNvPr id="456" name=""/>
            <p:cNvSpPr/>
            <p:nvPr/>
          </p:nvSpPr>
          <p:spPr>
            <a:xfrm>
              <a:off x="609480" y="1147680"/>
              <a:ext cx="8305560" cy="555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09480" y="762120"/>
              <a:ext cx="8305560" cy="3855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uess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838080" y="152388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uess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914400" y="198108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990720" y="3352680"/>
            <a:ext cx="693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y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num = scanner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xtByte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09480" y="975240"/>
            <a:ext cx="7620120" cy="76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mpor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java.util.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Scanner 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تحديد مكان وجود الـ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990720" y="2437920"/>
            <a:ext cx="701028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anner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ystem.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990720" y="2895480"/>
            <a:ext cx="731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ln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Guess number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:“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066680" y="3962520"/>
            <a:ext cx="693432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nu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=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 &amp;&amp; 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nu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=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5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990720" y="4876920"/>
            <a:ext cx="69339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e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447920" y="4510080"/>
            <a:ext cx="69339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.out.println( ”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correct number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i="1" lang="en-US" sz="2500" spc="-1" strike="noStrike">
                <a:solidFill>
                  <a:srgbClr val="ffffff"/>
                </a:solidFill>
                <a:latin typeface="Arial"/>
              </a:rPr>
              <a:t>Guess Number from (0 -- 10)   </a:t>
            </a:r>
            <a:r>
              <a:rPr b="1" lang="ar-SA" sz="25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5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25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i="1" lang="ar-SA" sz="25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523880" y="5334120"/>
            <a:ext cx="693432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.out.println( ”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wrong number, try agai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38080" y="586728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ain</a:t>
            </a:r>
            <a:r>
              <a:rPr b="1" i="1" lang="en-US" sz="23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85800" y="626256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990720" y="3886200"/>
            <a:ext cx="7315200" cy="19810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380880" y="914400"/>
            <a:ext cx="8458200" cy="1447920"/>
          </a:xfrm>
          <a:prstGeom prst="rect">
            <a:avLst/>
          </a:prstGeom>
          <a:noFill/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62120" y="2514600"/>
            <a:ext cx="78483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بحيث يكون تنفيذ البرنامج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ter first number: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ter second number: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The max number is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3352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كتب برنامج يقوم بقراءة عددين صحيحين من النوع (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byte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) من المستخدم، يقوم البرنامج بمقارنة العددين وطباعة العدد الأكبر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lass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0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80880" y="533520"/>
            <a:ext cx="8534520" cy="609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ontents:</a:t>
            </a:r>
            <a:r>
              <a:rPr b="1" lang="ar-SA" sz="3400" spc="-1" strike="noStrike">
                <a:solidFill>
                  <a:srgbClr val="ffffff"/>
                </a:solidFill>
                <a:latin typeface="Arial"/>
              </a:rPr>
              <a:t>محتويات المحاضرة</a:t>
            </a:r>
            <a:r>
              <a:rPr b="1" lang="ar-SA" sz="3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295280"/>
            <a:ext cx="5791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3.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if  Stat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2057400"/>
            <a:ext cx="4724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3.3.1.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mple if statemen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68128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3.3.2.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if ... else statemen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329076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3.3.3.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nested if statements</a:t>
            </a: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4038480"/>
            <a:ext cx="41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Example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f Statements                    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عليمات الاختيار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1447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imple if statement executes an action if and only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f the condition is tr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928800"/>
            <a:ext cx="4724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3.3.1.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mple if statements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23623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تعليمة الاختيار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f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تقوم بتنفيذ الشرط الموجود بالبرنامج(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العبارة المنطقي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 اذا كانت قيمتة المنطقية </a:t>
            </a:r>
            <a:r>
              <a:rPr b="1" lang="ar-SA" sz="2300" spc="-1" strike="noStrike">
                <a:solidFill>
                  <a:srgbClr val="cc0000"/>
                </a:solidFill>
                <a:latin typeface="Arial"/>
              </a:rPr>
              <a:t>(فقط)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3200400"/>
            <a:ext cx="701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 syntax for a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simple if stateme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i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3880" y="4648320"/>
            <a:ext cx="609840" cy="488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4648320"/>
            <a:ext cx="3733560" cy="473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booleanExpression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05520" y="4647960"/>
            <a:ext cx="213336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5082120"/>
            <a:ext cx="594360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(s);  </a:t>
            </a:r>
            <a:r>
              <a:rPr b="1" i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i="1" lang="ar-SA" sz="2300" spc="-1" strike="noStrike">
                <a:solidFill>
                  <a:srgbClr val="4d4d4d"/>
                </a:solidFill>
                <a:latin typeface="Arial"/>
              </a:rPr>
              <a:t>التعليمة المراد تنفيذها بالبرنامج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5790960"/>
            <a:ext cx="579132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80880" y="3718080"/>
            <a:ext cx="2057400" cy="1006200"/>
            <a:chOff x="380880" y="3718080"/>
            <a:chExt cx="2057400" cy="1006200"/>
          </a:xfrm>
        </p:grpSpPr>
        <p:sp>
          <p:nvSpPr>
            <p:cNvPr id="128" name=""/>
            <p:cNvSpPr/>
            <p:nvPr/>
          </p:nvSpPr>
          <p:spPr>
            <a:xfrm>
              <a:off x="914400" y="4114800"/>
              <a:ext cx="761760" cy="60948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3160" y="3718080"/>
              <a:ext cx="19051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الكلمة المحجوزة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80880" y="3794040"/>
              <a:ext cx="22860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743200" y="3809880"/>
            <a:ext cx="1600200" cy="838080"/>
            <a:chOff x="2743200" y="3809880"/>
            <a:chExt cx="1600200" cy="838080"/>
          </a:xfrm>
        </p:grpSpPr>
        <p:sp>
          <p:nvSpPr>
            <p:cNvPr id="132" name=""/>
            <p:cNvSpPr/>
            <p:nvPr/>
          </p:nvSpPr>
          <p:spPr>
            <a:xfrm>
              <a:off x="3581640" y="4190760"/>
              <a:ext cx="0" cy="4572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95840" y="3809880"/>
              <a:ext cx="144756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التعبير المنطق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43200" y="3885840"/>
              <a:ext cx="22860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410080" y="3733920"/>
            <a:ext cx="2286000" cy="1066680"/>
            <a:chOff x="5410080" y="3733920"/>
            <a:chExt cx="2286000" cy="1066680"/>
          </a:xfrm>
        </p:grpSpPr>
        <p:sp>
          <p:nvSpPr>
            <p:cNvPr id="136" name=""/>
            <p:cNvSpPr/>
            <p:nvPr/>
          </p:nvSpPr>
          <p:spPr>
            <a:xfrm flipH="1">
              <a:off x="5410080" y="4114800"/>
              <a:ext cx="380880" cy="6858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790960" y="3733920"/>
              <a:ext cx="1905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art if blo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62360" y="3809880"/>
              <a:ext cx="22860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7391520" y="5334120"/>
            <a:ext cx="838080" cy="304560"/>
            <a:chOff x="7391520" y="5334120"/>
            <a:chExt cx="838080" cy="304560"/>
          </a:xfrm>
        </p:grpSpPr>
        <p:sp>
          <p:nvSpPr>
            <p:cNvPr id="140" name=""/>
            <p:cNvSpPr/>
            <p:nvPr/>
          </p:nvSpPr>
          <p:spPr>
            <a:xfrm flipH="1">
              <a:off x="7391520" y="5486400"/>
              <a:ext cx="45720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24680" y="53341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752120" y="6095880"/>
            <a:ext cx="2972160" cy="397440"/>
            <a:chOff x="1752120" y="6095880"/>
            <a:chExt cx="2972160" cy="397440"/>
          </a:xfrm>
        </p:grpSpPr>
        <p:sp>
          <p:nvSpPr>
            <p:cNvPr id="143" name=""/>
            <p:cNvSpPr/>
            <p:nvPr/>
          </p:nvSpPr>
          <p:spPr>
            <a:xfrm flipH="1" flipV="1">
              <a:off x="1752120" y="6095880"/>
              <a:ext cx="685800" cy="1526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19520" y="6095880"/>
              <a:ext cx="1904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nd if blo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590920" y="6172200"/>
              <a:ext cx="22860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1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mple if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10666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 execution flow chart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(if </a:t>
            </a:r>
            <a:r>
              <a:rPr b="1" i="1" lang="ar-SA" sz="2500" spc="-1" strike="noStrike">
                <a:solidFill>
                  <a:srgbClr val="00007d"/>
                </a:solidFill>
                <a:latin typeface="Arial"/>
              </a:rPr>
              <a:t>تسلسل تنفيذ تعليمة الاختيار</a:t>
            </a:r>
            <a:r>
              <a:rPr b="0" i="1" lang="ar-SA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2666880"/>
            <a:ext cx="2133720" cy="144792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Boole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038480" y="5105520"/>
            <a:ext cx="304920" cy="914400"/>
            <a:chOff x="4038480" y="5105520"/>
            <a:chExt cx="304920" cy="914400"/>
          </a:xfrm>
        </p:grpSpPr>
        <p:sp>
          <p:nvSpPr>
            <p:cNvPr id="150" name=""/>
            <p:cNvSpPr/>
            <p:nvPr/>
          </p:nvSpPr>
          <p:spPr>
            <a:xfrm>
              <a:off x="4038480" y="5715360"/>
              <a:ext cx="304920" cy="304560"/>
            </a:xfrm>
            <a:prstGeom prst="flowChartConnector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91120" y="510552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4038480" y="1981080"/>
            <a:ext cx="304920" cy="685800"/>
            <a:chOff x="4038480" y="1981080"/>
            <a:chExt cx="304920" cy="685800"/>
          </a:xfrm>
        </p:grpSpPr>
        <p:sp>
          <p:nvSpPr>
            <p:cNvPr id="153" name=""/>
            <p:cNvSpPr/>
            <p:nvPr/>
          </p:nvSpPr>
          <p:spPr>
            <a:xfrm>
              <a:off x="4191120" y="22860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38480" y="1981080"/>
              <a:ext cx="304920" cy="304920"/>
            </a:xfrm>
            <a:prstGeom prst="flowChartConnector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895480" y="4038480"/>
            <a:ext cx="2743200" cy="1066680"/>
            <a:chOff x="2895480" y="4038480"/>
            <a:chExt cx="2743200" cy="1066680"/>
          </a:xfrm>
        </p:grpSpPr>
        <p:sp>
          <p:nvSpPr>
            <p:cNvPr id="156" name=""/>
            <p:cNvSpPr/>
            <p:nvPr/>
          </p:nvSpPr>
          <p:spPr>
            <a:xfrm>
              <a:off x="4191120" y="41148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895480" y="4572000"/>
              <a:ext cx="2743200" cy="533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7d"/>
                  </a:solidFill>
                  <a:latin typeface="Arial"/>
                </a:rPr>
                <a:t>Statement(s</a:t>
              </a:r>
              <a:r>
                <a:rPr b="1" i="1" lang="en-US" sz="2300" spc="-1" strike="noStrike">
                  <a:solidFill>
                    <a:srgbClr val="00007d"/>
                  </a:solidFill>
                  <a:latin typeface="Arial"/>
                </a:rPr>
                <a:t>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76720" y="4038480"/>
              <a:ext cx="7617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ff"/>
                  </a:solidFill>
                  <a:latin typeface="Arial"/>
                </a:rPr>
                <a:t>tru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191120" y="3048120"/>
            <a:ext cx="2209680" cy="2361600"/>
            <a:chOff x="4191120" y="3048120"/>
            <a:chExt cx="2209680" cy="2361600"/>
          </a:xfrm>
        </p:grpSpPr>
        <p:grpSp>
          <p:nvGrpSpPr>
            <p:cNvPr id="160" name=""/>
            <p:cNvGrpSpPr/>
            <p:nvPr/>
          </p:nvGrpSpPr>
          <p:grpSpPr>
            <a:xfrm>
              <a:off x="4191120" y="3429000"/>
              <a:ext cx="2209680" cy="1980720"/>
              <a:chOff x="4191120" y="3429000"/>
              <a:chExt cx="2209680" cy="1980720"/>
            </a:xfrm>
          </p:grpSpPr>
          <p:sp>
            <p:nvSpPr>
              <p:cNvPr id="161" name=""/>
              <p:cNvSpPr/>
              <p:nvPr/>
            </p:nvSpPr>
            <p:spPr>
              <a:xfrm>
                <a:off x="5257800" y="3429000"/>
                <a:ext cx="1143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400800" y="3429000"/>
                <a:ext cx="0" cy="1980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4191120" y="5409720"/>
                <a:ext cx="2209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5410080" y="3048120"/>
              <a:ext cx="9144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cc0000"/>
                  </a:solidFill>
                  <a:latin typeface="Arial"/>
                </a:rPr>
                <a:t>fals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304920" y="1905120"/>
            <a:ext cx="2819160" cy="1294920"/>
            <a:chOff x="304920" y="1905120"/>
            <a:chExt cx="2819160" cy="1294920"/>
          </a:xfrm>
        </p:grpSpPr>
        <p:grpSp>
          <p:nvGrpSpPr>
            <p:cNvPr id="166" name=""/>
            <p:cNvGrpSpPr/>
            <p:nvPr/>
          </p:nvGrpSpPr>
          <p:grpSpPr>
            <a:xfrm>
              <a:off x="304920" y="1905120"/>
              <a:ext cx="2438280" cy="1242000"/>
              <a:chOff x="304920" y="1905120"/>
              <a:chExt cx="2438280" cy="1242000"/>
            </a:xfrm>
          </p:grpSpPr>
          <p:sp>
            <p:nvSpPr>
              <p:cNvPr id="167" name=""/>
              <p:cNvSpPr/>
              <p:nvPr/>
            </p:nvSpPr>
            <p:spPr>
              <a:xfrm>
                <a:off x="380880" y="1905120"/>
                <a:ext cx="2286000" cy="1066680"/>
              </a:xfrm>
              <a:prstGeom prst="flowChartDocumen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04920" y="1981080"/>
                <a:ext cx="2438280" cy="116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7d"/>
                    </a:solidFill>
                    <a:latin typeface="Arial"/>
                  </a:rPr>
                  <a:t>اختبار قيمة التعبير المنطقى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true</a:t>
                </a:r>
                <a:r>
                  <a:rPr b="1" lang="en-US" sz="2000" spc="-1" strike="noStrike">
                    <a:solidFill>
                      <a:srgbClr val="00007d"/>
                    </a:solidFill>
                    <a:latin typeface="Arial"/>
                  </a:rPr>
                  <a:t> or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fals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2590920" y="2514600"/>
              <a:ext cx="533160" cy="685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80880" y="4191120"/>
            <a:ext cx="2286000" cy="222696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ذا كان ناتج تنفيذ التعبير المنطقى بالقيمة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true</a:t>
            </a:r>
            <a:r>
              <a:rPr b="1" lang="ar-SA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تم تنفيذ التعليمات التابعة لعبارة الـ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المحصورة بين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629400" y="2793960"/>
            <a:ext cx="2286000" cy="161712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ذا كان ناتج تنفيذ التعبير المنطقى بالقيمة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lse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يتم انهاء تنفيذ البرنام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1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mple if statements                          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1295280"/>
            <a:ext cx="777240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مثال(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): اكتب برنامج يقوم بقراءة قيمة نصف قطر الدائرة من المستخدم ومن ثم يقوم البرنامج بحساب مساحة الدائرة فى حالة أن نصف القطر أكبر من الصفر (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) وفقا للقانون الآتى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1219320"/>
            <a:ext cx="8077320" cy="2209680"/>
          </a:xfrm>
          <a:prstGeom prst="rect">
            <a:avLst/>
          </a:prstGeom>
          <a:noFill/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057400" y="2743200"/>
            <a:ext cx="495288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rea  =  PI  </a:t>
            </a:r>
            <a:r>
              <a:rPr b="1" lang="en-US" sz="2500" spc="-1" strike="noStrike">
                <a:solidFill>
                  <a:srgbClr val="000000"/>
                </a:solidFill>
                <a:latin typeface="Miriam Fixed"/>
                <a:ea typeface="Miriam Fixed"/>
              </a:rPr>
              <a:t>×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adius</a:t>
            </a:r>
            <a:r>
              <a:rPr b="1" lang="en-US" sz="2500" spc="-1" strike="noStrike">
                <a:solidFill>
                  <a:srgbClr val="000000"/>
                </a:solidFill>
                <a:latin typeface="Miriam Fixed"/>
                <a:ea typeface="Miriam Fixed"/>
              </a:rPr>
              <a:t> ×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adius</a:t>
            </a:r>
            <a:r>
              <a:rPr b="1" lang="en-US" sz="2500" spc="-1" strike="noStrike">
                <a:solidFill>
                  <a:srgbClr val="000000"/>
                </a:solidFill>
                <a:latin typeface="Miriam Fixed"/>
                <a:ea typeface="Miriam Fixed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3733920"/>
            <a:ext cx="7848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ناتج تنفيذ البرنامج: بافتراض أن المستخدم قام بادخال قيمة نصف القطر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Enter radius: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1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The area of radius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is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314.159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1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mple if statements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2209680"/>
            <a:ext cx="2133720" cy="144792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radius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&gt;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038480" y="4952880"/>
            <a:ext cx="228600" cy="838080"/>
            <a:chOff x="4038480" y="4952880"/>
            <a:chExt cx="228600" cy="838080"/>
          </a:xfrm>
        </p:grpSpPr>
        <p:sp>
          <p:nvSpPr>
            <p:cNvPr id="180" name=""/>
            <p:cNvSpPr/>
            <p:nvPr/>
          </p:nvSpPr>
          <p:spPr>
            <a:xfrm>
              <a:off x="4038480" y="5511960"/>
              <a:ext cx="228600" cy="279000"/>
            </a:xfrm>
            <a:prstGeom prst="flowChartConnector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52960" y="4952880"/>
              <a:ext cx="0" cy="55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4038480" y="1523880"/>
            <a:ext cx="304920" cy="685800"/>
            <a:chOff x="4038480" y="1523880"/>
            <a:chExt cx="304920" cy="685800"/>
          </a:xfrm>
        </p:grpSpPr>
        <p:sp>
          <p:nvSpPr>
            <p:cNvPr id="183" name=""/>
            <p:cNvSpPr/>
            <p:nvPr/>
          </p:nvSpPr>
          <p:spPr>
            <a:xfrm>
              <a:off x="4191120" y="18288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38480" y="1523880"/>
              <a:ext cx="304920" cy="304920"/>
            </a:xfrm>
            <a:prstGeom prst="flowChartConnector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2133720" y="4114800"/>
            <a:ext cx="3886200" cy="838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area = </a:t>
            </a:r>
            <a:r>
              <a:rPr b="1" i="1" lang="en-US" sz="2300" spc="-1" strike="noStrike">
                <a:solidFill>
                  <a:srgbClr val="0000ff"/>
                </a:solidFill>
                <a:latin typeface="Arial"/>
              </a:rPr>
              <a:t>PI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radius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radiu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ystem.out.print(are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276720" y="3581280"/>
            <a:ext cx="914400" cy="533520"/>
            <a:chOff x="3276720" y="3581280"/>
            <a:chExt cx="914400" cy="533520"/>
          </a:xfrm>
        </p:grpSpPr>
        <p:sp>
          <p:nvSpPr>
            <p:cNvPr id="187" name=""/>
            <p:cNvSpPr/>
            <p:nvPr/>
          </p:nvSpPr>
          <p:spPr>
            <a:xfrm>
              <a:off x="4191120" y="36576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76720" y="3581280"/>
              <a:ext cx="7617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ff"/>
                  </a:solidFill>
                  <a:latin typeface="Arial"/>
                </a:rPr>
                <a:t>tru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191120" y="2590920"/>
            <a:ext cx="2209680" cy="2666160"/>
            <a:chOff x="4191120" y="2590920"/>
            <a:chExt cx="2209680" cy="2666160"/>
          </a:xfrm>
        </p:grpSpPr>
        <p:grpSp>
          <p:nvGrpSpPr>
            <p:cNvPr id="190" name=""/>
            <p:cNvGrpSpPr/>
            <p:nvPr/>
          </p:nvGrpSpPr>
          <p:grpSpPr>
            <a:xfrm>
              <a:off x="4191120" y="3021120"/>
              <a:ext cx="2209680" cy="2235960"/>
              <a:chOff x="4191120" y="3021120"/>
              <a:chExt cx="2209680" cy="2235960"/>
            </a:xfrm>
          </p:grpSpPr>
          <p:sp>
            <p:nvSpPr>
              <p:cNvPr id="191" name=""/>
              <p:cNvSpPr/>
              <p:nvPr/>
            </p:nvSpPr>
            <p:spPr>
              <a:xfrm>
                <a:off x="5257800" y="3021120"/>
                <a:ext cx="1143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400800" y="3021120"/>
                <a:ext cx="0" cy="2235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4191120" y="5257080"/>
                <a:ext cx="2209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5410080" y="2590920"/>
              <a:ext cx="9144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cc0000"/>
                  </a:solidFill>
                  <a:latin typeface="Arial"/>
                </a:rPr>
                <a:t>fals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3352680" y="838080"/>
            <a:ext cx="5410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خطوات تنفيذ البرنامج(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low chart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 كالآتى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52480" y="4191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52480" y="45720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04920" y="1414440"/>
            <a:ext cx="3352320" cy="3018600"/>
            <a:chOff x="304920" y="1414440"/>
            <a:chExt cx="3352320" cy="3018600"/>
          </a:xfrm>
        </p:grpSpPr>
        <p:sp>
          <p:nvSpPr>
            <p:cNvPr id="199" name=""/>
            <p:cNvSpPr/>
            <p:nvPr/>
          </p:nvSpPr>
          <p:spPr>
            <a:xfrm>
              <a:off x="304920" y="1414440"/>
              <a:ext cx="2646720" cy="3018600"/>
            </a:xfrm>
            <a:prstGeom prst="rect">
              <a:avLst/>
            </a:prstGeom>
            <a:solidFill>
              <a:srgbClr val="ccffcc"/>
            </a:solidFill>
            <a:ln w="158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just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اختبار قيمة نصف القطر اذا كان ناتج تنفيذ التعبير المنطقى بالقيمة </a:t>
              </a:r>
              <a:r>
                <a:rPr b="1" lang="en-US" sz="2400" spc="-1" strike="noStrike">
                  <a:solidFill>
                    <a:srgbClr val="00007d"/>
                  </a:solidFill>
                  <a:latin typeface="Arial"/>
                </a:rPr>
                <a:t>true</a:t>
              </a:r>
              <a:r>
                <a:rPr b="1" lang="ar-SA" sz="2400" spc="-1" strike="noStrike">
                  <a:solidFill>
                    <a:srgbClr val="00007d"/>
                  </a:solidFill>
                  <a:latin typeface="Arial"/>
                </a:rPr>
                <a:t>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يتم حساب مساحة الدائرة وطباعة المساح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51640" y="2238840"/>
              <a:ext cx="705600" cy="2746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6553080" y="3276720"/>
            <a:ext cx="2362320" cy="228708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ذا كان ناتج تنفيذ التعبير المنطقى بالقيمة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lse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يتم انهاء تنفيذ البرنام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609480" y="762120"/>
            <a:ext cx="8305560" cy="5867280"/>
            <a:chOff x="609480" y="762120"/>
            <a:chExt cx="8305560" cy="5867280"/>
          </a:xfrm>
        </p:grpSpPr>
        <p:sp>
          <p:nvSpPr>
            <p:cNvPr id="203" name=""/>
            <p:cNvSpPr/>
            <p:nvPr/>
          </p:nvSpPr>
          <p:spPr>
            <a:xfrm>
              <a:off x="609480" y="1143000"/>
              <a:ext cx="8305560" cy="548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09480" y="762120"/>
              <a:ext cx="8305560" cy="3808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uteArea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838080" y="152388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ComputeArea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14400" y="198108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90720" y="2438280"/>
            <a:ext cx="7162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fin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.14159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66680" y="3809880"/>
            <a:ext cx="693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radius = scanner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xtInt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1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mple if statements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975240"/>
            <a:ext cx="7620120" cy="76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mpor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java.util.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Scanner 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تحديد مكان وجود الـ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2895120"/>
            <a:ext cx="701028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anner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ystem.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90720" y="3352680"/>
            <a:ext cx="731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ln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nter radius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:“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4343400"/>
            <a:ext cx="6934320" cy="854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 radiu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 {      </a:t>
            </a:r>
            <a:r>
              <a:rPr b="1" i="1" lang="en-US" sz="2300" spc="-1" strike="noStrike">
                <a:solidFill>
                  <a:srgbClr val="4d4d4d"/>
                </a:solidFill>
                <a:latin typeface="Arial"/>
              </a:rPr>
              <a:t>// </a:t>
            </a:r>
            <a:r>
              <a:rPr b="1" i="1" lang="ar-SA" sz="2300" spc="-1" strike="noStrike">
                <a:solidFill>
                  <a:srgbClr val="4d4d4d"/>
                </a:solidFill>
                <a:latin typeface="Arial"/>
              </a:rPr>
              <a:t>اختبار القيمة المُدخلة أكبر من الصفر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19320" y="5349960"/>
            <a:ext cx="731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rintln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he area of radius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radius+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 is ”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a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95280" y="4876920"/>
            <a:ext cx="144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4876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  = 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Miriam Fixed"/>
                <a:ea typeface="Miriam Fixed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us </a:t>
            </a:r>
            <a:r>
              <a:rPr b="1" lang="en-US" sz="2400" spc="-1" strike="noStrike">
                <a:solidFill>
                  <a:srgbClr val="000000"/>
                </a:solidFill>
                <a:latin typeface="Miriam Fixed"/>
                <a:ea typeface="Miriam Fixed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us;</a:t>
            </a:r>
            <a:r>
              <a:rPr b="1" lang="en-US" sz="2400" spc="-1" strike="noStrike">
                <a:solidFill>
                  <a:srgbClr val="000000"/>
                </a:solidFill>
                <a:latin typeface="Miriam Fixed"/>
                <a:ea typeface="Miriam Fixe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66680" y="6095880"/>
            <a:ext cx="693432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    </a:t>
            </a:r>
            <a:r>
              <a:rPr b="1" i="1" lang="en-US" sz="2200" spc="-1" strike="noStrike">
                <a:solidFill>
                  <a:srgbClr val="4d4d4d"/>
                </a:solidFill>
                <a:latin typeface="Arial"/>
              </a:rPr>
              <a:t>//end of if bol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90720" y="4267080"/>
            <a:ext cx="7467480" cy="228600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09480" y="885960"/>
            <a:ext cx="7772400" cy="132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762120"/>
            <a:ext cx="7772400" cy="3045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uteArea.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106668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} </a:t>
            </a:r>
            <a:r>
              <a:rPr b="1" i="1" lang="en-US" sz="2400" spc="-1" strike="noStrike">
                <a:solidFill>
                  <a:srgbClr val="4d4d4d"/>
                </a:solidFill>
                <a:latin typeface="Arial"/>
              </a:rPr>
              <a:t>// end of m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160020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4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1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mple if statements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2971800"/>
            <a:ext cx="2133720" cy="144792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radius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&gt;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038480" y="5715000"/>
            <a:ext cx="228600" cy="837720"/>
            <a:chOff x="4038480" y="5715000"/>
            <a:chExt cx="228600" cy="837720"/>
          </a:xfrm>
        </p:grpSpPr>
        <p:sp>
          <p:nvSpPr>
            <p:cNvPr id="226" name=""/>
            <p:cNvSpPr/>
            <p:nvPr/>
          </p:nvSpPr>
          <p:spPr>
            <a:xfrm>
              <a:off x="4038480" y="6273720"/>
              <a:ext cx="228600" cy="279000"/>
            </a:xfrm>
            <a:prstGeom prst="flowChartConnector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52960" y="5715000"/>
              <a:ext cx="0" cy="55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4038480" y="2286000"/>
            <a:ext cx="304920" cy="685800"/>
            <a:chOff x="4038480" y="2286000"/>
            <a:chExt cx="304920" cy="685800"/>
          </a:xfrm>
        </p:grpSpPr>
        <p:sp>
          <p:nvSpPr>
            <p:cNvPr id="229" name=""/>
            <p:cNvSpPr/>
            <p:nvPr/>
          </p:nvSpPr>
          <p:spPr>
            <a:xfrm>
              <a:off x="4191120" y="25909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038480" y="2286000"/>
              <a:ext cx="304920" cy="304920"/>
            </a:xfrm>
            <a:prstGeom prst="flowChartConnector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133720" y="4876920"/>
            <a:ext cx="3886200" cy="838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area = </a:t>
            </a:r>
            <a:r>
              <a:rPr b="1" i="1" lang="en-US" sz="2300" spc="-1" strike="noStrike">
                <a:solidFill>
                  <a:srgbClr val="0000ff"/>
                </a:solidFill>
                <a:latin typeface="Arial"/>
              </a:rPr>
              <a:t>PI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radius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radiu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ystem.out.print(are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276720" y="4343400"/>
            <a:ext cx="914400" cy="533520"/>
            <a:chOff x="3276720" y="4343400"/>
            <a:chExt cx="914400" cy="533520"/>
          </a:xfrm>
        </p:grpSpPr>
        <p:sp>
          <p:nvSpPr>
            <p:cNvPr id="233" name=""/>
            <p:cNvSpPr/>
            <p:nvPr/>
          </p:nvSpPr>
          <p:spPr>
            <a:xfrm>
              <a:off x="4191120" y="44197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76720" y="4343400"/>
              <a:ext cx="7617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ff"/>
                  </a:solidFill>
                  <a:latin typeface="Arial"/>
                </a:rPr>
                <a:t>tru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4191120" y="3352680"/>
            <a:ext cx="2209680" cy="2666520"/>
            <a:chOff x="4191120" y="3352680"/>
            <a:chExt cx="2209680" cy="2666520"/>
          </a:xfrm>
        </p:grpSpPr>
        <p:grpSp>
          <p:nvGrpSpPr>
            <p:cNvPr id="236" name=""/>
            <p:cNvGrpSpPr/>
            <p:nvPr/>
          </p:nvGrpSpPr>
          <p:grpSpPr>
            <a:xfrm>
              <a:off x="4191120" y="3782880"/>
              <a:ext cx="2209680" cy="2236320"/>
              <a:chOff x="4191120" y="3782880"/>
              <a:chExt cx="2209680" cy="2236320"/>
            </a:xfrm>
          </p:grpSpPr>
          <p:sp>
            <p:nvSpPr>
              <p:cNvPr id="237" name=""/>
              <p:cNvSpPr/>
              <p:nvPr/>
            </p:nvSpPr>
            <p:spPr>
              <a:xfrm>
                <a:off x="5257800" y="3782880"/>
                <a:ext cx="1143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400800" y="3782880"/>
                <a:ext cx="0" cy="223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4191120" y="6019200"/>
                <a:ext cx="2209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5410080" y="3352680"/>
              <a:ext cx="9144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cc0000"/>
                  </a:solidFill>
                  <a:latin typeface="Arial"/>
                </a:rPr>
                <a:t>fals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4800600" y="2438280"/>
            <a:ext cx="3809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خطوات تنفيذ البرنامج كالآتى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75248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752480" y="5334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04920" y="2971800"/>
            <a:ext cx="2895480" cy="2226960"/>
            <a:chOff x="304920" y="2971800"/>
            <a:chExt cx="2895480" cy="2226960"/>
          </a:xfrm>
        </p:grpSpPr>
        <p:sp>
          <p:nvSpPr>
            <p:cNvPr id="245" name=""/>
            <p:cNvSpPr/>
            <p:nvPr/>
          </p:nvSpPr>
          <p:spPr>
            <a:xfrm>
              <a:off x="304920" y="2971800"/>
              <a:ext cx="2286000" cy="2226960"/>
            </a:xfrm>
            <a:prstGeom prst="rect">
              <a:avLst/>
            </a:prstGeom>
            <a:solidFill>
              <a:srgbClr val="ccffcc"/>
            </a:solidFill>
            <a:ln w="158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just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اذا كان ناتج تنفيذ التعبير المنطقى بالقيمة </a:t>
              </a:r>
              <a:r>
                <a:rPr b="1" lang="en-US" sz="2000" spc="-1" strike="noStrike">
                  <a:solidFill>
                    <a:srgbClr val="00007d"/>
                  </a:solidFill>
                  <a:latin typeface="Arial"/>
                </a:rPr>
                <a:t>true</a:t>
              </a:r>
              <a:r>
                <a:rPr b="1" lang="ar-SA" sz="2000" spc="-1" strike="noStrike">
                  <a:solidFill>
                    <a:srgbClr val="00007d"/>
                  </a:solidFill>
                  <a:latin typeface="Arial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يتم تنفيذ التعليمات التابعة لعبارة الـ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f</a:t>
              </a: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 المحصورة بين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{ 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90920" y="3429000"/>
              <a:ext cx="609480" cy="1522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6629400" y="3200400"/>
            <a:ext cx="2286000" cy="161712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ذا كان ناتج تنفيذ التعبير المنطقى بالقيمة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lse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يتم انهاء تنفيذ البرنام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13:40:41Z</dcterms:created>
  <dc:creator>SUST</dc:creator>
  <dc:description/>
  <dc:language>en-US</dc:language>
  <cp:lastModifiedBy>Yahia</cp:lastModifiedBy>
  <dcterms:modified xsi:type="dcterms:W3CDTF">2011-05-05T02:16:27Z</dcterms:modified>
  <cp:revision>1538</cp:revision>
  <dc:subject>Programming Fundamentals</dc:subject>
  <dc:title>Primitive Data Type</dc:title>
</cp:coreProperties>
</file>