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FD2B6-4258-43AD-9966-4771AE6220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B198-3D56-4931-A73F-5BAE6B04DF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DFF4-716C-4D86-B953-FDDA9944CD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D50EF-867A-4DC1-91D1-D01FA43E6A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F117-FA05-4016-86C9-C210C02348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2CF2-840B-4C50-A609-FF186F93FB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2184-6AAB-4B36-B207-AFEEA8970D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A25D-BFB7-4573-AADE-61448B562D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D37C-B051-44C9-B347-B13005D9F5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7820E-4DF2-43B8-810E-435045F07F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743C-7452-4487-BFCB-D92267F739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B3CE-2B06-41F7-B94B-5115A6A9E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7521-0473-4ACA-BDB3-9A0E14215C2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trol struc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286000"/>
            <a:ext cx="51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hapter(4)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261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2096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3290760"/>
            <a:ext cx="4419720" cy="51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“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\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37339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4952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819520"/>
            <a:ext cx="7086600" cy="1447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28195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j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 &lt;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440388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4400" y="3352680"/>
            <a:ext cx="685800" cy="304920"/>
            <a:chOff x="914400" y="3352680"/>
            <a:chExt cx="685800" cy="304920"/>
          </a:xfrm>
        </p:grpSpPr>
        <p:sp>
          <p:nvSpPr>
            <p:cNvPr id="276" name=""/>
            <p:cNvSpPr/>
            <p:nvPr/>
          </p:nvSpPr>
          <p:spPr>
            <a:xfrm>
              <a:off x="91440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219320" y="3505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838080" y="4495680"/>
            <a:ext cx="685800" cy="304920"/>
            <a:chOff x="838080" y="4495680"/>
            <a:chExt cx="685800" cy="304920"/>
          </a:xfrm>
        </p:grpSpPr>
        <p:sp>
          <p:nvSpPr>
            <p:cNvPr id="279" name=""/>
            <p:cNvSpPr/>
            <p:nvPr/>
          </p:nvSpPr>
          <p:spPr>
            <a:xfrm>
              <a:off x="838080" y="4495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143000" y="4648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685800"/>
            <a:ext cx="8458200" cy="335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858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1433520"/>
            <a:ext cx="4191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     5 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     5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81080" y="1433520"/>
            <a:ext cx="533160" cy="2514600"/>
            <a:chOff x="1981080" y="1433520"/>
            <a:chExt cx="533160" cy="2514600"/>
          </a:xfrm>
        </p:grpSpPr>
        <p:sp>
          <p:nvSpPr>
            <p:cNvPr id="286" name=""/>
            <p:cNvSpPr/>
            <p:nvPr/>
          </p:nvSpPr>
          <p:spPr>
            <a:xfrm>
              <a:off x="2514240" y="1601640"/>
              <a:ext cx="0" cy="2346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81080" y="14335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95880" y="1433520"/>
            <a:ext cx="2666880" cy="473400"/>
            <a:chOff x="6095880" y="1433520"/>
            <a:chExt cx="2666880" cy="473400"/>
          </a:xfrm>
        </p:grpSpPr>
        <p:sp>
          <p:nvSpPr>
            <p:cNvPr id="289" name=""/>
            <p:cNvSpPr/>
            <p:nvPr/>
          </p:nvSpPr>
          <p:spPr>
            <a:xfrm>
              <a:off x="6095880" y="166212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05560" y="14335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j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019920" y="182880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106668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40384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gt;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4556160"/>
            <a:ext cx="64771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r (int  j =1;  j&lt;=i;  j++) {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6188040"/>
            <a:ext cx="7010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98456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 j + 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5425920"/>
            <a:ext cx="64771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588276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 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38080" y="5029200"/>
            <a:ext cx="685800" cy="304920"/>
            <a:chOff x="838080" y="5029200"/>
            <a:chExt cx="685800" cy="304920"/>
          </a:xfrm>
        </p:grpSpPr>
        <p:sp>
          <p:nvSpPr>
            <p:cNvPr id="300" name=""/>
            <p:cNvSpPr/>
            <p:nvPr/>
          </p:nvSpPr>
          <p:spPr>
            <a:xfrm>
              <a:off x="8380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143000" y="5181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5800" y="5975280"/>
            <a:ext cx="685800" cy="304920"/>
            <a:chOff x="685800" y="5975280"/>
            <a:chExt cx="685800" cy="304920"/>
          </a:xfrm>
        </p:grpSpPr>
        <p:sp>
          <p:nvSpPr>
            <p:cNvPr id="303" name=""/>
            <p:cNvSpPr/>
            <p:nvPr/>
          </p:nvSpPr>
          <p:spPr>
            <a:xfrm>
              <a:off x="685800" y="59752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990720" y="61279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306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2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22096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gt;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200" y="3290760"/>
            <a:ext cx="4419720" cy="51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“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\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37339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4952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2819520"/>
            <a:ext cx="7086600" cy="1447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8195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j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 &lt;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440388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14400" y="3352680"/>
            <a:ext cx="685800" cy="304920"/>
            <a:chOff x="914400" y="3352680"/>
            <a:chExt cx="685800" cy="304920"/>
          </a:xfrm>
        </p:grpSpPr>
        <p:sp>
          <p:nvSpPr>
            <p:cNvPr id="321" name=""/>
            <p:cNvSpPr/>
            <p:nvPr/>
          </p:nvSpPr>
          <p:spPr>
            <a:xfrm>
              <a:off x="91440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219320" y="3505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838080" y="4495680"/>
            <a:ext cx="685800" cy="304920"/>
            <a:chOff x="838080" y="4495680"/>
            <a:chExt cx="685800" cy="304920"/>
          </a:xfrm>
        </p:grpSpPr>
        <p:sp>
          <p:nvSpPr>
            <p:cNvPr id="324" name=""/>
            <p:cNvSpPr/>
            <p:nvPr/>
          </p:nvSpPr>
          <p:spPr>
            <a:xfrm>
              <a:off x="838080" y="4495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143000" y="4648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762120"/>
            <a:ext cx="8229600" cy="274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6858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62320" y="1447920"/>
            <a:ext cx="4572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828800" y="1752480"/>
            <a:ext cx="533520" cy="1281240"/>
            <a:chOff x="1828800" y="1752480"/>
            <a:chExt cx="533520" cy="1281240"/>
          </a:xfrm>
        </p:grpSpPr>
        <p:sp>
          <p:nvSpPr>
            <p:cNvPr id="331" name=""/>
            <p:cNvSpPr/>
            <p:nvPr/>
          </p:nvSpPr>
          <p:spPr>
            <a:xfrm>
              <a:off x="2362320" y="1814400"/>
              <a:ext cx="0" cy="1219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28800" y="175248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1447920"/>
            <a:ext cx="4419720" cy="473400"/>
            <a:chOff x="2666880" y="1447920"/>
            <a:chExt cx="4419720" cy="473400"/>
          </a:xfrm>
        </p:grpSpPr>
        <p:sp>
          <p:nvSpPr>
            <p:cNvPr id="334" name=""/>
            <p:cNvSpPr/>
            <p:nvPr/>
          </p:nvSpPr>
          <p:spPr>
            <a:xfrm>
              <a:off x="2666880" y="1692360"/>
              <a:ext cx="39625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29400" y="14479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09480" y="304812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91320" y="114300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358128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&lt;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5334120"/>
            <a:ext cx="5105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571500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95280" y="44640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90720" y="5029200"/>
            <a:ext cx="685800" cy="304920"/>
            <a:chOff x="990720" y="5029200"/>
            <a:chExt cx="685800" cy="304920"/>
          </a:xfrm>
        </p:grpSpPr>
        <p:sp>
          <p:nvSpPr>
            <p:cNvPr id="343" name=""/>
            <p:cNvSpPr/>
            <p:nvPr/>
          </p:nvSpPr>
          <p:spPr>
            <a:xfrm>
              <a:off x="99072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295640" y="5181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990720" y="5410080"/>
            <a:ext cx="685800" cy="304920"/>
            <a:chOff x="990720" y="5410080"/>
            <a:chExt cx="685800" cy="304920"/>
          </a:xfrm>
        </p:grpSpPr>
        <p:sp>
          <p:nvSpPr>
            <p:cNvPr id="346" name=""/>
            <p:cNvSpPr/>
            <p:nvPr/>
          </p:nvSpPr>
          <p:spPr>
            <a:xfrm>
              <a:off x="990720" y="54100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295640" y="55627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295280" y="4038480"/>
            <a:ext cx="6782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sum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76520" y="4861080"/>
            <a:ext cx="3733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= sum +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60958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352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how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Show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21337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&lt;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4235400"/>
            <a:ext cx="5105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476892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58514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2666880"/>
            <a:ext cx="7086600" cy="26672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31687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533412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143000" y="3809880"/>
            <a:ext cx="685800" cy="304920"/>
            <a:chOff x="1143000" y="3809880"/>
            <a:chExt cx="685800" cy="304920"/>
          </a:xfrm>
        </p:grpSpPr>
        <p:sp>
          <p:nvSpPr>
            <p:cNvPr id="365" name=""/>
            <p:cNvSpPr/>
            <p:nvPr/>
          </p:nvSpPr>
          <p:spPr>
            <a:xfrm>
              <a:off x="1143000" y="3809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1447920" y="39625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143000" y="4343400"/>
            <a:ext cx="685800" cy="304920"/>
            <a:chOff x="1143000" y="4343400"/>
            <a:chExt cx="685800" cy="304920"/>
          </a:xfrm>
        </p:grpSpPr>
        <p:sp>
          <p:nvSpPr>
            <p:cNvPr id="368" name=""/>
            <p:cNvSpPr/>
            <p:nvPr/>
          </p:nvSpPr>
          <p:spPr>
            <a:xfrm>
              <a:off x="1143000" y="43434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447920" y="44960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47920" y="272736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sum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365760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= sum +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373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how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2117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1523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990720"/>
            <a:ext cx="8229600" cy="1676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9907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حساب المعادلة الآتية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16765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= 1! + 2! + 3! +  4! +  5! +  6! +  ...+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28195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لإيجاد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مضروب العد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يتم كالآتى: (بإستخدام حلقة واحدة فقط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23880" y="476892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3778200"/>
            <a:ext cx="7238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33684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, fact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426708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fac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447920" y="5181480"/>
            <a:ext cx="66294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fact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(num!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” +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3352680"/>
            <a:ext cx="7619760" cy="23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85800" y="3429000"/>
            <a:ext cx="685800" cy="304920"/>
            <a:chOff x="685800" y="3429000"/>
            <a:chExt cx="685800" cy="304920"/>
          </a:xfrm>
        </p:grpSpPr>
        <p:sp>
          <p:nvSpPr>
            <p:cNvPr id="390" name=""/>
            <p:cNvSpPr/>
            <p:nvPr/>
          </p:nvSpPr>
          <p:spPr>
            <a:xfrm>
              <a:off x="685800" y="34290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990720" y="35816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85800" y="3886200"/>
            <a:ext cx="685800" cy="304920"/>
            <a:chOff x="685800" y="3886200"/>
            <a:chExt cx="685800" cy="304920"/>
          </a:xfrm>
        </p:grpSpPr>
        <p:sp>
          <p:nvSpPr>
            <p:cNvPr id="393" name=""/>
            <p:cNvSpPr/>
            <p:nvPr/>
          </p:nvSpPr>
          <p:spPr>
            <a:xfrm>
              <a:off x="685800" y="3886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990720" y="4038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85800" y="4419720"/>
            <a:ext cx="685800" cy="304560"/>
            <a:chOff x="685800" y="4419720"/>
            <a:chExt cx="685800" cy="304560"/>
          </a:xfrm>
        </p:grpSpPr>
        <p:sp>
          <p:nvSpPr>
            <p:cNvPr id="396" name=""/>
            <p:cNvSpPr/>
            <p:nvPr/>
          </p:nvSpPr>
          <p:spPr>
            <a:xfrm>
              <a:off x="6858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990720" y="45720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85800" y="5257800"/>
            <a:ext cx="685800" cy="304920"/>
            <a:chOff x="685800" y="5257800"/>
            <a:chExt cx="685800" cy="304920"/>
          </a:xfrm>
        </p:grpSpPr>
        <p:sp>
          <p:nvSpPr>
            <p:cNvPr id="399" name=""/>
            <p:cNvSpPr/>
            <p:nvPr/>
          </p:nvSpPr>
          <p:spPr>
            <a:xfrm>
              <a:off x="685800" y="52578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990720" y="54104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6858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حساب المعادلة الآتية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9907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= 1! + 2! + 3! +  4! +  5! +  6! +  ...+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752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لإيجاد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مجموع مضروب الأعد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(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!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!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71600" y="44956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354960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3962520"/>
            <a:ext cx="3733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fac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5927760"/>
            <a:ext cx="5638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sum =” +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2209680"/>
            <a:ext cx="8001000" cy="426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213372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fact , sum 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2606760"/>
            <a:ext cx="6934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3032280"/>
            <a:ext cx="3276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1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5013360"/>
            <a:ext cx="3733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= sum + fac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545472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28600" y="2743200"/>
            <a:ext cx="685800" cy="304920"/>
            <a:chOff x="228600" y="2743200"/>
            <a:chExt cx="685800" cy="304920"/>
          </a:xfrm>
        </p:grpSpPr>
        <p:sp>
          <p:nvSpPr>
            <p:cNvPr id="417" name=""/>
            <p:cNvSpPr/>
            <p:nvPr/>
          </p:nvSpPr>
          <p:spPr>
            <a:xfrm>
              <a:off x="228600" y="2743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33520" y="2895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28600" y="3124080"/>
            <a:ext cx="685800" cy="304920"/>
            <a:chOff x="228600" y="3124080"/>
            <a:chExt cx="685800" cy="304920"/>
          </a:xfrm>
        </p:grpSpPr>
        <p:sp>
          <p:nvSpPr>
            <p:cNvPr id="420" name=""/>
            <p:cNvSpPr/>
            <p:nvPr/>
          </p:nvSpPr>
          <p:spPr>
            <a:xfrm>
              <a:off x="228600" y="31240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533520" y="32767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28600" y="3657600"/>
            <a:ext cx="685800" cy="304920"/>
            <a:chOff x="228600" y="3657600"/>
            <a:chExt cx="685800" cy="304920"/>
          </a:xfrm>
        </p:grpSpPr>
        <p:sp>
          <p:nvSpPr>
            <p:cNvPr id="423" name=""/>
            <p:cNvSpPr/>
            <p:nvPr/>
          </p:nvSpPr>
          <p:spPr>
            <a:xfrm>
              <a:off x="228600" y="36576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33520" y="38102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28600" y="5105520"/>
            <a:ext cx="685800" cy="304560"/>
            <a:chOff x="228600" y="5105520"/>
            <a:chExt cx="685800" cy="304560"/>
          </a:xfrm>
        </p:grpSpPr>
        <p:sp>
          <p:nvSpPr>
            <p:cNvPr id="426" name=""/>
            <p:cNvSpPr/>
            <p:nvPr/>
          </p:nvSpPr>
          <p:spPr>
            <a:xfrm>
              <a:off x="228600" y="51055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33520" y="52578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8600" y="6019920"/>
            <a:ext cx="685800" cy="304560"/>
            <a:chOff x="228600" y="6019920"/>
            <a:chExt cx="685800" cy="304560"/>
          </a:xfrm>
        </p:grpSpPr>
        <p:sp>
          <p:nvSpPr>
            <p:cNvPr id="429" name=""/>
            <p:cNvSpPr/>
            <p:nvPr/>
          </p:nvSpPr>
          <p:spPr>
            <a:xfrm>
              <a:off x="228600" y="60199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33520" y="61722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380880" y="838080"/>
            <a:ext cx="8305560" cy="5028840"/>
            <a:chOff x="380880" y="838080"/>
            <a:chExt cx="8305560" cy="5028840"/>
          </a:xfrm>
        </p:grpSpPr>
        <p:sp>
          <p:nvSpPr>
            <p:cNvPr id="432" name=""/>
            <p:cNvSpPr/>
            <p:nvPr/>
          </p:nvSpPr>
          <p:spPr>
            <a:xfrm>
              <a:off x="380880" y="1164240"/>
              <a:ext cx="8305560" cy="470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838080"/>
              <a:ext cx="8305560" cy="3261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S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85800" y="17524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Sum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38080" y="22096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449568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0720" y="335232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90720" y="4876920"/>
            <a:ext cx="5181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66680" y="405288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عدد العناصر من المستخدم (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n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74320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fact , sum 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80880" y="838080"/>
            <a:ext cx="8305560" cy="5714640"/>
            <a:chOff x="380880" y="838080"/>
            <a:chExt cx="8305560" cy="5714640"/>
          </a:xfrm>
        </p:grpSpPr>
        <p:sp>
          <p:nvSpPr>
            <p:cNvPr id="444" name=""/>
            <p:cNvSpPr/>
            <p:nvPr/>
          </p:nvSpPr>
          <p:spPr>
            <a:xfrm>
              <a:off x="380880" y="1208880"/>
              <a:ext cx="83055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880" y="838080"/>
              <a:ext cx="83055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S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12193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1676520"/>
            <a:ext cx="7086600" cy="2514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19320" y="22543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181296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1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320040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2666880"/>
            <a:ext cx="3733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fac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4937040"/>
            <a:ext cx="5638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sum =” +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95280" y="3718080"/>
            <a:ext cx="3733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m = sum + fac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42670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60800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6320" y="1371600"/>
            <a:ext cx="685800" cy="304920"/>
            <a:chOff x="76320" y="1371600"/>
            <a:chExt cx="685800" cy="304920"/>
          </a:xfrm>
        </p:grpSpPr>
        <p:sp>
          <p:nvSpPr>
            <p:cNvPr id="459" name=""/>
            <p:cNvSpPr/>
            <p:nvPr/>
          </p:nvSpPr>
          <p:spPr>
            <a:xfrm>
              <a:off x="76320" y="13716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81240" y="15242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76320" y="1905120"/>
            <a:ext cx="685800" cy="304560"/>
            <a:chOff x="76320" y="1905120"/>
            <a:chExt cx="685800" cy="304560"/>
          </a:xfrm>
        </p:grpSpPr>
        <p:sp>
          <p:nvSpPr>
            <p:cNvPr id="462" name=""/>
            <p:cNvSpPr/>
            <p:nvPr/>
          </p:nvSpPr>
          <p:spPr>
            <a:xfrm>
              <a:off x="76320" y="19051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381240" y="20574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6320" y="2362320"/>
            <a:ext cx="685800" cy="304560"/>
            <a:chOff x="76320" y="2362320"/>
            <a:chExt cx="685800" cy="304560"/>
          </a:xfrm>
        </p:grpSpPr>
        <p:sp>
          <p:nvSpPr>
            <p:cNvPr id="465" name=""/>
            <p:cNvSpPr/>
            <p:nvPr/>
          </p:nvSpPr>
          <p:spPr>
            <a:xfrm>
              <a:off x="76320" y="2362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81240" y="2514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6320" y="3809880"/>
            <a:ext cx="685800" cy="304920"/>
            <a:chOff x="76320" y="3809880"/>
            <a:chExt cx="685800" cy="304920"/>
          </a:xfrm>
        </p:grpSpPr>
        <p:sp>
          <p:nvSpPr>
            <p:cNvPr id="468" name=""/>
            <p:cNvSpPr/>
            <p:nvPr/>
          </p:nvSpPr>
          <p:spPr>
            <a:xfrm>
              <a:off x="76320" y="3809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81240" y="39625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6320" y="5029200"/>
            <a:ext cx="685800" cy="304920"/>
            <a:chOff x="76320" y="5029200"/>
            <a:chExt cx="685800" cy="304920"/>
          </a:xfrm>
        </p:grpSpPr>
        <p:sp>
          <p:nvSpPr>
            <p:cNvPr id="471" name=""/>
            <p:cNvSpPr/>
            <p:nvPr/>
          </p:nvSpPr>
          <p:spPr>
            <a:xfrm>
              <a:off x="7632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81240" y="5181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6668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765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sted Loop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990720"/>
            <a:ext cx="8229600" cy="243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9907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حساب المعادلة الآتية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14400" y="167652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=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!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!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!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!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!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... + </a:t>
            </a:r>
            <a:r>
              <a:rPr b="1" lang="en-US" sz="3500" spc="-1" strike="noStrike" baseline="30000">
                <a:solidFill>
                  <a:srgbClr val="00007d"/>
                </a:solidFill>
                <a:latin typeface="Times New Roman"/>
                <a:ea typeface="Times New Roman"/>
              </a:rPr>
              <a:t>1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35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!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380880" y="838080"/>
            <a:ext cx="8305560" cy="5028840"/>
            <a:chOff x="380880" y="838080"/>
            <a:chExt cx="8305560" cy="5028840"/>
          </a:xfrm>
        </p:grpSpPr>
        <p:sp>
          <p:nvSpPr>
            <p:cNvPr id="478" name=""/>
            <p:cNvSpPr/>
            <p:nvPr/>
          </p:nvSpPr>
          <p:spPr>
            <a:xfrm>
              <a:off x="380880" y="1164240"/>
              <a:ext cx="8305560" cy="470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880" y="838080"/>
              <a:ext cx="8305560" cy="3261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Sum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8580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Sum2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8080" y="21337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1051560"/>
            <a:ext cx="762012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90720" y="449568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00007d"/>
                </a:solidFill>
                <a:latin typeface="Arial"/>
              </a:rPr>
              <a:t>Enter number :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3200040"/>
            <a:ext cx="6705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029200"/>
            <a:ext cx="5181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next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66680" y="3900600"/>
            <a:ext cx="6553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قراءة عدد العناصر من المستخدم (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n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90720" y="265104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fact , e 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380880" y="838080"/>
            <a:ext cx="8305560" cy="5714640"/>
            <a:chOff x="380880" y="838080"/>
            <a:chExt cx="8305560" cy="5714640"/>
          </a:xfrm>
        </p:grpSpPr>
        <p:sp>
          <p:nvSpPr>
            <p:cNvPr id="490" name=""/>
            <p:cNvSpPr/>
            <p:nvPr/>
          </p:nvSpPr>
          <p:spPr>
            <a:xfrm>
              <a:off x="380880" y="1208880"/>
              <a:ext cx="8305560" cy="534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0880" y="838080"/>
              <a:ext cx="8305560" cy="3708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Sum2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12193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66680" y="1676520"/>
            <a:ext cx="7086600" cy="2514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219320" y="22543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 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1812960"/>
            <a:ext cx="6781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1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320040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666880"/>
            <a:ext cx="3733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ct = fac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14400" y="4937040"/>
            <a:ext cx="5638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e =” +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3718080"/>
            <a:ext cx="3733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 fac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38080" y="4267080"/>
            <a:ext cx="2971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0880" y="608004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6320" y="1371600"/>
            <a:ext cx="685800" cy="304920"/>
            <a:chOff x="76320" y="1371600"/>
            <a:chExt cx="685800" cy="304920"/>
          </a:xfrm>
        </p:grpSpPr>
        <p:sp>
          <p:nvSpPr>
            <p:cNvPr id="505" name=""/>
            <p:cNvSpPr/>
            <p:nvPr/>
          </p:nvSpPr>
          <p:spPr>
            <a:xfrm>
              <a:off x="76320" y="13716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81240" y="15242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6320" y="1905120"/>
            <a:ext cx="685800" cy="304560"/>
            <a:chOff x="76320" y="1905120"/>
            <a:chExt cx="685800" cy="304560"/>
          </a:xfrm>
        </p:grpSpPr>
        <p:sp>
          <p:nvSpPr>
            <p:cNvPr id="508" name=""/>
            <p:cNvSpPr/>
            <p:nvPr/>
          </p:nvSpPr>
          <p:spPr>
            <a:xfrm>
              <a:off x="76320" y="19051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81240" y="20574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6320" y="2362320"/>
            <a:ext cx="685800" cy="304560"/>
            <a:chOff x="76320" y="2362320"/>
            <a:chExt cx="685800" cy="304560"/>
          </a:xfrm>
        </p:grpSpPr>
        <p:sp>
          <p:nvSpPr>
            <p:cNvPr id="511" name=""/>
            <p:cNvSpPr/>
            <p:nvPr/>
          </p:nvSpPr>
          <p:spPr>
            <a:xfrm>
              <a:off x="76320" y="2362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81240" y="2514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76320" y="3809880"/>
            <a:ext cx="685800" cy="304920"/>
            <a:chOff x="76320" y="3809880"/>
            <a:chExt cx="685800" cy="304920"/>
          </a:xfrm>
        </p:grpSpPr>
        <p:sp>
          <p:nvSpPr>
            <p:cNvPr id="514" name=""/>
            <p:cNvSpPr/>
            <p:nvPr/>
          </p:nvSpPr>
          <p:spPr>
            <a:xfrm>
              <a:off x="76320" y="3809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81240" y="39625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6320" y="5029200"/>
            <a:ext cx="685800" cy="304920"/>
            <a:chOff x="76320" y="5029200"/>
            <a:chExt cx="685800" cy="304920"/>
          </a:xfrm>
        </p:grpSpPr>
        <p:sp>
          <p:nvSpPr>
            <p:cNvPr id="517" name=""/>
            <p:cNvSpPr/>
            <p:nvPr/>
          </p:nvSpPr>
          <p:spPr>
            <a:xfrm>
              <a:off x="7632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81240" y="51818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0880" y="609480"/>
            <a:ext cx="845820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858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المستخدم ادخال درجات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ثلاثة طلاب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بخمسة مواد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يقوم البرنامج بحساب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مجموع درجات كل طالب على حد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بالمواد(خمسة مواد) وطباعة النتيجة على شاشة التنفيذ كالآتى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3520" y="1905120"/>
            <a:ext cx="3504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s for student 1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1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2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3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4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5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he result 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4343400"/>
            <a:ext cx="34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s for student 2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1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2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3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4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5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he result 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1905120"/>
            <a:ext cx="34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Grades for student 3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1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2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3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4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ject[5] :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he result 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me Work                          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ليم هذه البرامج بالمعمل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1371600"/>
            <a:ext cx="6782040" cy="1981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8380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0200" y="1295280"/>
            <a:ext cx="6019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4343400"/>
            <a:ext cx="678168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47920" y="4648320"/>
            <a:ext cx="6019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=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!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!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7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38098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) اكتب برنامج يقوم بطباعة مجموع المتوالية التالية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990720"/>
            <a:ext cx="8515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sted loops consist of an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outer loo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Arial"/>
              </a:rPr>
              <a:t>more inner loop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75248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لفكرة الأساسية من الحلقات المتداخلة، هى أن يتم كتابة حلقة(تُسمى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حلقة خارج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بحيث تحتوى هذه الحلقة على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حلقة واحدة بداخلها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أو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مجموعة من الحلقات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0384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جد أنه مع كل تكرار تنفيذ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للحلقة الخارجي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ter loop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يتم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إعادة 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الحلقة الداخلية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ner loop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من جديد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8440" y="3017880"/>
            <a:ext cx="8540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ach time the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outer loo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repeate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the inner loops ar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eentere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arted anew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838080"/>
            <a:ext cx="80010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كلما أخذ متغير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الحلقة الخارجية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outerloop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قيمة محددة،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يتم البدء ب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الحلقة الداخل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ner loop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ويستمر عملها حتى تؤدى تكراراتها كاملة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260880"/>
            <a:ext cx="6553080" cy="1523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654280"/>
            <a:ext cx="716292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397320"/>
            <a:ext cx="6553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 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&lt;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;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1893960"/>
            <a:ext cx="1676160" cy="904320"/>
            <a:chOff x="533520" y="1893960"/>
            <a:chExt cx="1676160" cy="904320"/>
          </a:xfrm>
        </p:grpSpPr>
        <p:sp>
          <p:nvSpPr>
            <p:cNvPr id="118" name=""/>
            <p:cNvSpPr/>
            <p:nvPr/>
          </p:nvSpPr>
          <p:spPr>
            <a:xfrm>
              <a:off x="533520" y="1893960"/>
              <a:ext cx="1676160" cy="442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outer loo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3000" y="2341440"/>
              <a:ext cx="0" cy="456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14400" y="4861080"/>
            <a:ext cx="701028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87000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311720"/>
            <a:ext cx="5638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933960" y="2960640"/>
            <a:ext cx="1905120" cy="528840"/>
            <a:chOff x="6933960" y="2960640"/>
            <a:chExt cx="1905120" cy="528840"/>
          </a:xfrm>
        </p:grpSpPr>
        <p:sp>
          <p:nvSpPr>
            <p:cNvPr id="124" name=""/>
            <p:cNvSpPr/>
            <p:nvPr/>
          </p:nvSpPr>
          <p:spPr>
            <a:xfrm>
              <a:off x="7162920" y="2960640"/>
              <a:ext cx="1676160" cy="44280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inner loo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933960" y="3337200"/>
              <a:ext cx="228600" cy="152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80880" y="54100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ملحوظة هام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: لابد أن يتم </a:t>
            </a:r>
            <a:r>
              <a:rPr b="1" i="1" lang="ar-SA" sz="2500" spc="-1" strike="noStrike">
                <a:solidFill>
                  <a:srgbClr val="00007d"/>
                </a:solidFill>
                <a:latin typeface="Arial"/>
              </a:rPr>
              <a:t>تعريف متغير لكل 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الحلقات المتداخلة، كما موضح بالمثال اعلا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990720"/>
            <a:ext cx="716256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508040"/>
            <a:ext cx="6553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 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&lt;=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;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971800"/>
            <a:ext cx="7010280" cy="47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1980720"/>
            <a:ext cx="655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4ln( i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+ ”,”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422440"/>
            <a:ext cx="5639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990720"/>
            <a:ext cx="7924680" cy="243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58128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3581280"/>
            <a:ext cx="47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3733920"/>
            <a:ext cx="914400" cy="761760"/>
          </a:xfrm>
          <a:prstGeom prst="rect">
            <a:avLst/>
          </a:prstGeom>
          <a:noFill/>
          <a:ln w="2232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66680" y="3886200"/>
            <a:ext cx="1599840" cy="380880"/>
            <a:chOff x="1066680" y="3886200"/>
            <a:chExt cx="1599840" cy="380880"/>
          </a:xfrm>
        </p:grpSpPr>
        <p:sp>
          <p:nvSpPr>
            <p:cNvPr id="138" name=""/>
            <p:cNvSpPr/>
            <p:nvPr/>
          </p:nvSpPr>
          <p:spPr>
            <a:xfrm>
              <a:off x="1066680" y="38862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133360" y="411480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048120" y="35812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96252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39625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657600" y="3657600"/>
            <a:ext cx="1600200" cy="380880"/>
            <a:chOff x="3657600" y="3657600"/>
            <a:chExt cx="1600200" cy="380880"/>
          </a:xfrm>
        </p:grpSpPr>
        <p:sp>
          <p:nvSpPr>
            <p:cNvPr id="144" name=""/>
            <p:cNvSpPr/>
            <p:nvPr/>
          </p:nvSpPr>
          <p:spPr>
            <a:xfrm>
              <a:off x="4267080" y="36576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57600" y="38862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657600" y="4114800"/>
            <a:ext cx="1600200" cy="380880"/>
            <a:chOff x="3657600" y="4114800"/>
            <a:chExt cx="1600200" cy="380880"/>
          </a:xfrm>
        </p:grpSpPr>
        <p:sp>
          <p:nvSpPr>
            <p:cNvPr id="147" name=""/>
            <p:cNvSpPr/>
            <p:nvPr/>
          </p:nvSpPr>
          <p:spPr>
            <a:xfrm>
              <a:off x="4267080" y="41148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43434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819520" y="449568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648320"/>
            <a:ext cx="914400" cy="761760"/>
          </a:xfrm>
          <a:prstGeom prst="rect">
            <a:avLst/>
          </a:prstGeom>
          <a:noFill/>
          <a:ln w="2232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4800600"/>
            <a:ext cx="1599840" cy="380880"/>
            <a:chOff x="1066680" y="4800600"/>
            <a:chExt cx="1599840" cy="380880"/>
          </a:xfrm>
        </p:grpSpPr>
        <p:sp>
          <p:nvSpPr>
            <p:cNvPr id="152" name=""/>
            <p:cNvSpPr/>
            <p:nvPr/>
          </p:nvSpPr>
          <p:spPr>
            <a:xfrm>
              <a:off x="1066680" y="48006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133360" y="502920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048120" y="44956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487692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8769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4572000"/>
            <a:ext cx="1600200" cy="380880"/>
            <a:chOff x="3657600" y="4572000"/>
            <a:chExt cx="1600200" cy="380880"/>
          </a:xfrm>
        </p:grpSpPr>
        <p:sp>
          <p:nvSpPr>
            <p:cNvPr id="158" name=""/>
            <p:cNvSpPr/>
            <p:nvPr/>
          </p:nvSpPr>
          <p:spPr>
            <a:xfrm>
              <a:off x="4267080" y="45720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57600" y="48006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657600" y="5029200"/>
            <a:ext cx="1600200" cy="380880"/>
            <a:chOff x="3657600" y="5029200"/>
            <a:chExt cx="1600200" cy="380880"/>
          </a:xfrm>
        </p:grpSpPr>
        <p:sp>
          <p:nvSpPr>
            <p:cNvPr id="161" name=""/>
            <p:cNvSpPr/>
            <p:nvPr/>
          </p:nvSpPr>
          <p:spPr>
            <a:xfrm>
              <a:off x="4267080" y="50292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57600" y="52578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819520" y="541008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562720"/>
            <a:ext cx="914400" cy="761760"/>
          </a:xfrm>
          <a:prstGeom prst="rect">
            <a:avLst/>
          </a:prstGeom>
          <a:noFill/>
          <a:ln w="2232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066680" y="5715000"/>
            <a:ext cx="1599840" cy="380880"/>
            <a:chOff x="1066680" y="5715000"/>
            <a:chExt cx="1599840" cy="380880"/>
          </a:xfrm>
        </p:grpSpPr>
        <p:sp>
          <p:nvSpPr>
            <p:cNvPr id="166" name=""/>
            <p:cNvSpPr/>
            <p:nvPr/>
          </p:nvSpPr>
          <p:spPr>
            <a:xfrm>
              <a:off x="1066680" y="57150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 =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133360" y="594360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048120" y="5410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579132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913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5486400"/>
            <a:ext cx="1600200" cy="380880"/>
            <a:chOff x="3657600" y="5486400"/>
            <a:chExt cx="1600200" cy="380880"/>
          </a:xfrm>
        </p:grpSpPr>
        <p:sp>
          <p:nvSpPr>
            <p:cNvPr id="172" name=""/>
            <p:cNvSpPr/>
            <p:nvPr/>
          </p:nvSpPr>
          <p:spPr>
            <a:xfrm>
              <a:off x="4267080" y="54864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57600" y="5715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657600" y="5943600"/>
            <a:ext cx="1600200" cy="380880"/>
            <a:chOff x="3657600" y="5943600"/>
            <a:chExt cx="1600200" cy="380880"/>
          </a:xfrm>
        </p:grpSpPr>
        <p:sp>
          <p:nvSpPr>
            <p:cNvPr id="175" name=""/>
            <p:cNvSpPr/>
            <p:nvPr/>
          </p:nvSpPr>
          <p:spPr>
            <a:xfrm>
              <a:off x="4267080" y="5943600"/>
              <a:ext cx="990720" cy="380880"/>
            </a:xfrm>
            <a:prstGeom prst="rect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k = 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61722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178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2096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35268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i + “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k 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380988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495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819520"/>
            <a:ext cx="6858000" cy="16761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5638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819520"/>
            <a:ext cx="7010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 k 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k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50896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762120"/>
            <a:ext cx="8229600" cy="274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7621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1676520"/>
            <a:ext cx="2438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3657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423540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r (int  k =1;  k&lt;=3;  k++) {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6156360"/>
            <a:ext cx="7010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4678200"/>
            <a:ext cx="6934320" cy="51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.out.print(“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\t 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518148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568296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 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819520" y="1508040"/>
            <a:ext cx="533160" cy="1768680"/>
            <a:chOff x="2819520" y="1508040"/>
            <a:chExt cx="533160" cy="1768680"/>
          </a:xfrm>
        </p:grpSpPr>
        <p:sp>
          <p:nvSpPr>
            <p:cNvPr id="202" name=""/>
            <p:cNvSpPr/>
            <p:nvPr/>
          </p:nvSpPr>
          <p:spPr>
            <a:xfrm>
              <a:off x="3352680" y="1676520"/>
              <a:ext cx="0" cy="1600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19520" y="150804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505320" y="1219320"/>
            <a:ext cx="2666880" cy="473400"/>
            <a:chOff x="3505320" y="1219320"/>
            <a:chExt cx="2666880" cy="473400"/>
          </a:xfrm>
        </p:grpSpPr>
        <p:sp>
          <p:nvSpPr>
            <p:cNvPr id="205" name=""/>
            <p:cNvSpPr/>
            <p:nvPr/>
          </p:nvSpPr>
          <p:spPr>
            <a:xfrm>
              <a:off x="3505320" y="144792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121932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K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638680" y="169056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=1;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&lt;=3;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++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99548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=1;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&lt;=4;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++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38080" y="4800600"/>
            <a:ext cx="685800" cy="304920"/>
            <a:chOff x="838080" y="4800600"/>
            <a:chExt cx="685800" cy="304920"/>
          </a:xfrm>
        </p:grpSpPr>
        <p:sp>
          <p:nvSpPr>
            <p:cNvPr id="210" name=""/>
            <p:cNvSpPr/>
            <p:nvPr/>
          </p:nvSpPr>
          <p:spPr>
            <a:xfrm>
              <a:off x="838080" y="48006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143000" y="495324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5791320"/>
            <a:ext cx="685800" cy="304560"/>
            <a:chOff x="685800" y="5791320"/>
            <a:chExt cx="685800" cy="304560"/>
          </a:xfrm>
        </p:grpSpPr>
        <p:sp>
          <p:nvSpPr>
            <p:cNvPr id="213" name=""/>
            <p:cNvSpPr/>
            <p:nvPr/>
          </p:nvSpPr>
          <p:spPr>
            <a:xfrm>
              <a:off x="685800" y="5791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990720" y="5943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380880" y="838080"/>
            <a:ext cx="8305560" cy="5562360"/>
            <a:chOff x="380880" y="838080"/>
            <a:chExt cx="8305560" cy="5562360"/>
          </a:xfrm>
        </p:grpSpPr>
        <p:sp>
          <p:nvSpPr>
            <p:cNvPr id="216" name=""/>
            <p:cNvSpPr/>
            <p:nvPr/>
          </p:nvSpPr>
          <p:spPr>
            <a:xfrm>
              <a:off x="380880" y="1199160"/>
              <a:ext cx="8305560" cy="520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880" y="838080"/>
              <a:ext cx="8305560" cy="361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Star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Stars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6765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22096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i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&lt;=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3200400"/>
            <a:ext cx="6400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3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3733920"/>
            <a:ext cx="7162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end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4952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819520"/>
            <a:ext cx="7086600" cy="14475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94360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28600"/>
            <a:ext cx="8762760" cy="380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81952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k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&lt;=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;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)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inne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554688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40388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“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row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14400" y="3352680"/>
            <a:ext cx="685800" cy="304920"/>
            <a:chOff x="914400" y="3352680"/>
            <a:chExt cx="685800" cy="304920"/>
          </a:xfrm>
        </p:grpSpPr>
        <p:sp>
          <p:nvSpPr>
            <p:cNvPr id="231" name=""/>
            <p:cNvSpPr/>
            <p:nvPr/>
          </p:nvSpPr>
          <p:spPr>
            <a:xfrm>
              <a:off x="914400" y="3352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219320" y="3505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38080" y="4495680"/>
            <a:ext cx="685800" cy="304920"/>
            <a:chOff x="838080" y="4495680"/>
            <a:chExt cx="685800" cy="304920"/>
          </a:xfrm>
        </p:grpSpPr>
        <p:sp>
          <p:nvSpPr>
            <p:cNvPr id="234" name=""/>
            <p:cNvSpPr/>
            <p:nvPr/>
          </p:nvSpPr>
          <p:spPr>
            <a:xfrm>
              <a:off x="838080" y="4495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143000" y="46483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. Nested Loops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685800"/>
            <a:ext cx="8458200" cy="3124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858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كتب برنامج يقوم بعرض الشكل التالى على شاشة 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1219320"/>
            <a:ext cx="4191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     5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3     4     5 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666880" y="1143000"/>
            <a:ext cx="533160" cy="2514600"/>
            <a:chOff x="2666880" y="1143000"/>
            <a:chExt cx="533160" cy="2514600"/>
          </a:xfrm>
        </p:grpSpPr>
        <p:sp>
          <p:nvSpPr>
            <p:cNvPr id="241" name=""/>
            <p:cNvSpPr/>
            <p:nvPr/>
          </p:nvSpPr>
          <p:spPr>
            <a:xfrm>
              <a:off x="3200040" y="1311120"/>
              <a:ext cx="0" cy="2346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114300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733920" y="1203480"/>
            <a:ext cx="2666880" cy="473400"/>
            <a:chOff x="3733920" y="1203480"/>
            <a:chExt cx="2666880" cy="473400"/>
          </a:xfrm>
        </p:grpSpPr>
        <p:sp>
          <p:nvSpPr>
            <p:cNvPr id="244" name=""/>
            <p:cNvSpPr/>
            <p:nvPr/>
          </p:nvSpPr>
          <p:spPr>
            <a:xfrm>
              <a:off x="3733920" y="1432080"/>
              <a:ext cx="2133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3600" y="1203480"/>
              <a:ext cx="4572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Arial"/>
                </a:rPr>
                <a:t>j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867280" y="1690560"/>
            <a:ext cx="28958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2071800"/>
            <a:ext cx="2895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for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854520"/>
            <a:ext cx="7162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i 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&lt;=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  i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{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outer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4371840"/>
            <a:ext cx="64771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r (int  j =1;  j&lt;=i;  j++) {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inner loop block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6004080"/>
            <a:ext cx="7010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out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800240"/>
            <a:ext cx="57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 j + 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241960"/>
            <a:ext cx="64771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//end of inner loop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569880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.out.print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\n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new line for each 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38080" y="4876920"/>
            <a:ext cx="685800" cy="304560"/>
            <a:chOff x="838080" y="4876920"/>
            <a:chExt cx="685800" cy="304560"/>
          </a:xfrm>
        </p:grpSpPr>
        <p:sp>
          <p:nvSpPr>
            <p:cNvPr id="255" name=""/>
            <p:cNvSpPr/>
            <p:nvPr/>
          </p:nvSpPr>
          <p:spPr>
            <a:xfrm>
              <a:off x="838080" y="48769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143000" y="50292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85800" y="5791320"/>
            <a:ext cx="685800" cy="304560"/>
            <a:chOff x="685800" y="5791320"/>
            <a:chExt cx="685800" cy="304560"/>
          </a:xfrm>
        </p:grpSpPr>
        <p:sp>
          <p:nvSpPr>
            <p:cNvPr id="258" name=""/>
            <p:cNvSpPr/>
            <p:nvPr/>
          </p:nvSpPr>
          <p:spPr>
            <a:xfrm>
              <a:off x="685800" y="57913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990720" y="594360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HIND-SW</dc:creator>
  <dc:description/>
  <dc:language>en-US</dc:language>
  <cp:lastModifiedBy>Yahia</cp:lastModifiedBy>
  <dcterms:modified xsi:type="dcterms:W3CDTF">2011-06-19T09:53:37Z</dcterms:modified>
  <cp:revision>2280</cp:revision>
  <dc:subject>Programming Fundamentals</dc:subject>
  <dc:title>Control Strusture-Loops</dc:title>
</cp:coreProperties>
</file>