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973767-5505-4393-9D60-5FA8C00A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A479F5-858F-477F-AB07-65EF3F2DCE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89C-BE49-4ABB-AFDA-2C416243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642-84A1-4E2F-838A-3E98E6E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6E7-DFFA-4D83-92A9-BDE67E52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A52-57B1-47E6-94E3-A27E1FE3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74C4F-D55D-4D61-BFE4-4B08DF41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916D6-004B-480A-99B1-D2E73F25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CF4D-306D-42E3-9C2C-A0DF011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B1062-F892-4D18-A3DB-70633B1D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6CCED-F27E-47BA-BF36-1C89CD2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84585-A790-4BC5-90F8-5BE2BC25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C6F0-7C1C-462D-BDA3-BDB26E8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A00-D394-467A-B86D-4ABCDA9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83036-D8B7-4E1B-9CD8-A0D533B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DEA4-A15B-4290-A0EC-09D870A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73AA-C3A3-434F-B62C-AD77CDE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E60B-0630-404C-9256-099717FB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E22E6-74D2-48D3-BCFD-2C5249EA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8CA-DDB4-4AE9-BA28-BE84E4A4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35D-F82D-4773-9211-C50E54E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E7B-93BD-44B6-A73F-D5D0C82E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863-61BB-46E1-8822-939B2A0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C73-22EE-4CAE-A949-0BEAD10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66C-32C9-45EB-9673-8B36A77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CAA-117D-4F47-840B-AD0D09B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302DCA-F4BA-44ED-9F24-19E22783D9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08D7A1-216D-499C-9CE4-BC09BBCD9D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6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نظم التشغيل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ربط بين نظام التشغيل وجميع المكونات المادية – ماعدا اللوحة الأم – يتم من خلال برنامج خاص يسمى </a:t>
            </a: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المشغل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chemeClr val="accent1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4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كونات المادية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1C622-8002-423F-9F6F-F4F4DA8CD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واجهة تطبيقات البرامج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تتيح للمبرمجين استخدام برامج نظام التشغيل بدون الحاجة إلى تتبع تفاصيل العملية في المعالج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كل ما يفعله المبرمج هو كتابة كود للواجهة ، ثم يعطي ثقته لنظام التشغيل لتنفيذ الباقي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5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واجهة التطبيقات 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Application interface</a:t>
            </a:r>
            <a:r>
              <a:rPr b="0" lang="en-US" sz="2400" spc="-1" strike="noStrike" cap="small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2B06B-0C60-4687-86F1-1C66A7C09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جلب التفاعلية بين المستخدم والحاسب ، واجهة رسومية في أنظمة ويندوز وآبل ماكنتوش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واجهة المستخدم هي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بارة عن برنامج أو مجموعة برامج تجلس فوق نظام التشغيل نفسه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6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واجهة المستخدم 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User interface</a:t>
            </a:r>
            <a:r>
              <a:rPr b="0" lang="en-US" sz="28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44145-1338-450A-9388-BDDE90218D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000000"/>
                </a:solidFill>
                <a:latin typeface="Century Schoolbook"/>
              </a:rPr>
              <a:t>وظائف نظام التشغي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2760" cy="55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متابعة مصادر التخزين ومواقعها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من مهام نظام التشغيل التحكم بالملفات المنشأة وملفات النظام وتخزين إسترجاع البيانات وحفظها في ملفات وتذكر أسمائها وعناوينها وتحديث أي تغيرات مثل حذف ملف أو إنشاء ملف جد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4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التحكم بأجهزة النظام والاجهزة المتصلة بالحاسب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عمل نظام التشغيل على تنظيم المدخلات والمخرجات ويستخدم منطقة تسمى 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Century Schoolbook"/>
              </a:rPr>
              <a:t>Buffer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حفظ بها كل مايتم إدخاله إلى الحاسب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إحتفاظ بكل ضربة مفتاح من لوحة المفاتيح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000000"/>
                </a:solidFill>
                <a:latin typeface="Century Schoolbook"/>
              </a:rPr>
              <a:t>وظائف نظام التشغي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762760" cy="55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5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توفير واجهة العمل على الجهاز (سطح المكتب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تكون واجهة سطح المكتب من مجموعة من القوائم والأيقونات , كل برنامج يُحمّل على الجهاز لابد أن يعمل ضمن هذه الواجه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6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تمكين البرامج من العمل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عمل نظام التشغيل على تشغيل البرامج بمختلف أنواعها وتحميلها إلى الذاكرة أثناء العمل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برنامج دايركت إكس وهو برنامج لتشغيل الوسائط المتعدد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مزايا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الإستخدام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قدرة على القيام بأكثر من عملية في نفس الوقت مثل:طباعة ملف والعمل على ملف آخر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الإنتقال من برنامج إلى آخر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سهولة نقل المعلومات وتبادلها بين البرامج أو الملفات المختلف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إمكانية نقل المعلومات والملفات بين أجهزة الحاسب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التحكم بأكثر من معالج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73040" indent="-47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عدد ونوعية البرامج التي يتم تشغيلها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طريقة عمل الحاسب الآلي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ُخزن تعليمات نظام التشغيل في جزء يُسمى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BIO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ويوجد في ذاكرة 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2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عند تشغيل الحاسب يبدأ النظام بعملية تسمى التحفيز الذاتي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Booting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وتتضمن عملية إختبار ذاتي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Post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يكشف النظام عن كل ما هو متصل بالحاسب من ذاكرة أو شرائح أو وحدات تخزين أو لوحة مفاتيح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طريقة عمل الحاسب الآلي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1012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يتم البحث عن نظام التشغيل لتحميله . يبدأ البحث في الأقراص الخارجية أولاً مثل: القرص المرن أو القرص المدمج,ثم ينتقل إلى القرص الصلب وبعدها يتم تحميل النظام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ar-SA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تكتمل عملية التحميل وتظهر واجهة المستخدم ويصبح الحاسب جاهز للعمل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entury Schoolbook"/>
              </a:rPr>
              <a:t> يمكن تقسم فئات نظام التشغيل على حسب 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1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طريقة العمل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2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عدد المستخدمين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3</a:t>
            </a: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- نوع المهم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الزمن الحقيقي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ستجيب لجميع التعليمات فور تلقيها ولايكون هناك فرق بين دخول البيانات وخروجها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rgbClr val="1f497d"/>
                </a:solidFill>
                <a:latin typeface="Century Schoolbook"/>
              </a:rPr>
              <a:t> نظام التشغيل المستخدم في الألعاب الإلكترونية و الأجهزة الأوتوماتيكية مثل أجهزة الصراف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2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مهمة واحدة ومستخدم واح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عمل على تحليل مهمة واحدة لمستخدم واحد في نفس الوقت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أنظمة تشغيل الأجهزة الرقمية المساعدة والهواتف الجوالة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entury Schoolbook"/>
              </a:rPr>
              <a:t>اذا يحمل نظام التشغيل برامج المستخدم في الذاكرة ويشغلها بالمعالج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يقوم نظام التشغيل بدورين رئيسيين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دارة المكونات المادية والبرمجية للحاسب ، مثل : المعالج / الذاكرة ... الخ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يعمل بطريقة فعالة لربط التطبيقات بالمكونات المادية بدون معرفة تفاصيلها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i="1" lang="ar-SA" sz="54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نظام التشغيل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مستطيل 6"/>
          <p:cNvSpPr/>
          <p:nvPr/>
        </p:nvSpPr>
        <p:spPr>
          <a:xfrm>
            <a:off x="571320" y="2071800"/>
            <a:ext cx="7857720" cy="1552680"/>
          </a:xfrm>
          <a:prstGeom prst="rect">
            <a:avLst/>
          </a:prstGeom>
          <a:gradFill rotWithShape="0">
            <a:gsLst>
              <a:gs pos="0">
                <a:srgbClr val="e4f9c8"/>
              </a:gs>
              <a:gs pos="100000">
                <a:srgbClr val="c9f67f"/>
              </a:gs>
            </a:gsLst>
            <a:path path="circle">
              <a:fillToRect l="0" t="95000" r="100000" b="5000"/>
            </a:path>
          </a:gradFill>
          <a:ln>
            <a:solidFill>
              <a:srgbClr val="8bb537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A" sz="2400" spc="-1" strike="noStrike">
                <a:solidFill>
                  <a:schemeClr val="dk1"/>
                </a:solidFill>
                <a:latin typeface="Century Schoolbook"/>
              </a:rPr>
              <a:t>هو عبارة عن حزمة برامج تجعل جهاز الحاسب يعمل بشكل صحيح ، يقوم بإخبار الحاسب كيف يتعامل مع البرامج الأخرى و يتحكم في المكونات المادية المركبة على الجها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A45A-5624-4055-883E-69A9A270A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000" spc="-1" strike="noStrike" cap="small">
                <a:solidFill>
                  <a:srgbClr val="000000"/>
                </a:solidFill>
                <a:latin typeface="Century Schoolbook"/>
              </a:rPr>
              <a:t>فئات نظام التشغيل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3"/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أكثر من مهمة ومستخدم واح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العمل على أكثر من مهمة في نفس الوقت لمستخدم واحد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 :</a:t>
            </a:r>
            <a:r>
              <a:rPr b="0" lang="en-US" sz="3200" spc="-1" strike="noStrike">
                <a:solidFill>
                  <a:srgbClr val="1f497d"/>
                </a:solidFill>
                <a:latin typeface="Century Schoolbook"/>
              </a:rPr>
              <a:t> أجهزة الحاسبات الشخصية 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 startAt="4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1">
                    <a:lumMod val="50000"/>
                  </a:schemeClr>
                </a:solidFill>
                <a:latin typeface="Century Schoolbook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entury Schoolbook"/>
              </a:rPr>
              <a:t>نظام أكثر من مهمة وأكثر من مستخد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و نظام يعمل على أكثر من مهمة في نفس الوقت,ويمكن للنظام أن يتحكم ويوزع العمل على أكثر من معالج في نفس الوقت </a:t>
            </a:r>
            <a:r>
              <a:rPr b="0" lang="ar-SA" sz="3200" spc="-1" strike="noStrike">
                <a:solidFill>
                  <a:srgbClr val="ff0000"/>
                </a:solidFill>
                <a:latin typeface="Century Schoolbook"/>
              </a:rPr>
              <a:t>مثل: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حجز الطيران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0980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واجهة المستخدم الرسومية( 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GUI</a:t>
            </a:r>
            <a:r>
              <a:rPr b="0" lang="en-US" sz="24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2</a:t>
            </a:r>
            <a:r>
              <a:rPr b="0" lang="en-US" sz="27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مترجم الأوامر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rgbClr val="10243e"/>
                </a:solidFill>
                <a:latin typeface="Century Schoolbook"/>
              </a:rPr>
              <a:t>يسمح للمستخدم الخبير بالاستفادة من الحاسوب من خلال كتابه اوامر نصية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. واجهة نداء النظام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0980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ar-SA" sz="2700" spc="-1" strike="noStrike">
                <a:solidFill>
                  <a:srgbClr val="10243e"/>
                </a:solidFill>
                <a:latin typeface="Century Schoolbook"/>
              </a:rPr>
              <a:t>يوصل برامج المستخدم بالمكونات المادية 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واجهات نظام التشغيل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167F-6427-4F42-945D-A0C058C76A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467120" cy="44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تنشيط مشغل الأقراص والبحث عن الجزء الأول من نظام التشغيل الذي يسمى بـ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ootstrap load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Bootstrap</a:t>
            </a:r>
            <a:r>
              <a:rPr b="0" lang="en-US" sz="21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entury Schoolbook"/>
              </a:rPr>
              <a:t> </a:t>
            </a: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loader</a:t>
            </a:r>
            <a:r>
              <a:rPr b="0" lang="en-US" sz="21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 : هو عبارة عن برنامج صغير لديه مهمة واحدة وهي تحميل نظام التشغيل من القرص إلى الذاكرة والسماح له ببدء التحكم في الحاسب </a:t>
            </a:r>
            <a:r>
              <a:rPr b="0" lang="en-US" sz="21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فحص المكونات المادية والتأكد من سلامتها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، من خلال برنامج يقوم بالكشف عن الاخطاء الناتجة من المعالج والذاكرة وأنظمة الدخل والخرج الأساسية ويخزنها في ذاكرة خاص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7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الوظائف الأساسية لأي نظام تشغيل </a:t>
            </a:r>
            <a:br>
              <a:rPr sz="3000"/>
            </a:b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يقوم الحاسب عند تشغيله بتنفيذ مجموعة تعليمات مخزنة على ذاكرة الحاسب 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ROM</a:t>
            </a: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  تقوم بـ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BED70-8565-4F90-86E6-17F3EE6AFC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معالج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ذاكر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عملية التخزين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إدارة المكونات المادية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واجهة التطبيقات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واجهة المستخد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Century Schoolbook"/>
              </a:rPr>
              <a:t>تتلخص وظائف نظام التشغيل في 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3DA1-8BCB-4A10-BBFC-1588832FE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قلب إدارة المعالج يقتصر على أمرين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2560" indent="-50400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تأكد من أن كل عملية وتطبيق تتلقى الزمن الكافي من وقت المعالج للعمل بشكل سليم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2560" indent="-50400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ستعمال أكبر عدد ممكن من عمليات المعالج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11640" indent="-5040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في نوع نظام التشغيل ذو المهمة الواحدة مثل نظام دوس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كون جدولة المهام بسيطة ومباشرة ولا يتوقف تنفيذ برنامج معين إلا بالمقاطعات أو مدخلات المستخدم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11640" indent="-5040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في نظام التشغيل متعدد المهام مثل نظام ويندوز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عملية معقدة أكثر لأنه لا يمكن تنفيذ أكثر من عملية في الوقت ذاته ، ولكي يظهر لك تنفيذ عدة مهام في نفس الوقت يجب على نظام التشغيل أن يتنقل بين مختلف العمليات آلاف المرات في ثاني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1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عالج 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5E93-42B9-41F4-A730-D0D3DC629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يوجد نوعان من أنظمة التشغيل التي تستعمل أكثر من معالج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تناظري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ymmetric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: يوزع الأحمال على جميع المعالجات بالتساوي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غير تناظري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ymmetric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: يستعمل معالج خاص لنظام التشغيل وباقي المعالجات للتطبيقات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1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معالج . ( تابع 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663A-849C-4416-8838-DDC2B440D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توجد مهمتان يجب على نظام التشغيل تلبيتها عند إدارة الذاكرة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جب توفير ذاكرة كافية لكل عملية عند التنفيذ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020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entury Schoolbook"/>
              <a:buAutoNum type="arabicPeriod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يجب استخدام جميع أنواع الذاكرة المتاحة في النظام بطريقة صحيحة 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عندما تمتلئ الذاكرة الأصل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يضاف إلى الذاكرة الأصلية ذاكرة وهمية متواجدة متواجدة بالقرص الصلب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&amp;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ذاكرة والتخزين 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27804-F235-46B9-B8F4-7948855D9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أنواع الذاكرة المستعملة في الحاسب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che memor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سريعة جدا وحجمها صغير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ذاكرة الرئيس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ويقاس حجمها بالميجا باي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ذاكرة الثانوية أو الوهمية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rtu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: جزء من القرص وتعتبر الأبطأ بالمقارنة مع الانواع الأخرى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chemeClr val="accent1"/>
                </a:solidFill>
                <a:latin typeface="Century Schoolbook"/>
              </a:rPr>
              <a:t>يجب على نظام التشغيل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وازنة الاحتياجات لمختلف البرامج بين مختلف أنواع الذاكر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242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نقل البيانات على شكل مجموعات تسمى صفحا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&amp;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0" lang="en-US" sz="4400" spc="-1" strike="noStrike" cap="small">
                <a:solidFill>
                  <a:srgbClr val="1f497d"/>
                </a:solidFill>
                <a:latin typeface="Century Schoolbook"/>
              </a:rPr>
              <a:t>) إدارة الذاكرة والتخزين . ( تابع 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8EEBC-6EFA-484D-B3CB-EF04F7F794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76</TotalTime>
  <Application>LibreOffice/7.4.7.2$Linux_X86_64 LibreOffice_project/40$Build-2</Application>
  <AppVersion>15.0000</AppVersion>
  <Words>1041</Words>
  <Paragraphs>1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4:00Z</dcterms:modified>
  <cp:revision>515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