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86803-D6DF-46EC-AE54-D52D6C405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86ECC-DF3F-4E3E-9DA5-062844BB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15B96-B9F3-4255-8044-4EC980477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4705E-2A65-4513-87C1-80D6A5CC3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1D5C3-A779-4315-ABC9-B0100921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1702D-FA0F-439C-82DC-9D2618FB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5C231-7C8A-40AD-A2B4-1848FFC8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CF279-37C6-4AFA-8D30-0D4CBA42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A35D1-1ADE-4AEA-B1F2-1123645F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3D58F-3882-48D0-9608-4940EBAA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D57AA-72E2-43D9-B80D-8B90FE5D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5B683-4C2F-4816-A478-D1718C08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4f81bd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Straight Connector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4f81bd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Straight Connector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4" name="Straight Connector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Oval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4f81bd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en-US" sz="3000" spc="-1" strike="noStrike" cap="small">
                <a:solidFill>
                  <a:srgbClr val="1f497d"/>
                </a:solidFill>
                <a:latin typeface="Century Schoolbook"/>
              </a:rPr>
              <a:t>Click to edit Master title styl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econd leve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 algn="r" rtl="1">
              <a:lnSpc>
                <a:spcPct val="100000"/>
              </a:lnSpc>
              <a:spcBef>
                <a:spcPts val="360"/>
              </a:spcBef>
              <a:buClr>
                <a:srgbClr val="4571a6"/>
              </a:buClr>
              <a:buSzPct val="60000"/>
              <a:buFont typeface="Wingdings" charset="2"/>
              <a:buChar char="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 algn="r" rtl="1">
              <a:lnSpc>
                <a:spcPct val="100000"/>
              </a:lnSpc>
              <a:spcBef>
                <a:spcPts val="360"/>
              </a:spcBef>
              <a:buClr>
                <a:srgbClr val="b2c0da"/>
              </a:buClr>
              <a:buSzPct val="60000"/>
              <a:buFont typeface="Wingdings" charset="2"/>
              <a:buChar char="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 algn="r" rtl="1">
              <a:lnSpc>
                <a:spcPct val="100000"/>
              </a:lnSpc>
              <a:spcBef>
                <a:spcPts val="320"/>
              </a:spcBef>
              <a:buClr>
                <a:srgbClr val="dcb2b2"/>
              </a:buClr>
              <a:buSzPct val="68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07473FF-EAE6-46F5-B81B-068AAE6B95C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066680" y="1523880"/>
            <a:ext cx="68576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</a:pP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6600" spc="-1" strike="noStrike">
                <a:solidFill>
                  <a:srgbClr val="262626"/>
                </a:solidFill>
                <a:latin typeface="Century Schoolbook"/>
              </a:rPr>
              <a:t> </a:t>
            </a:r>
            <a:r>
              <a:rPr b="1" lang="ar-DZ" sz="6600" spc="-1" strike="noStrike">
                <a:solidFill>
                  <a:srgbClr val="262626"/>
                </a:solidFill>
                <a:latin typeface="Century Schoolbook"/>
              </a:rPr>
              <a:t>المحاضرة</a:t>
            </a:r>
            <a:r>
              <a:rPr b="1" lang="en-US" sz="6600" spc="-1" strike="noStrike">
                <a:solidFill>
                  <a:srgbClr val="262626"/>
                </a:solidFill>
                <a:latin typeface="Century Schoolbook"/>
              </a:rPr>
              <a:t> </a:t>
            </a:r>
            <a:r>
              <a:rPr b="1" lang="en-US" sz="6600" spc="-1" strike="noStrike">
                <a:solidFill>
                  <a:srgbClr val="262626"/>
                </a:solidFill>
                <a:latin typeface="Century Schoolbook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14200" y="1714680"/>
            <a:ext cx="60717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Symbol"/>
              <a:buChar char="·"/>
            </a:pPr>
            <a:r>
              <a:rPr b="0" lang="ar-SA" sz="2400" spc="-1" strike="noStrike">
                <a:solidFill>
                  <a:srgbClr val="000080"/>
                </a:solidFill>
                <a:latin typeface="Century Schoolbook"/>
              </a:rPr>
              <a:t>أهمية إيقاف تشغيل الحاسوب بشكل صحيح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Symbol"/>
              <a:buChar char="·"/>
            </a:pPr>
            <a:r>
              <a:rPr b="0" lang="ar-SA" sz="2400" spc="-1" strike="noStrike">
                <a:solidFill>
                  <a:srgbClr val="000080"/>
                </a:solidFill>
                <a:latin typeface="Century Schoolbook"/>
              </a:rPr>
              <a:t>استخدام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GB" sz="2400" spc="-1" strike="noStrike">
                <a:solidFill>
                  <a:srgbClr val="000080"/>
                </a:solidFill>
                <a:latin typeface="Century Schoolbook"/>
              </a:rPr>
              <a:t>UPS (</a:t>
            </a:r>
            <a:r>
              <a:rPr b="0" lang="en-GB" sz="2000" spc="-1" strike="noStrike">
                <a:solidFill>
                  <a:srgbClr val="000080"/>
                </a:solidFill>
                <a:latin typeface="Century Schoolbook"/>
              </a:rPr>
              <a:t>Un-interruptible Power Supply</a:t>
            </a:r>
            <a:r>
              <a:rPr b="0" lang="en-US" sz="2400" spc="-1" strike="noStrike">
                <a:solidFill>
                  <a:srgbClr val="00008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Symbol"/>
              <a:buChar char="·"/>
            </a:pPr>
            <a:r>
              <a:rPr b="0" lang="ar-SA" sz="2400" spc="-1" strike="noStrike">
                <a:solidFill>
                  <a:srgbClr val="000080"/>
                </a:solidFill>
                <a:latin typeface="Century Schoolbook"/>
              </a:rPr>
              <a:t>الوقاية من مخاطر الارتفاع المفاجئ في الجهد الكهربائي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6573960" y="2286000"/>
            <a:ext cx="2569680" cy="2666520"/>
          </a:xfrm>
          <a:prstGeom prst="rect">
            <a:avLst/>
          </a:prstGeom>
          <a:ln w="9525">
            <a:noFill/>
          </a:ln>
        </p:spPr>
      </p:pic>
      <p:sp>
        <p:nvSpPr>
          <p:cNvPr id="76" name="PlaceHolder 2"/>
          <p:cNvSpPr>
            <a:spLocks noGrp="1"/>
          </p:cNvSpPr>
          <p:nvPr>
            <p:ph type="sldNum" idx="12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95231C0-D379-4590-893C-45E622BD1A0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ar-SA" sz="6600" spc="-1" strike="noStrike" cap="small">
                <a:solidFill>
                  <a:srgbClr val="000000"/>
                </a:solidFill>
                <a:latin typeface="Century Schoolbook"/>
                <a:cs typeface="MCS Gulf S_U normal."/>
              </a:rPr>
              <a:t>توفير بيئة عمل جيدة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914400" y="1285920"/>
            <a:ext cx="7772040" cy="52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 rtl="1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3600" spc="-1" strike="noStrike">
                <a:solidFill>
                  <a:srgbClr val="000000"/>
                </a:solidFill>
                <a:latin typeface="Times New Roman Backslanted"/>
              </a:rPr>
              <a:t>أشياء يجب توفرها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9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80"/>
                </a:solidFill>
                <a:latin typeface="Times New Roman Backslanted"/>
              </a:rPr>
              <a:t>تهوية جيدة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9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80"/>
                </a:solidFill>
                <a:latin typeface="Times New Roman Backslanted"/>
              </a:rPr>
              <a:t>بيئة نظيفة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9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80"/>
                </a:solidFill>
                <a:latin typeface="Times New Roman Backslanted"/>
              </a:rPr>
              <a:t>سطح ثابت خالِ من أي اهتزازات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3600" spc="-1" strike="noStrike">
                <a:solidFill>
                  <a:srgbClr val="000000"/>
                </a:solidFill>
                <a:latin typeface="Times New Roman Backslanted"/>
              </a:rPr>
              <a:t>أشياء يجب تجنبها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9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80"/>
                </a:solidFill>
                <a:latin typeface="Times New Roman Backslanted"/>
              </a:rPr>
              <a:t>الغبار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9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80"/>
                </a:solidFill>
                <a:latin typeface="Times New Roman Backslanted"/>
              </a:rPr>
              <a:t>الأكل أو الشرب على لوحة المفاتيح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9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80"/>
                </a:solidFill>
                <a:latin typeface="Times New Roman Backslanted"/>
              </a:rPr>
              <a:t>الحرارة أو البرودة أو الرطوبة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9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80"/>
                </a:solidFill>
                <a:latin typeface="Times New Roman Backslanted"/>
              </a:rPr>
              <a:t>وضع أشياء فوق الشاشة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9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80"/>
                </a:solidFill>
                <a:latin typeface="Times New Roman Backslanted"/>
              </a:rPr>
              <a:t>وضع أقراص مرنة بالقرب من الشاشة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9" name="Picture 4" descr="bd00028_"/>
          <p:cNvPicPr/>
          <p:nvPr/>
        </p:nvPicPr>
        <p:blipFill>
          <a:blip r:embed="rId1"/>
          <a:stretch/>
        </p:blipFill>
        <p:spPr>
          <a:xfrm>
            <a:off x="500040" y="2214720"/>
            <a:ext cx="2285640" cy="2239560"/>
          </a:xfrm>
          <a:prstGeom prst="rect">
            <a:avLst/>
          </a:prstGeom>
          <a:ln w="9525">
            <a:noFill/>
          </a:ln>
        </p:spPr>
      </p:pic>
      <p:sp>
        <p:nvSpPr>
          <p:cNvPr id="80" name="PlaceHolder 2"/>
          <p:cNvSpPr>
            <a:spLocks noGrp="1"/>
          </p:cNvSpPr>
          <p:nvPr>
            <p:ph type="sldNum" idx="13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27820CC-14FF-4D36-B02A-D99E71982A7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ar-SA" sz="6600" spc="-1" strike="noStrike" cap="small">
                <a:solidFill>
                  <a:srgbClr val="000000"/>
                </a:solidFill>
                <a:latin typeface="Century Schoolbook"/>
                <a:cs typeface="MCS Gulf S_U normal."/>
              </a:rPr>
              <a:t>توفير بيئة عمل جيدة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ar-SA" sz="3000" spc="-1" strike="noStrike" cap="small">
                <a:solidFill>
                  <a:srgbClr val="1f497d"/>
                </a:solidFill>
                <a:latin typeface="Times New Roman Backslanted"/>
                <a:cs typeface="Mudir MT"/>
              </a:rPr>
              <a:t>أهمية النسخ الاحتياطي لملفات الحاسوب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85840" y="1285920"/>
            <a:ext cx="6428880" cy="52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rgbClr val="000080"/>
                </a:solidFill>
                <a:latin typeface="Times New Roman Backslanted"/>
              </a:rPr>
              <a:t>إن أهم شيء تقوم بتخزينه على الحاسوب الخاص بك هي المعلوما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rgbClr val="000080"/>
                </a:solidFill>
                <a:latin typeface="Times New Roman Backslanted"/>
              </a:rPr>
              <a:t>عادةً ما تمثل محتويات القرص الصلب خلاصة سنوات من العمل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rgbClr val="000080"/>
                </a:solidFill>
                <a:latin typeface="Times New Roman Backslanted"/>
              </a:rPr>
              <a:t>فإذا توقف القرص الصلب عن العمل، من الممكن أن تفقد كل هذا المجهود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rgbClr val="000080"/>
                </a:solidFill>
                <a:latin typeface="Times New Roman Backslanted"/>
              </a:rPr>
              <a:t>لذلك، من الواجب عليك إنشاء نسخ احتياطية بشكل منتظم من المعلومات المخزنة على الحاسوب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6686640" y="2209680"/>
            <a:ext cx="2457000" cy="2719080"/>
          </a:xfrm>
          <a:prstGeom prst="rect">
            <a:avLst/>
          </a:prstGeom>
          <a:ln w="9525">
            <a:noFill/>
          </a:ln>
        </p:spPr>
      </p:pic>
      <p:sp>
        <p:nvSpPr>
          <p:cNvPr id="85" name="PlaceHolder 3"/>
          <p:cNvSpPr>
            <a:spLocks noGrp="1"/>
          </p:cNvSpPr>
          <p:nvPr>
            <p:ph type="sldNum" idx="14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DD0A56D-C2EF-4EA6-A0BB-1194B3A24E6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6257880" y="2286000"/>
            <a:ext cx="2885760" cy="2885760"/>
          </a:xfrm>
          <a:prstGeom prst="rect">
            <a:avLst/>
          </a:prstGeom>
          <a:ln w="9525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28760" y="1714680"/>
            <a:ext cx="6071760" cy="43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 rtl="1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</a:rPr>
              <a:t>ما هي فيروسات الحاسوب؟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9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80"/>
                </a:solidFill>
                <a:latin typeface="Times New Roman Backslanted"/>
              </a:rPr>
              <a:t>هي برامج </a:t>
            </a:r>
            <a:r>
              <a:rPr b="1" lang="ar-SA" sz="2100" spc="-1" strike="noStrike">
                <a:solidFill>
                  <a:srgbClr val="000080"/>
                </a:solidFill>
                <a:latin typeface="Times New Roman Backslanted"/>
              </a:rPr>
              <a:t>تخريبية</a:t>
            </a:r>
            <a:r>
              <a:rPr b="0" lang="en-US" sz="2100" spc="-1" strike="noStrike">
                <a:solidFill>
                  <a:srgbClr val="000080"/>
                </a:solidFill>
                <a:latin typeface="Times New Roman Backslanted"/>
              </a:rPr>
              <a:t> صغيرة تختفي في موضع ما على الأقراص الخاصة بك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9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80"/>
                </a:solidFill>
                <a:latin typeface="Times New Roman Backslanted"/>
              </a:rPr>
              <a:t>تنشط الفيروسات بطرق مختلفة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9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80"/>
                </a:solidFill>
                <a:latin typeface="Times New Roman Backslanted"/>
              </a:rPr>
              <a:t>إذا لم تكن تستخدم برنامج مضاد للفيروسات فأن بياناتك وجهازك عرضة التخريب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Num" idx="15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D290A63-548F-4407-B68C-BE3594E6E83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642960" y="71280"/>
            <a:ext cx="77720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ar-SA" sz="6600" spc="-1" strike="noStrike">
                <a:solidFill>
                  <a:srgbClr val="000000"/>
                </a:solidFill>
                <a:latin typeface="Simplified Arabic Backslanted"/>
                <a:cs typeface="MCS Gulf S_U normal."/>
              </a:rPr>
              <a:t>فيروسات الحاسو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bd06551_"/>
          <p:cNvPicPr/>
          <p:nvPr/>
        </p:nvPicPr>
        <p:blipFill>
          <a:blip r:embed="rId1"/>
          <a:stretch/>
        </p:blipFill>
        <p:spPr>
          <a:xfrm>
            <a:off x="5600880" y="2514600"/>
            <a:ext cx="3400200" cy="2779200"/>
          </a:xfrm>
          <a:prstGeom prst="rect">
            <a:avLst/>
          </a:prstGeom>
          <a:ln w="9525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14200" y="1571760"/>
            <a:ext cx="5857560" cy="46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 rtl="1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</a:rPr>
              <a:t>كيف يصيب الفيروس الحاسوب؟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9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80"/>
                </a:solidFill>
                <a:latin typeface="Times New Roman Backslanted"/>
              </a:rPr>
              <a:t>تختفي الفيروسات على أي قرص وعندما تصل إلى القرص (إما قرص مرن أو قرص صلب آخر عبر شبكة)، يبدأ برنامج الفيروس بالعمل ويصيب الحاسوب الذي تعمل عليه.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9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80"/>
                </a:solidFill>
                <a:latin typeface="Times New Roman Backslanted"/>
              </a:rPr>
              <a:t>أسوأ شيء في الفيروسات هو أنها يمكن أن تنتشر من حاسوب لآخر (من خلال استخدام قرص مرن به فيروس) أو عبر شبكة من الحواسيب، بما في الإنترنت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Num" idx="16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41D3B2F-619A-4E47-957F-B1C787DE278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642960" y="71280"/>
            <a:ext cx="77720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ar-SA" sz="6600" spc="-1" strike="noStrike">
                <a:solidFill>
                  <a:srgbClr val="000000"/>
                </a:solidFill>
                <a:latin typeface="Simplified Arabic Backslanted"/>
                <a:cs typeface="MCS Gulf S_U normal."/>
              </a:rPr>
              <a:t>فيروسات الحاسو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6791400" y="2666880"/>
            <a:ext cx="2209320" cy="1874520"/>
          </a:xfrm>
          <a:prstGeom prst="rect">
            <a:avLst/>
          </a:prstGeom>
          <a:ln w="9525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14200" y="1500120"/>
            <a:ext cx="6928920" cy="47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 rtl="1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</a:rPr>
              <a:t>كيفية حماية الحاسوب من مخاطر الفيروسات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80"/>
                </a:solidFill>
                <a:latin typeface="Times New Roman Backslanted"/>
              </a:rPr>
              <a:t>هناك عدد كبير من البرامج المضادة للفيروسات مثل: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 algn="just" rtl="1">
              <a:lnSpc>
                <a:spcPct val="100000"/>
              </a:lnSpc>
              <a:spcBef>
                <a:spcPts val="360"/>
              </a:spcBef>
              <a:buClr>
                <a:srgbClr val="4571a6"/>
              </a:buClr>
              <a:buSzPct val="60000"/>
              <a:buFont typeface="Wingdings" charset="2"/>
              <a:buChar char=""/>
            </a:pPr>
            <a:r>
              <a:rPr b="0" lang="en-US" sz="1800" spc="-1" strike="noStrike">
                <a:solidFill>
                  <a:srgbClr val="000080"/>
                </a:solidFill>
                <a:latin typeface="Times New Roman Backslanted"/>
              </a:rPr>
              <a:t>Norton, MacAfee, Nod32, AVG, PC-Cillin</a:t>
            </a:r>
            <a:r>
              <a:rPr b="0" lang="en-US" sz="1800" spc="-1" strike="noStrike">
                <a:solidFill>
                  <a:srgbClr val="000080"/>
                </a:solidFill>
                <a:latin typeface="Times New Roman Backslante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80"/>
                </a:solidFill>
                <a:latin typeface="Times New Roman Backslanted"/>
              </a:rPr>
              <a:t>أهم شيء بالنسبة للبرنامج المضاد للفيروسات الذي ستستخدمه هو أن تقوم بتحديثه بشكل دائم.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80"/>
                </a:solidFill>
                <a:latin typeface="Times New Roman Backslanted"/>
              </a:rPr>
              <a:t>تقدم الكثير من الشركات أقراص تحديث بشكل منتظم أو تتيح لك الحصول على نسخة محدثة من خلال الإنترنت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ldNum" idx="17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C11C779-D505-4BA5-8780-1D529913B18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42960" y="71280"/>
            <a:ext cx="77720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ar-SA" sz="6600" spc="-1" strike="noStrike">
                <a:solidFill>
                  <a:srgbClr val="000000"/>
                </a:solidFill>
                <a:latin typeface="Simplified Arabic Backslanted"/>
                <a:cs typeface="MCS Gulf S_U normal."/>
              </a:rPr>
              <a:t>فيروسات الحاسو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ar-SA" sz="3000" spc="-1" strike="noStrike" cap="small">
                <a:solidFill>
                  <a:srgbClr val="1f497d"/>
                </a:solidFill>
                <a:latin typeface="Century Schoolbook"/>
                <a:cs typeface="Mudir MT"/>
              </a:rPr>
              <a:t>حقوق النسخ الخاصة بالبرامج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85840" y="1600200"/>
            <a:ext cx="85723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entury Schoolbook"/>
              </a:rPr>
              <a:t>أنواع البرامج تبعاً للمصدر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Symbol"/>
              <a:buChar char="·"/>
              <a:tabLst>
                <a:tab algn="l" pos="0"/>
              </a:tabLst>
            </a:pPr>
            <a:r>
              <a:rPr b="0" lang="ar-SA" sz="2800" spc="-1" strike="noStrike">
                <a:solidFill>
                  <a:srgbClr val="000080"/>
                </a:solidFill>
                <a:latin typeface="Times New Roman Backslanted"/>
              </a:rPr>
              <a:t>البرامج المجانية</a:t>
            </a:r>
            <a:r>
              <a:rPr b="0" lang="en-US" sz="2800" spc="-1" strike="noStrike">
                <a:solidFill>
                  <a:srgbClr val="000080"/>
                </a:solidFill>
                <a:latin typeface="Times New Roman Backslanted"/>
              </a:rPr>
              <a:t>  </a:t>
            </a:r>
            <a:r>
              <a:rPr b="0" lang="en-US" sz="2800" spc="-1" strike="noStrike">
                <a:solidFill>
                  <a:srgbClr val="000080"/>
                </a:solidFill>
                <a:latin typeface="Times New Roman Backslanted"/>
              </a:rPr>
              <a:t>Freewar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Symbol"/>
              <a:buChar char="·"/>
              <a:tabLst>
                <a:tab algn="l" pos="0"/>
              </a:tabLst>
            </a:pPr>
            <a:r>
              <a:rPr b="0" lang="ar-SA" sz="2800" spc="-1" strike="noStrike">
                <a:solidFill>
                  <a:srgbClr val="000080"/>
                </a:solidFill>
                <a:latin typeface="Times New Roman Backslanted"/>
                <a:cs typeface="Arial"/>
              </a:rPr>
              <a:t>البرامج التجريبية </a:t>
            </a:r>
            <a:r>
              <a:rPr b="0" lang="en-US" sz="2800" spc="-1" strike="noStrike">
                <a:solidFill>
                  <a:srgbClr val="000080"/>
                </a:solidFill>
                <a:latin typeface="Times New Roman Backslanted"/>
              </a:rPr>
              <a:t>Sharewar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Symbol"/>
              <a:buChar char="·"/>
              <a:tabLst>
                <a:tab algn="l" pos="0"/>
              </a:tabLst>
            </a:pPr>
            <a:r>
              <a:rPr b="0" lang="ar-SA" sz="2800" spc="-1" strike="noStrike">
                <a:solidFill>
                  <a:srgbClr val="000080"/>
                </a:solidFill>
                <a:latin typeface="Times New Roman Backslanted"/>
                <a:cs typeface="Arial"/>
              </a:rPr>
              <a:t>البرامج التي تجدها على الإنترنت </a:t>
            </a:r>
            <a:r>
              <a:rPr b="0" lang="en-US" sz="2800" spc="-1" strike="noStrike">
                <a:solidFill>
                  <a:srgbClr val="000080"/>
                </a:solidFill>
                <a:latin typeface="Times New Roman Backslanted"/>
              </a:rPr>
              <a:t>Public Domain Softwar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Symbol"/>
              <a:buChar char="·"/>
              <a:tabLst>
                <a:tab algn="l" pos="0"/>
              </a:tabLst>
            </a:pPr>
            <a:r>
              <a:rPr b="0" lang="ar-SA" sz="2800" spc="-1" strike="noStrike">
                <a:solidFill>
                  <a:srgbClr val="000080"/>
                </a:solidFill>
                <a:latin typeface="Times New Roman Backslanted"/>
                <a:cs typeface="Arial"/>
              </a:rPr>
              <a:t>البرامج المفتوحة المصدر </a:t>
            </a:r>
            <a:r>
              <a:rPr b="0" lang="en-US" sz="2800" spc="-1" strike="noStrike">
                <a:solidFill>
                  <a:srgbClr val="000080"/>
                </a:solidFill>
                <a:latin typeface="Times New Roman Backslanted"/>
              </a:rPr>
              <a:t>Open Source Softwar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00" name="Picture 5" descr="pe02668_"/>
          <p:cNvPicPr/>
          <p:nvPr/>
        </p:nvPicPr>
        <p:blipFill>
          <a:blip r:embed="rId1"/>
          <a:stretch/>
        </p:blipFill>
        <p:spPr>
          <a:xfrm>
            <a:off x="1071720" y="4406760"/>
            <a:ext cx="3335040" cy="2450880"/>
          </a:xfrm>
          <a:prstGeom prst="rect">
            <a:avLst/>
          </a:prstGeom>
          <a:ln w="9525">
            <a:noFill/>
          </a:ln>
        </p:spPr>
      </p:pic>
      <p:sp>
        <p:nvSpPr>
          <p:cNvPr id="101" name="PlaceHolder 3"/>
          <p:cNvSpPr>
            <a:spLocks noGrp="1"/>
          </p:cNvSpPr>
          <p:nvPr>
            <p:ph type="sldNum" idx="18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D62A916-F261-4BFA-B6E3-E3947987962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SA" sz="3000" spc="-1" strike="noStrike" cap="small">
                <a:solidFill>
                  <a:srgbClr val="1f497d"/>
                </a:solidFill>
                <a:latin typeface="Times New Roman Backslanted"/>
                <a:cs typeface="Mudir MT"/>
              </a:rPr>
              <a:t>قانون حماية البيانات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428840"/>
            <a:ext cx="8305560" cy="33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rgbClr val="000080"/>
                </a:solidFill>
                <a:latin typeface="Times New Roman Backslanted"/>
              </a:rPr>
              <a:t>إذا كان الحاسوب الذي تعمل عليه به بيانات عن أشخاص، يجب أن تتعامل مع هذه البيانات بطريقة قانونية وأخلاقية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rgbClr val="000080"/>
                </a:solidFill>
                <a:latin typeface="Times New Roman Backslanted"/>
              </a:rPr>
              <a:t>في أي مجتمع حر، لديك الحق في الحفاظ على سرية هذه المعلومات وعدم إساءة استخدامها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rgbClr val="000080"/>
                </a:solidFill>
                <a:latin typeface="Times New Roman Backslanted"/>
              </a:rPr>
              <a:t>في الكثير من الدول، يتم الحفاظ على هذا الحق بمقتضى قوانين حماية البيانا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04" name="Picture 4" descr="bd00028_"/>
          <p:cNvPicPr/>
          <p:nvPr/>
        </p:nvPicPr>
        <p:blipFill>
          <a:blip r:embed="rId1"/>
          <a:stretch/>
        </p:blipFill>
        <p:spPr>
          <a:xfrm>
            <a:off x="1357200" y="4500720"/>
            <a:ext cx="1828440" cy="1792080"/>
          </a:xfrm>
          <a:prstGeom prst="rect">
            <a:avLst/>
          </a:prstGeom>
          <a:ln w="9525">
            <a:noFill/>
          </a:ln>
        </p:spPr>
      </p:pic>
      <p:sp>
        <p:nvSpPr>
          <p:cNvPr id="105" name="PlaceHolder 3"/>
          <p:cNvSpPr>
            <a:spLocks noGrp="1"/>
          </p:cNvSpPr>
          <p:nvPr>
            <p:ph type="sldNum" idx="19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1484ED1-FB6F-44FB-AEC6-6553374D1BF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59000"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SA" sz="7200" spc="-1" strike="noStrike" cap="small">
                <a:solidFill>
                  <a:srgbClr val="000000"/>
                </a:solidFill>
                <a:latin typeface="Arial Black"/>
                <a:cs typeface="SKR HEAD2"/>
              </a:rPr>
              <a:t>الحاسوب في حياتنا اليومية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981080"/>
            <a:ext cx="6857640" cy="35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</a:rPr>
              <a:t>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الاستخدامات الشائعة للحاسوب داخل المنزل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ar-SA" sz="2100" spc="-1" strike="noStrike">
                <a:solidFill>
                  <a:srgbClr val="000080"/>
                </a:solidFill>
                <a:latin typeface="Century Schoolbook"/>
                <a:cs typeface="Arial"/>
              </a:rPr>
              <a:t>ألعاب الحاسوب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ar-SA" sz="2100" spc="-1" strike="noStrike">
                <a:solidFill>
                  <a:srgbClr val="000080"/>
                </a:solidFill>
                <a:latin typeface="Century Schoolbook"/>
                <a:cs typeface="Arial"/>
              </a:rPr>
              <a:t>العمل من المنزل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ar-SA" sz="2100" spc="-1" strike="noStrike">
                <a:solidFill>
                  <a:srgbClr val="000080"/>
                </a:solidFill>
                <a:latin typeface="Century Schoolbook"/>
                <a:cs typeface="Arial"/>
              </a:rPr>
              <a:t>الخدمات المصرفية عبر الإنترنت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ar-SA" sz="2100" spc="-1" strike="noStrike">
                <a:solidFill>
                  <a:srgbClr val="000080"/>
                </a:solidFill>
                <a:latin typeface="Century Schoolbook"/>
                <a:cs typeface="Arial"/>
              </a:rPr>
              <a:t>الاتصال بالويب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9FE3666-1E39-4954-B533-69087E1E85D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pe01561_"/>
          <p:cNvPicPr/>
          <p:nvPr/>
        </p:nvPicPr>
        <p:blipFill>
          <a:blip r:embed="rId1"/>
          <a:stretch/>
        </p:blipFill>
        <p:spPr>
          <a:xfrm>
            <a:off x="214200" y="3714840"/>
            <a:ext cx="3809520" cy="2528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SA" sz="4800" spc="-1" strike="noStrike" cap="small">
                <a:solidFill>
                  <a:srgbClr val="000000"/>
                </a:solidFill>
                <a:latin typeface="Century Schoolbook"/>
                <a:cs typeface="MCS Gulf S_U normal."/>
              </a:rPr>
              <a:t>استخدامات الحاسوب في التعليم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5840" y="1643040"/>
            <a:ext cx="8553240" cy="46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1" lang="ar-SA" sz="3600" spc="-1" strike="noStrike">
                <a:solidFill>
                  <a:srgbClr val="000080"/>
                </a:solidFill>
                <a:latin typeface="Times New Roman Backslanted"/>
              </a:rPr>
              <a:t>التدريب المعتمد على الحاسوب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80"/>
                </a:solidFill>
                <a:latin typeface="Times New Roman Backslanted"/>
              </a:rPr>
              <a:t>يعد نظام "التدريب المعتمد على الحاسوب" حلاً ذا تكلفة قليلة لاحتياجات التدريب والتي يتم فيها تدريب عدد كبير من الأشخاص على موضوع واحد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80"/>
                </a:solidFill>
                <a:latin typeface="Times New Roman Backslanted"/>
              </a:rPr>
              <a:t>عادةً ما تتوفر هذه البرامج على قرص مدمج وتتضمن نصوصًا ورسومًا وأصواتًا.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80"/>
                </a:solidFill>
                <a:latin typeface="Times New Roman Backslanted"/>
              </a:rPr>
              <a:t>تتنوع مجموعات البرامج من حيث الحجم والموضوع؛ ما بين الموسوعات الكبيرة إلى برامج تعليم اللغات الأجنبية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5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0A96D8C-7C90-4DAA-B3B8-87319A44DF1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14200" y="1357200"/>
            <a:ext cx="878652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1" lang="ar-SA" sz="2400" spc="-1" strike="noStrike">
                <a:solidFill>
                  <a:srgbClr val="000080"/>
                </a:solidFill>
                <a:latin typeface="Times New Roman Backslanted"/>
              </a:rPr>
              <a:t>نظم الإنتاج الآلية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80"/>
                </a:solidFill>
                <a:latin typeface="Century Schoolbook"/>
              </a:rPr>
              <a:t>تستخدم الكثير من مصانع تصنيع السيارات نظمًا آلية في تصنيع السيارات ويتم تجميع السيارات من خلال أجهزة روبوت آلية يتم التحكم فيها عن طريق الحاسوب.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80"/>
                </a:solidFill>
                <a:latin typeface="Century Schoolbook"/>
              </a:rPr>
              <a:t>وقد أصبحت هذه الآلية مظهرًا شائعًا في الصناعات المختلفة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1" lang="ar-SA" sz="2400" spc="-1" strike="noStrike">
                <a:solidFill>
                  <a:srgbClr val="000080"/>
                </a:solidFill>
                <a:latin typeface="Times New Roman Backslanted"/>
              </a:rPr>
              <a:t>نظم التصمي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80"/>
                </a:solidFill>
                <a:latin typeface="Century Schoolbook"/>
              </a:rPr>
              <a:t>يتم تصميم العديد من المنتجات باستخدام برامج التصميمات المعتمدة على الحاسوب للوصول إلى مواصفات دقيقة ورسوم تفصيلية على الحاسوب قبل إنتاج نماذج من المنتجات الجديدة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 rtl="1">
              <a:lnSpc>
                <a:spcPct val="100000"/>
              </a:lnSpc>
              <a:spcBef>
                <a:spcPts val="601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 rtl="1">
              <a:lnSpc>
                <a:spcPct val="100000"/>
              </a:lnSpc>
              <a:spcBef>
                <a:spcPts val="601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ldNum" idx="6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035FBB3-7854-4719-9E94-18FEBEC18F1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SA" sz="4800" spc="-1" strike="noStrike" cap="small">
                <a:solidFill>
                  <a:srgbClr val="000000"/>
                </a:solidFill>
                <a:latin typeface="Century Schoolbook"/>
                <a:cs typeface="MCS Gulf S_U normal."/>
              </a:rPr>
              <a:t>استخدامات الحاسوب في العمل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52280" y="1428840"/>
            <a:ext cx="8762760" cy="52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1" lang="ar-SA" sz="3600" spc="-1" strike="noStrike">
                <a:solidFill>
                  <a:srgbClr val="000080"/>
                </a:solidFill>
                <a:latin typeface="Times New Roman Backslanted"/>
              </a:rPr>
              <a:t>مراقبة المخزون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80"/>
                </a:solidFill>
                <a:latin typeface="Times New Roman Backslanted"/>
              </a:rPr>
              <a:t>إن مراقبة المخزون يمكن القيام بها بطريقة آلية، وفي الكثير من الشركات، أصبحت تعتمد بالكامل على الحاسوب.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80"/>
                </a:solidFill>
                <a:latin typeface="Times New Roman Backslanted"/>
              </a:rPr>
              <a:t>إن نظام مراقبة المخزون يقوم بتتبع عدد العناصر الموجودة في المخازن ويقوم تلقائيًا بإصدار أوامر بشراء عناصر جديدة عند الحاجة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1" lang="ar-SA" sz="3600" spc="-1" strike="noStrike">
                <a:solidFill>
                  <a:srgbClr val="000080"/>
                </a:solidFill>
                <a:latin typeface="Times New Roman Backslanted"/>
              </a:rPr>
              <a:t>المحاسبة/الرواتب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79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400" spc="-1" strike="noStrike">
                <a:solidFill>
                  <a:srgbClr val="000080"/>
                </a:solidFill>
                <a:latin typeface="Times New Roman Backslanted"/>
              </a:rPr>
              <a:t>تستخدم أغلب الشركات الكبيرة نظمًا معتمدة على الحاسوب للتعامل مع الحسابات.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80"/>
                </a:solidFill>
                <a:latin typeface="Times New Roman Backslanted"/>
              </a:rPr>
              <a:t>ونظرًا لطبيعة الحسابات التي تتسم بالتكرار، فإن النظام المعتمد على الحاسوب يعد هو النظام المثالي للقيام بهذه المهمة ويضمن أيضًا الدقة المتناهية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ldNum" idx="7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3C364CB-B9A6-41CB-8175-60DCC3FDD6F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ar-SA" sz="4800" spc="-1" strike="noStrike" cap="small">
                <a:solidFill>
                  <a:srgbClr val="000000"/>
                </a:solidFill>
                <a:latin typeface="Century Schoolbook"/>
                <a:cs typeface="MCS Gulf S_U normal."/>
              </a:rPr>
              <a:t>استخدامات الحاسوب في العمل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040" cy="29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3600" spc="-1" strike="noStrike">
                <a:solidFill>
                  <a:srgbClr val="000080"/>
                </a:solidFill>
                <a:latin typeface="Times New Roman Backslanted"/>
              </a:rPr>
              <a:t>المهام المتكررة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3600" spc="-1" strike="noStrike">
                <a:solidFill>
                  <a:srgbClr val="000080"/>
                </a:solidFill>
                <a:latin typeface="Times New Roman Backslanted"/>
              </a:rPr>
              <a:t>المهام البسيطة التي يمكن أتمتتها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3600" spc="-1" strike="noStrike">
                <a:solidFill>
                  <a:srgbClr val="000080"/>
                </a:solidFill>
                <a:latin typeface="Times New Roman Backslanted"/>
              </a:rPr>
              <a:t>العمليات الحسابية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3600" spc="-1" strike="noStrike">
                <a:solidFill>
                  <a:srgbClr val="000080"/>
                </a:solidFill>
                <a:latin typeface="Times New Roman Backslanted"/>
              </a:rPr>
              <a:t>المجالات الخطيرة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ldNum" idx="8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81F6F16-CD7A-42F1-B7A6-194EBCAB109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ar-SA" sz="4800" spc="-1" strike="noStrike" cap="small">
                <a:solidFill>
                  <a:srgbClr val="000000"/>
                </a:solidFill>
                <a:latin typeface="Century Schoolbook"/>
                <a:cs typeface="MCS Gulf S_U normal."/>
              </a:rPr>
              <a:t>استخدامات الحاسوب في العمل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ar-SA" sz="6000" spc="-1" strike="noStrike" cap="small">
                <a:solidFill>
                  <a:srgbClr val="000000"/>
                </a:solidFill>
                <a:latin typeface="Century Schoolbook"/>
                <a:cs typeface="SKR HEAD2"/>
              </a:rPr>
              <a:t>تكنولوجيا المعلومات والمجتمع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5840" y="1500120"/>
            <a:ext cx="817200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 algn="just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Mudir MT"/>
              </a:rPr>
              <a:t>مجتمع المعلومات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ar-SA" sz="2400" spc="-1" strike="noStrike">
                <a:solidFill>
                  <a:srgbClr val="000080"/>
                </a:solidFill>
                <a:latin typeface="Times New Roman Backslanted"/>
                <a:cs typeface="Mudir MT"/>
              </a:rPr>
              <a:t>يشير مفهوم مجتمع المعلومات إلى أنه من السهل عليك الآن أن تربط الحواسيب المتعددة معًا وأن تصل إلى المعلومات المخزنة على الحواسيب الأخرى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ar-SA" sz="2400" spc="-1" strike="noStrike">
                <a:solidFill>
                  <a:srgbClr val="000080"/>
                </a:solidFill>
                <a:latin typeface="Times New Roman Backslanted"/>
                <a:cs typeface="Mudir MT"/>
              </a:rPr>
              <a:t>يعد الإنترنت خير مثال على ذلك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7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ar-SA" sz="2400" spc="-1" strike="noStrike">
                <a:solidFill>
                  <a:srgbClr val="000080"/>
                </a:solidFill>
                <a:latin typeface="Times New Roman Backslanted"/>
                <a:cs typeface="Mudir MT"/>
              </a:rPr>
              <a:t>يمكنك عن طريق الاتصال بالإنترنت الوصول إلى ملايين من الحواسيب المتصلة في جميع أنحاء العال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ar-SA" sz="2400" spc="-1" strike="noStrike">
                <a:solidFill>
                  <a:srgbClr val="000080"/>
                </a:solidFill>
                <a:latin typeface="Times New Roman Backslanted"/>
                <a:cs typeface="Mudir MT"/>
              </a:rPr>
              <a:t>يمكنك أيضًا أن تتصل من خلال البريد الإلكتروني بأي شخص في العالم (مع افتراض أن هذا الشخص لديه أيضًا اتصال بالبريد الإلكتروني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9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0218248-2996-4891-B460-6FF886B526A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43040"/>
            <a:ext cx="8000640" cy="32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 algn="just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cs typeface="Mudir MT"/>
              </a:rPr>
              <a:t>مجتمع المعلومات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ar-SA" sz="3600" spc="-1" strike="noStrike">
                <a:solidFill>
                  <a:srgbClr val="000080"/>
                </a:solidFill>
                <a:latin typeface="Times New Roman Backslanted"/>
                <a:cs typeface="Mudir MT"/>
              </a:rPr>
              <a:t>يشير مصطلح التجارة الإلكترونية إلى عمليات الشراء أو البيع التي تتم عبر الإنترنت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ar-SA" sz="2100" spc="-1" strike="noStrike">
                <a:solidFill>
                  <a:srgbClr val="000080"/>
                </a:solidFill>
                <a:latin typeface="Times New Roman Backslanted"/>
                <a:cs typeface="Mudir MT"/>
              </a:rPr>
              <a:t>يمكنك شراء ما تريد مباشرةً من خلال مواقع الويب وذلك باختيار الشيء الذي تريده ثم إدخال البيانات الخاصة ببطاقة الائتمان الخاصة بك.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8" name="Picture 5" descr="bs00580_"/>
          <p:cNvPicPr/>
          <p:nvPr/>
        </p:nvPicPr>
        <p:blipFill>
          <a:blip r:embed="rId1"/>
          <a:stretch/>
        </p:blipFill>
        <p:spPr>
          <a:xfrm>
            <a:off x="1143000" y="4611600"/>
            <a:ext cx="2666520" cy="2246040"/>
          </a:xfrm>
          <a:prstGeom prst="rect">
            <a:avLst/>
          </a:prstGeom>
          <a:ln w="9525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sldNum" idx="10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650110A-C7FD-4DFF-BB1B-CCC36988B14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ar-SA" sz="6000" spc="-1" strike="noStrike" cap="small">
                <a:solidFill>
                  <a:srgbClr val="000000"/>
                </a:solidFill>
                <a:latin typeface="Century Schoolbook"/>
                <a:cs typeface="SKR HEAD2"/>
              </a:rPr>
              <a:t>تكنولوجيا المعلومات والمجتمع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6000"/>
          </a:bodyPr>
          <a:p>
            <a:pPr indent="0" rtl="1">
              <a:lnSpc>
                <a:spcPct val="100000"/>
              </a:lnSpc>
              <a:buNone/>
            </a:pPr>
            <a:r>
              <a:rPr b="1" lang="ar-SA" sz="7200" spc="-1" strike="noStrike" cap="small">
                <a:solidFill>
                  <a:srgbClr val="000000"/>
                </a:solidFill>
                <a:latin typeface="Century Schoolbook"/>
                <a:cs typeface="MCS Gulf S_U normal."/>
              </a:rPr>
              <a:t>الصحة والأمان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Mudir MT"/>
              </a:rPr>
              <a:t>الاحتياطات الصحية والخاصة بالأمان عند استخدام الحاسوب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ar-SA" sz="3600" spc="-1" strike="noStrike">
                <a:solidFill>
                  <a:srgbClr val="000080"/>
                </a:solidFill>
                <a:latin typeface="Times New Roman Backslanted"/>
                <a:cs typeface="Mudir MT"/>
              </a:rPr>
              <a:t>التأكد من التركيب الآمن للكابلات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ar-SA" sz="3600" spc="-1" strike="noStrike">
                <a:solidFill>
                  <a:srgbClr val="000080"/>
                </a:solidFill>
                <a:latin typeface="Times New Roman Backslanted"/>
                <a:cs typeface="Mudir MT"/>
              </a:rPr>
              <a:t>عدم التحميل الزائد على مقابس الكهرباء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cs typeface="Mudir MT"/>
              </a:rPr>
              <a:t>احترس أيضًا من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Symbol"/>
              <a:buChar char="-"/>
              <a:tabLst>
                <a:tab algn="l" pos="0"/>
              </a:tabLst>
            </a:pPr>
            <a:r>
              <a:rPr b="0" lang="ar-SA" sz="2100" spc="-1" strike="noStrike">
                <a:solidFill>
                  <a:srgbClr val="000080"/>
                </a:solidFill>
                <a:latin typeface="Times New Roman Backslanted"/>
                <a:cs typeface="Mudir MT"/>
              </a:rPr>
              <a:t>الإرهاق المتكرر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Symbol"/>
              <a:buChar char="-"/>
              <a:tabLst>
                <a:tab algn="l" pos="0"/>
              </a:tabLst>
            </a:pPr>
            <a:r>
              <a:rPr b="0" lang="ar-SA" sz="2100" spc="-1" strike="noStrike">
                <a:solidFill>
                  <a:srgbClr val="000080"/>
                </a:solidFill>
                <a:latin typeface="Times New Roman Backslanted"/>
                <a:cs typeface="Mudir MT"/>
              </a:rPr>
              <a:t>وميض الشاشات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Symbol"/>
              <a:buChar char="-"/>
              <a:tabLst>
                <a:tab algn="l" pos="0"/>
              </a:tabLst>
            </a:pPr>
            <a:r>
              <a:rPr b="0" lang="ar-SA" sz="2100" spc="-1" strike="noStrike">
                <a:solidFill>
                  <a:srgbClr val="000080"/>
                </a:solidFill>
                <a:latin typeface="Times New Roman Backslanted"/>
                <a:cs typeface="Mudir MT"/>
              </a:rPr>
              <a:t>الوضع الخاطئ للجلوس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11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D8F6100-95E0-4D99-831B-F256771A8DF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riel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el</Template>
  <TotalTime>790</TotalTime>
  <Application>LibreOffice/7.4.7.2$Linux_X86_64 LibreOffice_project/40$Build-2</Application>
  <AppVersion>15.0000</AppVersion>
  <Words>782</Words>
  <Paragraphs>11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EME</dc:creator>
  <dc:description/>
  <dc:language>en-US</dc:language>
  <cp:lastModifiedBy>jawish</cp:lastModifiedBy>
  <dcterms:modified xsi:type="dcterms:W3CDTF">2021-05-25T06:41:48Z</dcterms:modified>
  <cp:revision>525</cp:revision>
  <dc:subject/>
  <dc:title>المحاضرة الأولى الحاسبات وأنواعها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17</vt:r8>
  </property>
</Properties>
</file>