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4.wmf" ContentType="image/x-wmf"/>
  <Override PartName="/ppt/media/image22.png" ContentType="image/png"/>
  <Override PartName="/ppt/media/image5.png" ContentType="image/png"/>
  <Override PartName="/ppt/media/image21.png" ContentType="image/png"/>
  <Override PartName="/ppt/media/image4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5B8EF-ADE8-4167-9710-38B2025B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6360C-551E-4382-AB31-C76D28DB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5DD82-80CD-4960-A535-B0F83A87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FE8D9-CBC6-49E7-8451-368215F0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291D-031B-4366-8B0B-F1A88E96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D0CE-843B-42CE-A10E-6B778BE5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91EA-082B-43E5-9C14-B0017A49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E7A6-67CC-4002-911B-3F92CBE9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5633-EF97-4ADA-8629-45F29790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43FD-611D-4BE5-905A-4DC0DA0D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D91F-5D03-4C4B-A283-A093598C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FB22F-30EC-4C2C-8CC8-A55B2FA0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3CF5-0387-45E3-9412-9D8B5771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BCCB-B0A5-41BB-8C8E-C4B3797C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DF0E-E23C-402E-B822-0AD5B18D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E347-1AEA-4991-ACDD-2C88A0CA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4829-22B0-438F-BB7C-7AC278C5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0931A-283B-4C2D-860C-39619D7D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01B7-A1C1-4D79-8395-A61E8AA6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E7F56-9A0A-4E5B-8366-02043954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915F-C76D-4222-924A-2E07DD5B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86C2-58ED-4464-84E9-BEADD788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4FDD-84DF-416B-AF83-A44D054B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CD747-93B4-45EC-99C0-A0998127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4f81bd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4f81bd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cond lev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r" rtl="1">
              <a:lnSpc>
                <a:spcPct val="100000"/>
              </a:lnSpc>
              <a:spcBef>
                <a:spcPts val="360"/>
              </a:spcBef>
              <a:buClr>
                <a:srgbClr val="4571a6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 algn="r" rtl="1">
              <a:lnSpc>
                <a:spcPct val="100000"/>
              </a:lnSpc>
              <a:spcBef>
                <a:spcPts val="360"/>
              </a:spcBef>
              <a:buClr>
                <a:srgbClr val="b2c0da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 algn="r" rtl="1">
              <a:lnSpc>
                <a:spcPct val="100000"/>
              </a:lnSpc>
              <a:spcBef>
                <a:spcPts val="320"/>
              </a:spcBef>
              <a:buClr>
                <a:srgbClr val="dcb2b2"/>
              </a:buClr>
              <a:buSzPct val="68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C5DBA7C-FEB9-412B-99E3-1AC2B4707CE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4f81bd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Oval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4f81bd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rgbClr val="1f497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0" name="Straight Connector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Straight Connector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4f81bd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Straight Connector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Straight Connector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4f81bd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Straight Connector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Straight Connector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Oval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4f81bd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4f81bd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70" name="Oval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4f81bd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71" name="Oval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4f81bd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05947E9-286F-4A72-8C11-EF52F540651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1523880"/>
            <a:ext cx="68576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6600" spc="-1" strike="noStrike">
                <a:solidFill>
                  <a:srgbClr val="262626"/>
                </a:solidFill>
                <a:latin typeface="Century Schoolbook"/>
              </a:rPr>
              <a:t> </a:t>
            </a:r>
            <a:r>
              <a:rPr b="1" lang="ar-DZ" sz="6600" spc="-1" strike="noStrike">
                <a:solidFill>
                  <a:srgbClr val="262626"/>
                </a:solidFill>
                <a:latin typeface="Century Schoolbook"/>
              </a:rPr>
              <a:t>المحاضرة </a:t>
            </a:r>
            <a:r>
              <a:rPr b="1" lang="en-US" sz="6600" spc="-1" strike="noStrike">
                <a:solidFill>
                  <a:srgbClr val="262626"/>
                </a:solidFill>
                <a:latin typeface="Century Schoolbook"/>
              </a:rPr>
              <a:t>1</a:t>
            </a:r>
            <a:r>
              <a:rPr b="1" lang="en-US" sz="6600" spc="-1" strike="noStrike">
                <a:solidFill>
                  <a:srgbClr val="262626"/>
                </a:solidFill>
                <a:latin typeface="Century Schoolbook"/>
              </a:rPr>
              <a:t>-</a:t>
            </a:r>
            <a:r>
              <a:rPr b="1" lang="en-US" sz="6600" spc="-1" strike="noStrike">
                <a:solidFill>
                  <a:srgbClr val="262626"/>
                </a:solidFill>
                <a:latin typeface="Century Schoolbook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4578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rgbClr val="000000"/>
                </a:solidFill>
                <a:latin typeface="Times New Roman Backslanted"/>
              </a:rPr>
              <a:t> </a:t>
            </a:r>
            <a:r>
              <a:rPr b="1" lang="ar-SA" sz="3000" spc="-1" strike="noStrike" cap="small">
                <a:solidFill>
                  <a:srgbClr val="000000"/>
                </a:solidFill>
                <a:latin typeface="Times New Roman Backslanted"/>
                <a:cs typeface="MCS Gulf S_U normal."/>
              </a:rPr>
              <a:t>أولاً:المكونات المادية لأي حاسوب شخصي (</a:t>
            </a:r>
            <a:r>
              <a:rPr b="1" lang="en-US" sz="3600" spc="-1" strike="noStrike" cap="small">
                <a:solidFill>
                  <a:srgbClr val="000000"/>
                </a:solidFill>
                <a:latin typeface="Times New Roman Backslanted"/>
              </a:rPr>
              <a:t>Hardware</a:t>
            </a:r>
            <a:r>
              <a:rPr b="1" lang="en-US" sz="3600" spc="-1" strike="noStrike" cap="small">
                <a:solidFill>
                  <a:srgbClr val="000000"/>
                </a:solidFill>
                <a:latin typeface="Times New Roman Backslanted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4200" y="1857240"/>
            <a:ext cx="839592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EG" sz="2400" spc="-1" strike="noStrike">
                <a:solidFill>
                  <a:srgbClr val="000000"/>
                </a:solidFill>
                <a:latin typeface="Century Schoolbook"/>
              </a:rPr>
              <a:t>وحدة المعالجة المركزية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ntral Processing Unit (CPU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EG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وحدات الإدخال والإخراج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put/output Uni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AutoNum type="arabicPeriod"/>
            </a:pPr>
            <a:r>
              <a:rPr b="0" lang="ar-EG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وحدات الذاكرة والتخزين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mory &amp; Storage Un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EG" sz="2100" spc="-1" strike="noStrike">
                <a:solidFill>
                  <a:srgbClr val="1f497d"/>
                </a:solidFill>
                <a:latin typeface="Century Schoolbook"/>
                <a:cs typeface="Arial"/>
              </a:rPr>
              <a:t>الذاكرة الرئيسية</a:t>
            </a: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Main Memory</a:t>
            </a: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EG" sz="2100" spc="-1" strike="noStrike">
                <a:solidFill>
                  <a:srgbClr val="1f497d"/>
                </a:solidFill>
                <a:latin typeface="Century Schoolbook"/>
                <a:cs typeface="Arial"/>
              </a:rPr>
              <a:t>الذاكرة الثانوية</a:t>
            </a: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Secondary Storage Uni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14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2A18F88-0053-4C80-A799-FB691738B47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743040" indent="0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000" spc="-1" strike="noStrike" cap="small">
                <a:solidFill>
                  <a:srgbClr val="000000"/>
                </a:solidFill>
                <a:latin typeface="Times New Roman Backslanted"/>
              </a:rPr>
              <a:t> </a:t>
            </a:r>
            <a:r>
              <a:rPr b="1" lang="ar-SA" sz="3000" spc="-1" strike="noStrike" cap="small">
                <a:solidFill>
                  <a:srgbClr val="000000"/>
                </a:solidFill>
                <a:latin typeface="Times New Roman Backslanted"/>
                <a:cs typeface="MCS Gulf S_U normal."/>
              </a:rPr>
              <a:t>المكونات المادية لأي حاسوب شخصي (</a:t>
            </a:r>
            <a:r>
              <a:rPr b="1" lang="en-US" sz="3600" spc="-1" strike="noStrike" cap="small">
                <a:solidFill>
                  <a:srgbClr val="000000"/>
                </a:solidFill>
                <a:latin typeface="Times New Roman Backslanted"/>
              </a:rPr>
              <a:t>Hardware</a:t>
            </a:r>
            <a:r>
              <a:rPr b="1" lang="en-US" sz="3600" spc="-1" strike="noStrike" cap="small">
                <a:solidFill>
                  <a:srgbClr val="000000"/>
                </a:solidFill>
                <a:latin typeface="Times New Roman Backslanted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Num" idx="1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2948BB2-BA16-484C-A8BB-F2F2FDA977A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1000080" y="1143000"/>
            <a:ext cx="7500600" cy="5500440"/>
            <a:chOff x="1000080" y="1143000"/>
            <a:chExt cx="7500600" cy="5500440"/>
          </a:xfrm>
        </p:grpSpPr>
        <p:sp>
          <p:nvSpPr>
            <p:cNvPr id="154" name="Rectangle 13"/>
            <p:cNvSpPr/>
            <p:nvPr/>
          </p:nvSpPr>
          <p:spPr>
            <a:xfrm>
              <a:off x="2744640" y="1143000"/>
              <a:ext cx="3750120" cy="440028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55" name="Rectangle 14"/>
            <p:cNvSpPr/>
            <p:nvPr/>
          </p:nvSpPr>
          <p:spPr>
            <a:xfrm>
              <a:off x="3006720" y="1312920"/>
              <a:ext cx="3312720" cy="296028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wrap="none" lIns="90000" rIns="90000" tIns="45000" bIns="45000" anchor="t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SA" sz="1800" spc="-1" strike="noStrike">
                  <a:solidFill>
                    <a:schemeClr val="dk1"/>
                  </a:solidFill>
                  <a:latin typeface="Century Schoolbook"/>
                </a:rPr>
                <a:t>وحدة المعالجة المركز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chemeClr val="dk1"/>
                  </a:solidFill>
                  <a:latin typeface="Century Schoolbook"/>
                </a:rPr>
                <a:t>Center Processing U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6"/>
            <p:cNvSpPr/>
            <p:nvPr/>
          </p:nvSpPr>
          <p:spPr>
            <a:xfrm>
              <a:off x="3442320" y="3512520"/>
              <a:ext cx="2529000" cy="67680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ffffff"/>
                  </a:solidFill>
                  <a:latin typeface="Century Schoolbook"/>
                </a:rPr>
                <a:t>المسجل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Schoolbook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7"/>
            <p:cNvSpPr/>
            <p:nvPr/>
          </p:nvSpPr>
          <p:spPr>
            <a:xfrm>
              <a:off x="4837680" y="2158560"/>
              <a:ext cx="1482480" cy="93060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ffffff"/>
                  </a:solidFill>
                  <a:latin typeface="Century Schoolbook"/>
                </a:rPr>
                <a:t>وحدة التحك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Schoolbook"/>
                </a:rPr>
                <a:t>Control U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8"/>
            <p:cNvSpPr/>
            <p:nvPr/>
          </p:nvSpPr>
          <p:spPr>
            <a:xfrm>
              <a:off x="3006360" y="2158560"/>
              <a:ext cx="1482480" cy="93060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ffffff"/>
                  </a:solidFill>
                  <a:latin typeface="Century Schoolbook"/>
                </a:rPr>
                <a:t>وحدة الحساب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Schoolbook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ffffff"/>
                  </a:solidFill>
                  <a:latin typeface="Century Schoolbook"/>
                </a:rPr>
                <a:t>والمنط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Schoolbook"/>
                </a:rPr>
                <a:t>A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9"/>
            <p:cNvSpPr/>
            <p:nvPr/>
          </p:nvSpPr>
          <p:spPr>
            <a:xfrm>
              <a:off x="3094200" y="5967360"/>
              <a:ext cx="3052440" cy="676080"/>
            </a:xfrm>
            <a:prstGeom prst="rect">
              <a:avLst/>
            </a:prstGeom>
            <a:solidFill>
              <a:schemeClr val="accent6">
                <a:lumMod val="20000"/>
                <a:lumOff val="80000"/>
              </a:schemeClr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000000"/>
                  </a:solidFill>
                  <a:latin typeface="Century Schoolbook"/>
                </a:rPr>
                <a:t>وحدات التخزين </a:t>
              </a:r>
              <a:r>
                <a:rPr b="1" lang="ar-SA" sz="1800" spc="-1" strike="noStrike">
                  <a:solidFill>
                    <a:srgbClr val="000000"/>
                  </a:solidFill>
                  <a:latin typeface="Century Schoolbook"/>
                </a:rPr>
                <a:t>الثانو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Schoolbook"/>
                </a:rPr>
                <a:t>Secondary Storage Un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0"/>
            <p:cNvSpPr/>
            <p:nvPr/>
          </p:nvSpPr>
          <p:spPr>
            <a:xfrm>
              <a:off x="7018200" y="2835360"/>
              <a:ext cx="1482480" cy="930600"/>
            </a:xfrm>
            <a:prstGeom prst="rect">
              <a:avLst/>
            </a:prstGeom>
            <a:solidFill>
              <a:srgbClr val="ffcc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ffffff"/>
                  </a:solidFill>
                  <a:latin typeface="Century Schoolbook"/>
                </a:rPr>
                <a:t>وحدات الإخرا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Schoolbook"/>
                </a:rPr>
                <a:t>Output U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1"/>
            <p:cNvSpPr/>
            <p:nvPr/>
          </p:nvSpPr>
          <p:spPr>
            <a:xfrm>
              <a:off x="1000080" y="2835360"/>
              <a:ext cx="1307880" cy="930600"/>
            </a:xfrm>
            <a:prstGeom prst="rect">
              <a:avLst/>
            </a:prstGeom>
            <a:solidFill>
              <a:srgbClr val="0080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ffffff"/>
                  </a:solidFill>
                  <a:latin typeface="Century Schoolbook"/>
                </a:rPr>
                <a:t>وحدات الإدخا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Schoolbook"/>
                </a:rPr>
                <a:t>Input U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2"/>
            <p:cNvSpPr/>
            <p:nvPr/>
          </p:nvSpPr>
          <p:spPr>
            <a:xfrm>
              <a:off x="3354480" y="4867200"/>
              <a:ext cx="2530080" cy="676080"/>
            </a:xfrm>
            <a:prstGeom prst="rect">
              <a:avLst/>
            </a:prstGeom>
            <a:solidFill>
              <a:schemeClr val="bg2">
                <a:lumMod val="90000"/>
              </a:schemeClr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000000"/>
                  </a:solidFill>
                  <a:latin typeface="Century Schoolbook"/>
                </a:rPr>
                <a:t>الذاكرة الرئيس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Schoolbook"/>
                </a:rPr>
                <a:t>Main 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3"/>
            <p:cNvSpPr/>
            <p:nvPr/>
          </p:nvSpPr>
          <p:spPr>
            <a:xfrm flipH="1">
              <a:off x="2308320" y="3342960"/>
              <a:ext cx="435960" cy="36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64" name="Line 24"/>
            <p:cNvSpPr/>
            <p:nvPr/>
          </p:nvSpPr>
          <p:spPr>
            <a:xfrm>
              <a:off x="6494760" y="3342960"/>
              <a:ext cx="436320" cy="36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65" name="Line 25"/>
            <p:cNvSpPr/>
            <p:nvPr/>
          </p:nvSpPr>
          <p:spPr>
            <a:xfrm flipV="1">
              <a:off x="3878280" y="4273920"/>
              <a:ext cx="360" cy="50796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66" name="Line 26"/>
            <p:cNvSpPr/>
            <p:nvPr/>
          </p:nvSpPr>
          <p:spPr>
            <a:xfrm>
              <a:off x="5186520" y="4358520"/>
              <a:ext cx="360" cy="42336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67" name="Line 27"/>
            <p:cNvSpPr/>
            <p:nvPr/>
          </p:nvSpPr>
          <p:spPr>
            <a:xfrm flipV="1">
              <a:off x="3878280" y="5627880"/>
              <a:ext cx="360" cy="33876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168" name="Line 28"/>
            <p:cNvSpPr/>
            <p:nvPr/>
          </p:nvSpPr>
          <p:spPr>
            <a:xfrm>
              <a:off x="5186520" y="5627880"/>
              <a:ext cx="360" cy="33876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571760" y="4286160"/>
            <a:ext cx="7571880" cy="2571480"/>
          </a:xfrm>
          <a:prstGeom prst="rect">
            <a:avLst/>
          </a:prstGeom>
          <a:ln w="9525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977840" cy="1285560"/>
          </a:xfrm>
          <a:prstGeom prst="rect">
            <a:avLst/>
          </a:prstGeom>
          <a:ln w="9525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57680" y="142920"/>
            <a:ext cx="62863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2000"/>
          </a:bodyPr>
          <a:p>
            <a:pPr marL="731160" indent="0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800" spc="-1" strike="noStrike" cap="small">
                <a:solidFill>
                  <a:srgbClr val="000000"/>
                </a:solidFill>
                <a:latin typeface="Times New Roman Backslanted"/>
              </a:rPr>
              <a:t>1</a:t>
            </a:r>
            <a:r>
              <a:rPr b="1" lang="en-US" sz="4800" spc="-1" strike="noStrike" cap="small">
                <a:solidFill>
                  <a:srgbClr val="000000"/>
                </a:solidFill>
                <a:latin typeface="Times New Roman Backslanted"/>
              </a:rPr>
              <a:t>. وحدة المعالجة المركزية</a:t>
            </a:r>
            <a:r>
              <a:rPr b="1" lang="en-US" sz="4800" spc="-1" strike="noStrike" cap="small">
                <a:solidFill>
                  <a:srgbClr val="000000"/>
                </a:solidFill>
                <a:latin typeface="Times New Roman Backslanted"/>
              </a:rPr>
              <a:t>  </a:t>
            </a:r>
            <a:r>
              <a:rPr b="0" lang="en-US" sz="4800" spc="-1" strike="noStrike" cap="small">
                <a:solidFill>
                  <a:srgbClr val="000000"/>
                </a:solidFill>
                <a:latin typeface="Times New Roman Backslanted"/>
              </a:rPr>
              <a:t>CPU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864360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إن وحدة المعالجة المركزية تكون بشكل عام من فئة بنتيوم الخاصة بشركة إنتل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e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(أو ما يعادلها) وتعد واحدة من أهم المكونات الموجودة في الحاسوب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تحدد سرعة تشغيل الحاسوب الذي تستخدمه وتقاس سرعتها </a:t>
            </a: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بالميجا هيرت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تقاس سرعة المعالج بالهرتز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Hertz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وهي وحدة لقياس التردد (عدد الذبذبات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ycl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في الثانية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معالج بنتيوم الذي تبلغ سرعته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0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ميجا هيرتز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Hz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أسرع بكثير من المعالج بنتيوم الذي سرعته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0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قوم هذه الوحدة بكل العمليات التي تتم داخل الحاسوب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6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6F89F15-996F-4078-8DBF-AA4B3D7F047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1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43080" y="214200"/>
            <a:ext cx="600048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2000"/>
          </a:bodyPr>
          <a:p>
            <a:pPr indent="0" rtl="1">
              <a:lnSpc>
                <a:spcPct val="100000"/>
              </a:lnSpc>
              <a:buNone/>
            </a:pPr>
            <a:r>
              <a:rPr b="1" lang="ar-SA" sz="4800" spc="-1" strike="noStrike" cap="small">
                <a:solidFill>
                  <a:srgbClr val="000000"/>
                </a:solidFill>
                <a:latin typeface="Times New Roman Backslanted"/>
                <a:cs typeface="MCS Gulf S_U normal."/>
              </a:rPr>
              <a:t>وحدة المعالجة المركزية </a:t>
            </a:r>
            <a:r>
              <a:rPr b="0" lang="en-US" sz="4800" spc="-1" strike="noStrike" cap="small">
                <a:solidFill>
                  <a:srgbClr val="000000"/>
                </a:solidFill>
                <a:latin typeface="Times New Roman Backslanted"/>
              </a:rPr>
              <a:t>CPU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1714680"/>
            <a:ext cx="8762760" cy="24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00"/>
                </a:solidFill>
                <a:latin typeface="Times New Roman Backslanted"/>
              </a:rPr>
              <a:t>تعد وحدة المعالجة المركزية (المعالج) هي الجزء المتحكم الرئيسي في الحاسوب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Times New Roman Backslanted"/>
              </a:rPr>
              <a:t>تقوم بأغلب العمليات التي تتم داخل الحاسوب وهي مسئولة عن التشغيل الجيد لنظام التشغيل (نظام مايكروسوفت ويندوز مثلاً) وكذلك البرامج، مثل تلك الخاصة بمعالجة النصوص والجداول الإلكترونية. وقواعد البيانات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638000" cy="1657080"/>
          </a:xfrm>
          <a:prstGeom prst="rect">
            <a:avLst/>
          </a:prstGeom>
          <a:ln w="9525">
            <a:noFill/>
          </a:ln>
        </p:spPr>
      </p:pic>
      <p:sp>
        <p:nvSpPr>
          <p:cNvPr id="177" name="PlaceHolder 3"/>
          <p:cNvSpPr>
            <a:spLocks noGrp="1"/>
          </p:cNvSpPr>
          <p:nvPr>
            <p:ph type="sldNum" idx="17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8E741EB-9525-4633-BCF8-692D5347499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1571760" y="4286160"/>
            <a:ext cx="7571880" cy="2571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Century Schoolbook"/>
              </a:rPr>
              <a:t>وحدة المعالجة المركزية </a:t>
            </a:r>
            <a:r>
              <a:rPr b="1" lang="en-US" sz="3000" spc="-1" strike="noStrike" cap="small">
                <a:solidFill>
                  <a:srgbClr val="1f497d"/>
                </a:solidFill>
                <a:latin typeface="Century Schoolbook"/>
              </a:rPr>
              <a:t>CPU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71960" y="1814400"/>
            <a:ext cx="5071680" cy="34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هناك ثلاثة مكونات رئيسية لوحدة المعالجة المركزية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Calibri"/>
              <a:buAutoNum type="arabicParenR"/>
            </a:pPr>
            <a:r>
              <a:rPr b="0" lang="ar-SA" sz="2100" spc="-1" strike="noStrike">
                <a:solidFill>
                  <a:srgbClr val="1f497d"/>
                </a:solidFill>
                <a:latin typeface="Century Schoolbook"/>
                <a:cs typeface="Arial"/>
              </a:rPr>
              <a:t>وحدة الحساب والمنطق </a:t>
            </a: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Arithmetic Logic Unit (ALU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Calibri"/>
              <a:buAutoNum type="arabicParenR"/>
            </a:pPr>
            <a:r>
              <a:rPr b="0" lang="ar-SA" sz="2100" spc="-1" strike="noStrike">
                <a:solidFill>
                  <a:srgbClr val="1f497d"/>
                </a:solidFill>
                <a:latin typeface="Century Schoolbook"/>
                <a:cs typeface="Arial"/>
              </a:rPr>
              <a:t>وحدة التحكم </a:t>
            </a: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Control Unit (CU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Calibri"/>
              <a:buAutoNum type="arabicParenR"/>
            </a:pPr>
            <a:r>
              <a:rPr b="0" lang="ar-SA" sz="2100" spc="-1" strike="noStrike">
                <a:solidFill>
                  <a:srgbClr val="1f497d"/>
                </a:solidFill>
                <a:latin typeface="Century Schoolbook"/>
                <a:cs typeface="Arial"/>
              </a:rPr>
              <a:t>المسجلات </a:t>
            </a: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Regist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8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7289675-1DD9-4EB9-AAFA-437C9FEE2E3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20"/>
          <p:cNvGrpSpPr/>
          <p:nvPr/>
        </p:nvGrpSpPr>
        <p:grpSpPr>
          <a:xfrm>
            <a:off x="214200" y="1928880"/>
            <a:ext cx="3643200" cy="3071520"/>
            <a:chOff x="214200" y="1928880"/>
            <a:chExt cx="3643200" cy="3071520"/>
          </a:xfrm>
        </p:grpSpPr>
        <p:sp>
          <p:nvSpPr>
            <p:cNvPr id="183" name="Rectangle 14"/>
            <p:cNvSpPr/>
            <p:nvPr/>
          </p:nvSpPr>
          <p:spPr>
            <a:xfrm>
              <a:off x="214200" y="1928880"/>
              <a:ext cx="3642840" cy="307152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000000"/>
                  </a:solidFill>
                  <a:latin typeface="Century Schoolbook"/>
                </a:rPr>
                <a:t>وحدة المعالجة المركز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Schoolbook"/>
                </a:rPr>
                <a:t>Center Processing U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693720" y="4210560"/>
              <a:ext cx="2779920" cy="70164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000000"/>
                  </a:solidFill>
                  <a:latin typeface="Century Schoolbook"/>
                </a:rPr>
                <a:t>المسجل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Schoolbook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2227680" y="2806560"/>
              <a:ext cx="1629720" cy="96516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000000"/>
                  </a:solidFill>
                  <a:latin typeface="Century Schoolbook"/>
                </a:rPr>
                <a:t>وحدة التحك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Schoolbook"/>
                </a:rPr>
                <a:t>Control U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8"/>
            <p:cNvSpPr/>
            <p:nvPr/>
          </p:nvSpPr>
          <p:spPr>
            <a:xfrm>
              <a:off x="214200" y="2806560"/>
              <a:ext cx="1629720" cy="96516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000000"/>
                  </a:solidFill>
                  <a:latin typeface="Century Schoolbook"/>
                </a:rPr>
                <a:t>وحدة الحساب</a:t>
              </a:r>
              <a:r>
                <a:rPr b="1" lang="en-US" sz="18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ar-JO" sz="1800" spc="-1" strike="noStrike">
                  <a:solidFill>
                    <a:srgbClr val="000000"/>
                  </a:solidFill>
                  <a:latin typeface="Century Schoolbook"/>
                </a:rPr>
                <a:t>والمنط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Schoolbook"/>
                </a:rPr>
                <a:t>A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364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743040" indent="-7430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</a:pPr>
            <a:r>
              <a:rPr b="1" lang="ar-SA" sz="3600" spc="-1" strike="noStrike">
                <a:solidFill>
                  <a:srgbClr val="1f497d"/>
                </a:solidFill>
                <a:latin typeface="Century Schoolbook"/>
              </a:rPr>
              <a:t>وحدة الحساب والمنطق </a:t>
            </a:r>
            <a:r>
              <a:rPr b="1" lang="en-US" sz="3600" spc="-1" strike="noStrike">
                <a:solidFill>
                  <a:srgbClr val="1f497d"/>
                </a:solidFill>
                <a:latin typeface="Century Schoolbook"/>
              </a:rPr>
              <a:t>ALU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وحدة الحساب والمنطق جزء من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وتتم فيها العمليات الحسابية والمنطقية وتقوم بالعمليات الحسابية الأساسية الأربعة: الجمع + والطرح – والضرب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والقسمة / ، مثال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= 10+5/B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والعمليات المنطقية التي تنفذ في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مثل المقارنات التي تسمح بتقييم المواقف واتخاذ القرار مثل &lt;  ،  &gt;  ،  =&lt;  ،  =&gt;  ،  =  ،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T 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،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R 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،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،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  <a:cs typeface="Arial"/>
              </a:rPr>
              <a:t>مثال: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F AVG &gt;= 90 PRINT “Excellent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</a:pPr>
            <a:r>
              <a:rPr b="1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المسجلات  </a:t>
            </a:r>
            <a:r>
              <a:rPr b="1" lang="en-US" sz="2400" spc="-1" strike="noStrike">
                <a:solidFill>
                  <a:srgbClr val="1f497d"/>
                </a:solidFill>
                <a:latin typeface="Century Schoolbook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  <a:cs typeface="Arial"/>
              </a:rPr>
              <a:t>مواقع ذاكرة لإجراء بعض العمليات الوسيطة بسرعة عالي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ldNum" idx="19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D6DD835-3521-4DD6-BEC3-A2D35702706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Century Schoolbook"/>
              </a:rPr>
              <a:t>وحدة المعالجة المركزية </a:t>
            </a:r>
            <a:r>
              <a:rPr b="1" lang="en-US" sz="3000" spc="-1" strike="noStrike" cap="small">
                <a:solidFill>
                  <a:srgbClr val="1f497d"/>
                </a:solidFill>
                <a:latin typeface="Century Schoolbook"/>
              </a:rPr>
              <a:t>CPU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472240" cy="50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743040" indent="-74304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</a:pPr>
            <a:r>
              <a:rPr b="1" lang="ar-SA" sz="3900" spc="-1" strike="noStrike">
                <a:solidFill>
                  <a:srgbClr val="1f497d"/>
                </a:solidFill>
                <a:latin typeface="Century Schoolbook"/>
              </a:rPr>
              <a:t>وحدة التحكم </a:t>
            </a:r>
            <a:r>
              <a:rPr b="1" lang="en-US" sz="3900" spc="-1" strike="noStrike">
                <a:solidFill>
                  <a:srgbClr val="1f497d"/>
                </a:solidFill>
                <a:latin typeface="Century Schoolbook"/>
              </a:rPr>
              <a:t>CU</a:t>
            </a:r>
            <a:endParaRPr b="0" lang="en-US" sz="39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تقوم وحدة التحكم بتوجيه وتوظيف جميع مكونات نظام الحاسوب. وبالاعتماد على تعليمات البرامج الموجودة في الذاكرة الرئيسية، تعمل على نقل البيانات من وإل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والمسجلات والذاكرة الرئيسية وأجهزة الإدخال والإخراج، كما تخبر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عن العمليات التي يجب أن تنفذها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تقوم وحدة التحكم بالوظائف التالية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قراءة تعليمات البرنامج وتفسيرها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توجيه العمليات داخل 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PU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التحكم بتدفق البرامج من وإلى الذاكرة الرئيسية وأجهزة الإدخال والإخراج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ldNum" idx="20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CAF10DD-8BB9-4299-B461-77D04FBD666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1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86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Century Schoolbook"/>
              </a:rPr>
              <a:t>وحدة المعالجة المركزية </a:t>
            </a:r>
            <a:r>
              <a:rPr b="1" lang="en-US" sz="3000" spc="-1" strike="noStrike" cap="small">
                <a:solidFill>
                  <a:srgbClr val="1f497d"/>
                </a:solidFill>
                <a:latin typeface="Century Schoolbook"/>
              </a:rPr>
              <a:t>CPU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743040" indent="0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400" spc="-1" strike="noStrike" cap="small">
                <a:solidFill>
                  <a:srgbClr val="1f497d"/>
                </a:solidFill>
                <a:latin typeface="Century Schoolbook"/>
              </a:rPr>
              <a:t>2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. وحدات الإدخال والإخراج 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 </a:t>
            </a:r>
            <a:r>
              <a:rPr b="1" lang="en-US" sz="3200" spc="-1" strike="noStrike" cap="small">
                <a:solidFill>
                  <a:srgbClr val="1f497d"/>
                </a:solidFill>
                <a:latin typeface="Century Schoolbook"/>
              </a:rPr>
              <a:t>Input/output Units</a:t>
            </a:r>
            <a:r>
              <a:rPr b="1" lang="en-US" sz="3200" spc="-1" strike="noStrike" cap="small">
                <a:solidFill>
                  <a:srgbClr val="1f497d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85840" y="1643040"/>
            <a:ext cx="821484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0" indent="-45720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وحدات الإدخال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 algn="r" rtl="1">
              <a:lnSpc>
                <a:spcPct val="100000"/>
              </a:lnSpc>
              <a:spcBef>
                <a:spcPts val="641"/>
              </a:spcBef>
              <a:buClr>
                <a:srgbClr val="4f81bd"/>
              </a:buClr>
              <a:buSzPct val="80000"/>
              <a:buFont typeface="Symbol"/>
              <a:buChar char="-"/>
            </a:pPr>
            <a:r>
              <a:rPr b="0" lang="ar-SA" sz="3200" spc="-1" strike="noStrike">
                <a:solidFill>
                  <a:srgbClr val="1f497d"/>
                </a:solidFill>
                <a:latin typeface="Century Schoolbook"/>
              </a:rPr>
              <a:t>وهى تعتبر حلقة الوصل ما بين المستخدم والحاسب حيث يقوم المستخدم بإدخال البيانات والأوامر من خلالها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وحدات الإخراج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 algn="r" rtl="1">
              <a:lnSpc>
                <a:spcPct val="100000"/>
              </a:lnSpc>
              <a:spcBef>
                <a:spcPts val="641"/>
              </a:spcBef>
              <a:buClr>
                <a:srgbClr val="4f81bd"/>
              </a:buClr>
              <a:buSzPct val="80000"/>
              <a:buFont typeface="Symbol"/>
              <a:buChar char="-"/>
            </a:pPr>
            <a:r>
              <a:rPr b="0" lang="ar-SA" sz="3200" spc="-1" strike="noStrike">
                <a:solidFill>
                  <a:srgbClr val="1f497d"/>
                </a:solidFill>
                <a:latin typeface="Century Schoolbook"/>
              </a:rPr>
              <a:t>تستخدم وحدات الإخراج لإظهار البيانات والنتائج والتقارير والرسوم وعرضها بالصورة المطلوبة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1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722F3F0-8A34-4418-9308-97E508C8EE1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1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6629400" y="1738440"/>
            <a:ext cx="1733040" cy="1233000"/>
          </a:xfrm>
          <a:prstGeom prst="rect">
            <a:avLst/>
          </a:prstGeom>
          <a:ln w="9525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6000" spc="-1" strike="noStrike" cap="small">
                <a:solidFill>
                  <a:srgbClr val="000000"/>
                </a:solidFill>
                <a:latin typeface="Times New Roman Backslanted"/>
                <a:cs typeface="MCS Gulf S_U normal."/>
              </a:rPr>
              <a:t>وحدات الإدخال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571760"/>
            <a:ext cx="609552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فأر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40080" indent="0" algn="just" rtl="1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ar-SA" sz="2100" spc="-1" strike="noStrike">
                <a:solidFill>
                  <a:srgbClr val="1f497d"/>
                </a:solidFill>
                <a:latin typeface="Century Schoolbook"/>
                <a:cs typeface="Arial"/>
              </a:rPr>
              <a:t>تستخدم للانتقال داخل نظام التشغيل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لوحة المفاتيح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40080" indent="0" algn="just" rtl="1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- مازالت لوحة المفاتيح هي أكثر وحدات إدخال البيانات إلى الحاسوب شيوعًا واستخدامًا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كرة التتب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40080" indent="0" algn="just" rtl="1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ar-SA" sz="2100" spc="-1" strike="noStrike">
                <a:solidFill>
                  <a:srgbClr val="1f497d"/>
                </a:solidFill>
                <a:latin typeface="Century Schoolbook"/>
                <a:cs typeface="Arial"/>
              </a:rPr>
              <a:t>هي بديل للفأرة التقليدية ويستخدمها غالبية مصممي الرسوم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2103120" cy="2437920"/>
          </a:xfrm>
          <a:prstGeom prst="rect">
            <a:avLst/>
          </a:prstGeom>
          <a:ln w="9525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3"/>
          <a:stretch/>
        </p:blipFill>
        <p:spPr>
          <a:xfrm>
            <a:off x="6629400" y="4114800"/>
            <a:ext cx="1599840" cy="1599840"/>
          </a:xfrm>
          <a:prstGeom prst="rect">
            <a:avLst/>
          </a:prstGeom>
          <a:ln w="9525">
            <a:noFill/>
          </a:ln>
        </p:spPr>
      </p:pic>
      <p:sp>
        <p:nvSpPr>
          <p:cNvPr id="201" name="PlaceHolder 3"/>
          <p:cNvSpPr>
            <a:spLocks noGrp="1"/>
          </p:cNvSpPr>
          <p:nvPr>
            <p:ph type="sldNum" idx="22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AAD8C2C-D2E6-4760-8913-88B1D9179AE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1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6000" spc="-1" strike="noStrike" cap="small">
                <a:solidFill>
                  <a:srgbClr val="000000"/>
                </a:solidFill>
                <a:latin typeface="Times New Roman Backslanted"/>
                <a:cs typeface="MCS Gulf S_U normal."/>
              </a:rPr>
              <a:t>وحدات الإدخال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285920"/>
            <a:ext cx="6705360" cy="52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ماسح الضوئي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95080" indent="0" algn="just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يتيح لك الماسح الضوئي مسح (قراءة) مادة مطبوعة ضوئيًا وتحويلها إلى تنسيق ملف يمكن التعامل معه داخل الحاسوب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488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لوحات اللمس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95080" indent="0" algn="just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إن لوحة اللمس عبارة عن جهاز يوضع على سطح المكتب ويستجيب للضغط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488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الأقلام الضوئ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95080" indent="0" algn="just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يُستخدم القلم الضوئي ليتيح للمستخدمين الإشارة إلى مواضع على الشاش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488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عصا توجيه الألعاب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95080" indent="0" algn="just" rtl="1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تحتاج الكثير من الألعاب إلى عصا توجيه حتى يمكن ممارستها بشكل صحي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7286760" y="5357880"/>
            <a:ext cx="1049040" cy="1213920"/>
          </a:xfrm>
          <a:prstGeom prst="rect">
            <a:avLst/>
          </a:prstGeom>
          <a:ln w="9525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2"/>
          <a:stretch/>
        </p:blipFill>
        <p:spPr>
          <a:xfrm>
            <a:off x="7143840" y="3643200"/>
            <a:ext cx="1614240" cy="1552320"/>
          </a:xfrm>
          <a:prstGeom prst="rect">
            <a:avLst/>
          </a:prstGeom>
          <a:ln w="9525">
            <a:noFill/>
          </a:ln>
        </p:spPr>
      </p:pic>
      <p:pic>
        <p:nvPicPr>
          <p:cNvPr id="206" name="Picture 14" descr=""/>
          <p:cNvPicPr/>
          <p:nvPr/>
        </p:nvPicPr>
        <p:blipFill>
          <a:blip r:embed="rId3"/>
          <a:stretch/>
        </p:blipFill>
        <p:spPr>
          <a:xfrm>
            <a:off x="7182000" y="2428920"/>
            <a:ext cx="1676160" cy="1239480"/>
          </a:xfrm>
          <a:prstGeom prst="rect">
            <a:avLst/>
          </a:prstGeom>
          <a:ln w="9525">
            <a:noFill/>
          </a:ln>
        </p:spPr>
      </p:pic>
      <p:pic>
        <p:nvPicPr>
          <p:cNvPr id="207" name="Picture 16" descr=""/>
          <p:cNvPicPr/>
          <p:nvPr/>
        </p:nvPicPr>
        <p:blipFill>
          <a:blip r:embed="rId4"/>
          <a:stretch/>
        </p:blipFill>
        <p:spPr>
          <a:xfrm>
            <a:off x="7043760" y="857160"/>
            <a:ext cx="1956960" cy="1499760"/>
          </a:xfrm>
          <a:prstGeom prst="rect">
            <a:avLst/>
          </a:prstGeom>
          <a:ln w="9525">
            <a:noFill/>
          </a:ln>
        </p:spPr>
      </p:pic>
      <p:sp>
        <p:nvSpPr>
          <p:cNvPr id="208" name="PlaceHolder 3"/>
          <p:cNvSpPr>
            <a:spLocks noGrp="1"/>
          </p:cNvSpPr>
          <p:nvPr>
            <p:ph type="sldNum" idx="23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4A1F57A-7339-42D4-A400-1ECBAF476B2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0" y="1371600"/>
            <a:ext cx="61718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4400" spc="-1" strike="noStrike" cap="small">
                <a:solidFill>
                  <a:srgbClr val="1f497d"/>
                </a:solidFill>
                <a:latin typeface="Century Schoolbook"/>
              </a:rPr>
              <a:t>مقدمة في علم الحاسوب</a:t>
            </a:r>
            <a:br>
              <a:rPr sz="4400"/>
            </a:br>
            <a:r>
              <a:rPr b="1" lang="ar-SA" sz="4400" spc="-1" strike="noStrike" cap="small">
                <a:solidFill>
                  <a:srgbClr val="1f497d"/>
                </a:solidFill>
                <a:latin typeface="Century Schoolbook"/>
              </a:rPr>
              <a:t>مفاهيم أساسية في تكنولوجيا المعلومات </a:t>
            </a:r>
            <a:r>
              <a:rPr b="1" lang="en-US" sz="4400" spc="-1" strike="noStrike" cap="small">
                <a:solidFill>
                  <a:srgbClr val="1f497d"/>
                </a:solidFill>
                <a:latin typeface="Century Schoolbook"/>
              </a:rPr>
              <a:t>I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5400" spc="-1" strike="noStrike" cap="small">
                <a:solidFill>
                  <a:srgbClr val="000000"/>
                </a:solidFill>
                <a:latin typeface="Times New Roman Backslanted"/>
                <a:cs typeface="MCS Gulf S_U normal."/>
              </a:rPr>
              <a:t>وحدات الإخراج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571760"/>
            <a:ext cx="64767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Arial"/>
              </a:rPr>
              <a:t>وحدة العرض المرئي (الشاشة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40080" indent="0" algn="just" rtl="1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- تُستخدم شاشة الحاسوب في إخراج البيانات بتنسيق معروف للمستخدمين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طابعات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640080" indent="0" algn="just" rtl="1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ar-SA" sz="2100" spc="-1" strike="noStrike">
                <a:solidFill>
                  <a:srgbClr val="1f497d"/>
                </a:solidFill>
                <a:latin typeface="Century Schoolbook"/>
                <a:cs typeface="Arial"/>
              </a:rPr>
              <a:t>هناك أنواع كثيرة للطابعات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640080" indent="0" algn="just" rtl="1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- في الشركات الكبيرة، تُستخدم طابعات الليزر بشكل كبير لأنها تقوم بالطباعة بسرعة جدًا وتكون مخرجاتها ذات جودة متميز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6815160" y="1447920"/>
            <a:ext cx="1871280" cy="1904760"/>
          </a:xfrm>
          <a:prstGeom prst="rect">
            <a:avLst/>
          </a:prstGeom>
          <a:ln w="9525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2"/>
          <a:stretch/>
        </p:blipFill>
        <p:spPr>
          <a:xfrm>
            <a:off x="7162920" y="3581280"/>
            <a:ext cx="1704600" cy="1177560"/>
          </a:xfrm>
          <a:prstGeom prst="rect">
            <a:avLst/>
          </a:prstGeom>
          <a:ln w="9525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3"/>
          <a:stretch/>
        </p:blipFill>
        <p:spPr>
          <a:xfrm>
            <a:off x="7010280" y="4978440"/>
            <a:ext cx="1676160" cy="1117080"/>
          </a:xfrm>
          <a:prstGeom prst="rect">
            <a:avLst/>
          </a:prstGeom>
          <a:ln w="9525">
            <a:noFill/>
          </a:ln>
        </p:spPr>
      </p:pic>
      <p:sp>
        <p:nvSpPr>
          <p:cNvPr id="214" name="PlaceHolder 3"/>
          <p:cNvSpPr>
            <a:spLocks noGrp="1"/>
          </p:cNvSpPr>
          <p:nvPr>
            <p:ph type="sldNum" idx="24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ADD5079-17F6-4AE5-8D11-B20A2120D22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5400" spc="-1" strike="noStrike" cap="small">
                <a:solidFill>
                  <a:srgbClr val="000000"/>
                </a:solidFill>
                <a:latin typeface="Times New Roman Backslanted"/>
                <a:cs typeface="MCS Gulf S_U normal."/>
              </a:rPr>
              <a:t>وحدات الإخراج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6714720" cy="49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طابعة الرسوم الهندسي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1f497d"/>
                </a:solidFill>
                <a:latin typeface="Century Schoolbook"/>
              </a:rPr>
              <a:t>- إن طابعة الرسوم الهندسية عبارة عن جهاز إخراج  مشابه للطابعة، ولكنه يتيح لك طباعة صور أكب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السماعا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40080" indent="0" algn="just" rtl="1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ar-SA" sz="3200" spc="-1" strike="noStrike">
                <a:solidFill>
                  <a:srgbClr val="1f497d"/>
                </a:solidFill>
                <a:latin typeface="Century Schoolbook"/>
                <a:cs typeface="Arial"/>
              </a:rPr>
              <a:t>تزيد من الاستفادة من المواد التعليمية والعروض التقديمية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7277040" y="3868560"/>
            <a:ext cx="1723680" cy="1631520"/>
          </a:xfrm>
          <a:prstGeom prst="rect">
            <a:avLst/>
          </a:prstGeom>
          <a:ln w="9525">
            <a:noFill/>
          </a:ln>
        </p:spPr>
      </p:pic>
      <p:sp>
        <p:nvSpPr>
          <p:cNvPr id="218" name="PlaceHolder 3"/>
          <p:cNvSpPr>
            <a:spLocks noGrp="1"/>
          </p:cNvSpPr>
          <p:nvPr>
            <p:ph type="sldNum" idx="2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08D64FA-16BB-4770-A538-F1D92BD95C1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7215120" y="2222640"/>
            <a:ext cx="1928520" cy="1920600"/>
          </a:xfrm>
          <a:prstGeom prst="rect">
            <a:avLst/>
          </a:prstGeom>
          <a:ln w="9525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7358040" y="4714920"/>
            <a:ext cx="1785600" cy="1356840"/>
          </a:xfrm>
          <a:prstGeom prst="rect">
            <a:avLst/>
          </a:prstGeom>
          <a:ln w="9525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1428840"/>
            <a:ext cx="7429320" cy="52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</a:pPr>
            <a:r>
              <a:rPr b="1" lang="en-US" sz="2400" spc="-1" strike="noStrike">
                <a:solidFill>
                  <a:srgbClr val="1f497d"/>
                </a:solidFill>
                <a:latin typeface="Century Schoolbook"/>
              </a:rPr>
              <a:t> الذاكرة الرئيسية </a:t>
            </a:r>
            <a:r>
              <a:rPr b="1" lang="en-US" sz="2400" spc="-1" strike="noStrike">
                <a:solidFill>
                  <a:srgbClr val="1f497d"/>
                </a:solidFill>
                <a:latin typeface="Century Schoolbook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Mudir MT"/>
              </a:rPr>
              <a:t>أنواع الذاكرة الرئيسية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Mudir MT"/>
              </a:rPr>
              <a:t>ذاكرة الوصول العشوائي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andom Access Memor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-"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هي المكان الذي يتم تحميل نظام التشغيل إليه عندما يتم بدء تشغيل الحاسوب وأيضًا عند نسخ البرامج التطبيقية عند تحميل أي برنامج، على سبيل المثال: أي برنامج خاص بقواعد البيانات أو معالجة النصو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ذاكرة القراءة فقط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O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ead Only Memor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-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ead Only Memory-Basic Input Output System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OM-BIO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شريحة خاصة يتم تركيبها في لوحة النظام للحاسوب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-"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حتوي على البرامج اللازمة لجعل الحاسوب يعمل مع نظام التشغيل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-"/>
              <a:tabLst>
                <a:tab algn="l" pos="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حتاج لبطارية لحفظ معلومات الوقت والتاريخ واعدادت بدء التشغيل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ldNum" idx="26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E9DEBC0-D181-49C7-A808-2E777F9ABC3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743040" indent="0" algn="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3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. </a:t>
            </a:r>
            <a:r>
              <a:rPr b="1" lang="ar-EG" sz="3600" spc="-1" strike="noStrike" cap="small">
                <a:solidFill>
                  <a:srgbClr val="1f497d"/>
                </a:solidFill>
                <a:latin typeface="Century Schoolbook"/>
              </a:rPr>
              <a:t>وحدات الذاكرة والتخزين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 </a:t>
            </a:r>
            <a:br>
              <a:rPr sz="3600"/>
            </a:b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Memory &amp; Storage Unit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14200" y="1428840"/>
            <a:ext cx="685764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Mudir MT"/>
              </a:rPr>
              <a:t>القرص الصلب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ard disk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 Backslanted"/>
                <a:cs typeface="Mudir MT"/>
              </a:rPr>
              <a:t>تعد الأقراص الصلبة مساحة تخزين البيانات الرئيسية والكبيرة الموجودة داخل الحاسوب الخاص بك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 Backslanted"/>
                <a:cs typeface="Mudir MT"/>
              </a:rPr>
              <a:t>تُستخدم الأقراص الصلبة في تخزين نظام التشغيل والبرامج التي تستخدمها (على سبيل المثال، برنامج معالجة النصوص والألعاب وهكذا) والبيانات الخاصة بك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 Backslanted"/>
                <a:cs typeface="Mudir MT"/>
              </a:rPr>
              <a:t>هي أسرع بكثير من الأقراص المدمجة والمرنة ويمكنها تخزين قدر أكبر بكثير من البيانات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7093080" y="2438280"/>
            <a:ext cx="1979280" cy="2209320"/>
          </a:xfrm>
          <a:prstGeom prst="rect">
            <a:avLst/>
          </a:prstGeom>
          <a:ln w="9525">
            <a:noFill/>
          </a:ln>
        </p:spPr>
      </p:pic>
      <p:sp>
        <p:nvSpPr>
          <p:cNvPr id="226" name="PlaceHolder 2"/>
          <p:cNvSpPr>
            <a:spLocks noGrp="1"/>
          </p:cNvSpPr>
          <p:nvPr>
            <p:ph type="sldNum" idx="27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733F3BD-6B11-49B0-A3F4-5CF3F7BF758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title"/>
          </p:nvPr>
        </p:nvSpPr>
        <p:spPr>
          <a:xfrm>
            <a:off x="357120" y="0"/>
            <a:ext cx="864360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lvl="1" marL="365400" indent="-365400" algn="r" rtl="1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29084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entury Schoolbook"/>
              </a:rPr>
              <a:t> الذاكرة الثانوية  </a:t>
            </a:r>
            <a:r>
              <a:rPr b="1" lang="en-US" sz="4000" spc="-1" strike="noStrike">
                <a:solidFill>
                  <a:srgbClr val="1f497d"/>
                </a:solidFill>
                <a:latin typeface="Century Schoolbook"/>
              </a:rPr>
              <a:t>Secondary Storage Uni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4200" spc="-1" strike="noStrike" cap="small">
                <a:solidFill>
                  <a:srgbClr val="1f497d"/>
                </a:solidFill>
                <a:latin typeface="Century Schoolbook"/>
              </a:rPr>
              <a:t>مقارنة بين ذاكرة الوصول العشوائي والقرص الصلب</a:t>
            </a:r>
            <a:endParaRPr b="0" lang="en-US" sz="4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229" name="Content Placeholder 4"/>
          <p:cNvGraphicFramePr/>
          <p:nvPr/>
        </p:nvGraphicFramePr>
        <p:xfrm>
          <a:off x="457200" y="1214280"/>
          <a:ext cx="8229240" cy="587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Hard Dis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A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Century Schoolbook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ذاكرة ثانو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ذاكرة رئيس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نوع الذاك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وسط مغناطيس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دوائر الكترون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وسط التخز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كبيرة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صغيرة بالمقارنة بالقرص الصل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سعة التخز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أبطأ بكثير من الـ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عالية جداً (وصول عشوائي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السرعة (سرعة الوصول للبيانات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تحتفظ بالبيانات بعد انقطاع التيار الكهربائ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لا تحتفظ بالبيانات بعد انقطاع التيار الكهربائ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الاحتفاظ بالبيان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230" name="PlaceHolder 2"/>
          <p:cNvSpPr>
            <a:spLocks noGrp="1"/>
          </p:cNvSpPr>
          <p:nvPr>
            <p:ph type="sldNum" idx="28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5C6641B-B591-4A2E-B7AD-37531D0A707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6000" spc="-1" strike="noStrike" cap="small">
                <a:solidFill>
                  <a:srgbClr val="000000"/>
                </a:solidFill>
                <a:latin typeface="Times New Roman Backslanted"/>
                <a:cs typeface="MCS Gulf S_U normal."/>
              </a:rPr>
              <a:t>وحدات قياس الذاكرة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714680"/>
            <a:ext cx="9000720" cy="44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بت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Bit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: </a:t>
            </a:r>
            <a:r>
              <a:rPr b="0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تستخدم كل الحواسيب نظام الترقيم الثنائي، أي إنها تقوم بمعالجة البيانات كصفر أو واحد. وهذا المستوى من التخزين يسمى بالب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بايت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Byte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: </a:t>
            </a:r>
            <a:r>
              <a:rPr b="0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يتكون البايت الواحد من 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8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 ب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2800" spc="-1" strike="noStrike">
                <a:solidFill>
                  <a:srgbClr val="000080"/>
                </a:solidFill>
                <a:latin typeface="Century School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كيلو بايت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KB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: </a:t>
            </a:r>
            <a:r>
              <a:rPr b="0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يتكون الكيلو بايت الواحد من 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1024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 باي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2800" spc="-1" strike="noStrike">
                <a:solidFill>
                  <a:srgbClr val="000080"/>
                </a:solidFill>
                <a:latin typeface="Century School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ميجا بايت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MB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: </a:t>
            </a:r>
            <a:r>
              <a:rPr b="0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يتكون الميجا بايت الواحد من 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1024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 كيلو باي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</a:rPr>
              <a:t>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الجيجا بايت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GB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: </a:t>
            </a:r>
            <a:r>
              <a:rPr b="0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يتكون الجيجا البايت الواحد من 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1024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 ميجا باي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29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B97E67A-6608-43E5-A42B-454ED7F688A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6000" spc="-1" strike="noStrike" cap="small">
                <a:solidFill>
                  <a:srgbClr val="000000"/>
                </a:solidFill>
                <a:latin typeface="Times New Roman Backslanted"/>
                <a:cs typeface="MCS Gulf S_U normal."/>
              </a:rPr>
              <a:t>تخزين البيانات على القرص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00072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الملفات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يتم تخزين البيانات والبرامج على </a:t>
            </a:r>
            <a:r>
              <a:rPr b="1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القرص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 الذي تستخدمه على هيئة </a:t>
            </a:r>
            <a:r>
              <a:rPr b="1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ملفات </a:t>
            </a:r>
            <a:r>
              <a:rPr b="1" lang="en-US" sz="2400" spc="-1" strike="noStrike">
                <a:solidFill>
                  <a:srgbClr val="000080"/>
                </a:solidFill>
                <a:latin typeface="Century Schoolbook"/>
              </a:rPr>
              <a:t>Files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هناك أنواع مختلفة من الملفات (حسب نوع امتداد الملف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just" rtl="1">
              <a:lnSpc>
                <a:spcPct val="100000"/>
              </a:lnSpc>
              <a:spcBef>
                <a:spcPts val="400"/>
              </a:spcBef>
              <a:buClr>
                <a:srgbClr val="4571a6"/>
              </a:buClr>
              <a:buSzPct val="60000"/>
              <a:buFont typeface="Wingdings" charset="2"/>
              <a:buChar char=""/>
            </a:pPr>
            <a:r>
              <a:rPr b="0" lang="ar-SA" sz="2000" spc="-1" strike="noStrike">
                <a:solidFill>
                  <a:srgbClr val="000080"/>
                </a:solidFill>
                <a:latin typeface="Century Schoolbook"/>
                <a:cs typeface="Arial"/>
              </a:rPr>
              <a:t>ملفات البرامج التطبيقية لها الامتداد </a:t>
            </a:r>
            <a:r>
              <a:rPr b="0" lang="en-US" sz="2000" spc="-1" strike="noStrike">
                <a:solidFill>
                  <a:srgbClr val="000080"/>
                </a:solidFill>
                <a:latin typeface="Century Schoolbook"/>
              </a:rPr>
              <a:t>ex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just" rtl="1">
              <a:lnSpc>
                <a:spcPct val="100000"/>
              </a:lnSpc>
              <a:spcBef>
                <a:spcPts val="400"/>
              </a:spcBef>
              <a:buClr>
                <a:srgbClr val="4571a6"/>
              </a:buClr>
              <a:buSzPct val="60000"/>
              <a:buFont typeface="Wingdings" charset="2"/>
              <a:buChar char=""/>
            </a:pPr>
            <a:r>
              <a:rPr b="0" lang="ar-SA" sz="2000" spc="-1" strike="noStrike">
                <a:solidFill>
                  <a:srgbClr val="000080"/>
                </a:solidFill>
                <a:latin typeface="Century Schoolbook"/>
                <a:cs typeface="Arial"/>
              </a:rPr>
              <a:t>الملفات النصية لها الامتداد </a:t>
            </a:r>
            <a:r>
              <a:rPr b="0" lang="en-US" sz="2000" spc="-1" strike="noStrike">
                <a:solidFill>
                  <a:srgbClr val="000080"/>
                </a:solidFill>
                <a:latin typeface="Century Schoolbook"/>
              </a:rPr>
              <a:t>tx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just" rtl="1">
              <a:lnSpc>
                <a:spcPct val="100000"/>
              </a:lnSpc>
              <a:spcBef>
                <a:spcPts val="400"/>
              </a:spcBef>
              <a:buClr>
                <a:srgbClr val="4571a6"/>
              </a:buClr>
              <a:buSzPct val="60000"/>
              <a:buFont typeface="Wingdings" charset="2"/>
              <a:buChar char=""/>
            </a:pPr>
            <a:r>
              <a:rPr b="0" lang="ar-SA" sz="2000" spc="-1" strike="noStrike">
                <a:solidFill>
                  <a:srgbClr val="000080"/>
                </a:solidFill>
                <a:latin typeface="Century Schoolbook"/>
                <a:cs typeface="Arial"/>
              </a:rPr>
              <a:t>ملفات الصور لها الامتداد </a:t>
            </a:r>
            <a:r>
              <a:rPr b="0" lang="en-US" sz="2000" spc="-1" strike="noStrike">
                <a:solidFill>
                  <a:srgbClr val="000080"/>
                </a:solidFill>
                <a:latin typeface="Century Schoolbook"/>
              </a:rPr>
              <a:t>jpg</a:t>
            </a:r>
            <a:r>
              <a:rPr b="0" lang="en-US" sz="2000" spc="-1" strike="noStrike">
                <a:solidFill>
                  <a:srgbClr val="000080"/>
                </a:solidFill>
                <a:latin typeface="Century Schoolbook"/>
              </a:rPr>
              <a:t>  أو </a:t>
            </a:r>
            <a:r>
              <a:rPr b="0" lang="en-US" sz="2000" spc="-1" strike="noStrike">
                <a:solidFill>
                  <a:srgbClr val="000080"/>
                </a:solidFill>
                <a:latin typeface="Century Schoolbook"/>
              </a:rPr>
              <a:t>gif</a:t>
            </a:r>
            <a:r>
              <a:rPr b="0" lang="en-US" sz="2000" spc="-1" strike="noStrike">
                <a:solidFill>
                  <a:srgbClr val="000080"/>
                </a:solidFill>
                <a:latin typeface="Century Schoolbook"/>
              </a:rPr>
              <a:t> أو </a:t>
            </a:r>
            <a:r>
              <a:rPr b="0" lang="en-US" sz="2000" spc="-1" strike="noStrike">
                <a:solidFill>
                  <a:srgbClr val="000080"/>
                </a:solidFill>
                <a:latin typeface="Century Schoolbook"/>
              </a:rPr>
              <a:t>bm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مجلدات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Fold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يمكن أن تحتوي على ملفات أو مجلدات فرعية </a:t>
            </a:r>
            <a:r>
              <a:rPr b="0" lang="en-US" sz="2400" spc="-1" strike="noStrike">
                <a:solidFill>
                  <a:srgbClr val="000080"/>
                </a:solidFill>
                <a:latin typeface="Century Schoolbook"/>
              </a:rPr>
              <a:t>Subfold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تنظيم الملفات والمجلدا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سجلات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السجل عبارة عن مجموعة من البيانات الموجودة داخل مل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400" spc="-1" strike="noStrike">
                <a:solidFill>
                  <a:srgbClr val="000080"/>
                </a:solidFill>
                <a:latin typeface="Century Schoolbook"/>
                <a:cs typeface="Arial"/>
              </a:rPr>
              <a:t>هو نوع من وحدات التخزين تستخدمه أي قاعدة للبيانا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30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CD5C6B1-6861-4CD0-A511-DEA2E7259EF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0" y="857160"/>
            <a:ext cx="1433160" cy="1599840"/>
          </a:xfrm>
          <a:prstGeom prst="rect">
            <a:avLst/>
          </a:prstGeom>
          <a:ln w="9525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6864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Times New Roman Backslanted"/>
                <a:cs typeface="Mudir MT"/>
              </a:rPr>
              <a:t>المقارنة بين الأنواع المختلفة لوحدات التخزين الخاصة بالذاكرة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28760" y="857160"/>
            <a:ext cx="8429400" cy="59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ar-SA" sz="2400" spc="-1" strike="noStrike">
                <a:solidFill>
                  <a:srgbClr val="1f497d"/>
                </a:solidFill>
                <a:latin typeface="Century Schoolbook"/>
              </a:rPr>
              <a:t>الأقراص الصلبة الداخلي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سرعة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- سرعة عالية جدًا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- وعادةً ما يُطلق على سرعة أي قرص صلب سرعة "متوسط وقت الوصول" والتي تُقاس بالميللي ثانية. وكلما قل هذا الرقم، زادت سرعة القر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سعة التخزينية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كبيرة! جداً، تصل سعتها اليوم أكثر من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B10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1TB = 1024GB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سعر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  <a:cs typeface="Arial"/>
              </a:rPr>
              <a:t>لقد بدأت أسعار الأقراص الصلبة في الانخفاض بشكل كبير حيث إنها تعد أرخص طريقة لتخزين البيانات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31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8966E4B-7105-445A-9DDC-5C70D8E8485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6864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Times New Roman Backslanted"/>
                <a:cs typeface="Mudir MT"/>
              </a:rPr>
              <a:t>المقارنة بين الأنواع المختلفة لوحدات التخزين الخاصة بالذاكرة</a:t>
            </a:r>
            <a:r>
              <a:rPr b="1" lang="en-US" sz="3000" spc="-1" strike="noStrike" cap="small">
                <a:solidFill>
                  <a:srgbClr val="1f497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57680" cy="48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ar-SA" sz="4000" spc="-1" strike="noStrike">
                <a:solidFill>
                  <a:srgbClr val="1f497d"/>
                </a:solidFill>
                <a:latin typeface="Century Schoolbook"/>
              </a:rPr>
              <a:t>الأقراص الصلبة الخارجية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سرعة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أبطأ من الأقراص الداخلية، ولكن تقدم الأنواع مرتفعة الثمن منها الأداء نفسه الذي تقدمه الأقراص الصلبة الداخلي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سعة التخزينية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مثل الأقراص الداخلية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سعر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</a:rPr>
              <a:t>أغلى من الأقراص الصلبة الداخلية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32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6280B85-6654-4768-B800-69BAD10486E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ar-SA" sz="4000" spc="-1" strike="noStrike" cap="small">
                <a:solidFill>
                  <a:srgbClr val="1f497d"/>
                </a:solidFill>
                <a:latin typeface="Century Schoolbook"/>
                <a:cs typeface="Mudir MT"/>
              </a:rPr>
              <a:t>الأجهزة الطرفية  </a:t>
            </a:r>
            <a:r>
              <a:rPr b="0" lang="en-US" sz="4000" spc="-1" strike="noStrike" cap="small">
                <a:solidFill>
                  <a:srgbClr val="1f497d"/>
                </a:solidFill>
                <a:latin typeface="Century Schoolbook"/>
              </a:rPr>
              <a:t>Peripherals</a:t>
            </a:r>
            <a:r>
              <a:rPr b="0" lang="en-US" sz="4000" spc="-1" strike="noStrike" cap="small">
                <a:solidFill>
                  <a:srgbClr val="1f497d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040" cy="24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00"/>
                </a:solidFill>
                <a:latin typeface="Times New Roman Backslanted"/>
              </a:rPr>
              <a:t>إن الجهاز الطرفي هو أي جهاز يمكنك توصيله بالحاسوب التابع لك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1f497d"/>
                </a:solidFill>
                <a:latin typeface="Times New Roman Backslanted"/>
              </a:rPr>
              <a:t>يمكنك توصيل ماسح ضوئي أو مودم أو طابعة بالجزء الخلفي لوحدة الحاسوب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246" name="Object 2"/>
          <p:cNvGraphicFramePr/>
          <p:nvPr/>
        </p:nvGraphicFramePr>
        <p:xfrm>
          <a:off x="3200400" y="4557600"/>
          <a:ext cx="2971440" cy="2228400"/>
        </p:xfrm>
        <a:graphic>
          <a:graphicData uri="http://schemas.openxmlformats.org/presentationml/2006/ole">
            <p:oleObj progId="Word.Picture.8"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557600"/>
                    <a:ext cx="2971440" cy="22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3"/>
          <p:cNvSpPr>
            <a:spLocks noGrp="1"/>
          </p:cNvSpPr>
          <p:nvPr>
            <p:ph type="sldNum" idx="33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F67A9C5-667E-4014-BD32-EAE7D6C2EE6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7200" spc="-1" strike="noStrike" cap="small">
                <a:solidFill>
                  <a:srgbClr val="1f497d"/>
                </a:solidFill>
                <a:latin typeface="Arial Black"/>
                <a:cs typeface="SKR HEAD2"/>
              </a:rPr>
              <a:t>مقدمة عامة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8472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</a:rPr>
              <a:t>تلعب الحواسيب دوراً مؤثراً في حياتنا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641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3200" spc="-1" strike="noStrike">
                <a:solidFill>
                  <a:srgbClr val="1f497d"/>
                </a:solidFill>
                <a:latin typeface="Century Schoolbook"/>
              </a:rPr>
              <a:t>تستخدم في جميع المؤسسات: المدارس، المصانع، المستشفيات، البنوك، والمؤسسات العسكرية والمدنية المختلفة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641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3200" spc="-1" strike="noStrike">
                <a:solidFill>
                  <a:srgbClr val="1f497d"/>
                </a:solidFill>
                <a:latin typeface="Century Schoolbook"/>
              </a:rPr>
              <a:t>زاد التأثير بدرجة بكبيرة بعد اتصال الحواسيب بعضها ببعض وتبادل المعلومات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641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3200" spc="-1" strike="noStrike">
                <a:solidFill>
                  <a:srgbClr val="1f497d"/>
                </a:solidFill>
                <a:latin typeface="Century Schoolbook"/>
              </a:rPr>
              <a:t>الناتج أكبر بنوعية أفضل وبأقل تكلفة 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7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54C0E3C-F4B8-42E2-80AA-61301742599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6000" spc="-1" strike="noStrike" cap="small">
                <a:solidFill>
                  <a:srgbClr val="000000"/>
                </a:solidFill>
                <a:latin typeface="Times New Roman Backslanted"/>
                <a:cs typeface="MCS Gulf S_U normal."/>
              </a:rPr>
              <a:t>أداء الحاسوب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777204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400" spc="-1" strike="noStrike">
                <a:solidFill>
                  <a:srgbClr val="000000"/>
                </a:solidFill>
                <a:latin typeface="Times New Roman Backslanted"/>
                <a:cs typeface="Mudir MT"/>
              </a:rPr>
              <a:t>بعض العوامل التي تؤثر على أداء الحاسو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641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3200" spc="-1" strike="noStrike">
                <a:solidFill>
                  <a:srgbClr val="000080"/>
                </a:solidFill>
                <a:latin typeface="Times New Roman Backslanted"/>
                <a:cs typeface="Mudir MT"/>
              </a:rPr>
              <a:t>سرعة المعالج</a:t>
            </a:r>
            <a:r>
              <a:rPr b="0" lang="en-US" sz="3200" spc="-1" strike="noStrike">
                <a:solidFill>
                  <a:srgbClr val="000080"/>
                </a:solidFill>
                <a:latin typeface="Times New Roman Backslanted"/>
              </a:rPr>
              <a:t>  </a:t>
            </a:r>
            <a:r>
              <a:rPr b="0" lang="en-US" sz="3200" spc="-1" strike="noStrike">
                <a:solidFill>
                  <a:srgbClr val="000080"/>
                </a:solidFill>
                <a:latin typeface="Times New Roman Backslanted"/>
              </a:rPr>
              <a:t>CPU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641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3200" spc="-1" strike="noStrike">
                <a:solidFill>
                  <a:srgbClr val="000080"/>
                </a:solidFill>
                <a:latin typeface="Times New Roman Backslanted"/>
                <a:cs typeface="Arial"/>
              </a:rPr>
              <a:t>حجم ذاكرة الوصول العشوائي </a:t>
            </a:r>
            <a:r>
              <a:rPr b="0" lang="en-US" sz="3200" spc="-1" strike="noStrike">
                <a:solidFill>
                  <a:srgbClr val="000080"/>
                </a:solidFill>
                <a:latin typeface="Times New Roman Backslanted"/>
              </a:rPr>
              <a:t>RA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641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3200" spc="-1" strike="noStrike">
                <a:solidFill>
                  <a:srgbClr val="000080"/>
                </a:solidFill>
                <a:latin typeface="Times New Roman Backslanted"/>
                <a:cs typeface="Arial"/>
              </a:rPr>
              <a:t>سرعة القرص الصلب وسعته </a:t>
            </a:r>
            <a:r>
              <a:rPr b="0" lang="en-US" sz="3200" spc="-1" strike="noStrike">
                <a:solidFill>
                  <a:srgbClr val="000080"/>
                </a:solidFill>
                <a:latin typeface="Times New Roman Backslanted"/>
              </a:rPr>
              <a:t>Hard Disk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34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12EA22C-9CEB-43C5-BB72-B5B65DF325A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Century Schoolbook"/>
              </a:rPr>
              <a:t>تكنولوجيا المعلومات </a:t>
            </a:r>
            <a:r>
              <a:rPr b="1" lang="en-US" sz="3000" spc="-1" strike="noStrike" cap="small">
                <a:solidFill>
                  <a:srgbClr val="1f497d"/>
                </a:solidFill>
                <a:latin typeface="Century Schoolbook"/>
              </a:rPr>
              <a:t>I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24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هو مصطلح عام يشير إلى كل الأدوات المستخدمة لإنشاء, تخزين, نقل, البيانات  بصورها الالكترونية (نص, صوت, صورة, فيديو) وصيانتها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تكنولوجيا المعلومات مرتبطة بكل جوانب إدارة المعلومات ومعالجتها، خاصة داخل أي شركة كبيرة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الحواسيب من الأدوات المهمة في إدارة المعلومات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يطلق على أقسام الحاسوب الموجودة داخل الشركات الكبرى أقسام تكنولوجيا المعلومات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8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530F24B-83D2-42C0-9957-3EFE3ABF009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Century Schoolbook"/>
              </a:rPr>
              <a:t>تعريف الحاسوب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643600" cy="52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</a:rPr>
              <a:t>الحاسوب هو آلة لها القدرة على تخزين ومعالجة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بيانات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وفقا لمجموعة من التعليمات (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برامج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 للحصول على معلومات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حاسوب هو آلة لها القدرة على إجراء العمليات والقرارات المنطقية (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تعليمات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 بسرعة هائلة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حاسوب هو آلة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يمكن برمجتها</a:t>
            </a: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، وتستقبل البيانات وتعالجها وتخزن الناتج (المعلومات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دورة معالجة البيانات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إدخال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إدخال </a:t>
            </a:r>
            <a:r>
              <a:rPr b="1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البيانات</a:t>
            </a:r>
            <a:r>
              <a:rPr b="0" lang="en-US" sz="2400" spc="-1" strike="noStrike">
                <a:solidFill>
                  <a:srgbClr val="1f497d"/>
                </a:solidFill>
                <a:latin typeface="Century Schoolbook"/>
              </a:rPr>
              <a:t> للحاسوب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معالجة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Processing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إجراء </a:t>
            </a:r>
            <a:r>
              <a:rPr b="1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العمليات</a:t>
            </a:r>
            <a:r>
              <a:rPr b="0" lang="en-US" sz="2400" spc="-1" strike="noStrike">
                <a:solidFill>
                  <a:srgbClr val="1f497d"/>
                </a:solidFill>
                <a:latin typeface="Century Schoolbook"/>
              </a:rPr>
              <a:t> على البيانات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إخراج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utput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عرض النتائج (</a:t>
            </a:r>
            <a:r>
              <a:rPr b="1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المعلومات</a:t>
            </a:r>
            <a:r>
              <a:rPr b="0" lang="en-US" sz="2400" spc="-1" strike="noStrike">
                <a:solidFill>
                  <a:srgbClr val="1f497d"/>
                </a:solidFill>
                <a:latin typeface="Century Schoolbook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تخزين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torage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تخزين </a:t>
            </a:r>
            <a:r>
              <a:rPr b="1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البيانات والبرامج والمعلومات </a:t>
            </a:r>
            <a:r>
              <a:rPr b="0" lang="ar-SA" sz="2400" spc="-1" strike="noStrike">
                <a:solidFill>
                  <a:srgbClr val="1f497d"/>
                </a:solidFill>
                <a:latin typeface="Century Schoolbook"/>
                <a:cs typeface="Arial"/>
              </a:rPr>
              <a:t>لاستخدامها لاحقا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B085A68-EF2F-455F-B1BC-3E9E2F565C0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Fig01-05"/>
          <p:cNvPicPr/>
          <p:nvPr/>
        </p:nvPicPr>
        <p:blipFill>
          <a:blip r:embed="rId1"/>
          <a:srcRect l="0" t="5402" r="0" b="0"/>
          <a:stretch/>
        </p:blipFill>
        <p:spPr>
          <a:xfrm>
            <a:off x="0" y="428760"/>
            <a:ext cx="8929440" cy="5071680"/>
          </a:xfrm>
          <a:prstGeom prst="rect">
            <a:avLst/>
          </a:prstGeom>
          <a:ln w="9525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02760" y="391680"/>
            <a:ext cx="5866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Century Schoolbook"/>
              </a:rPr>
              <a:t>دورة معالجة البيانات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Num" idx="10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022FE7D-0BA3-44AF-A798-C6371E0734F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12"/>
          <p:cNvGrpSpPr/>
          <p:nvPr/>
        </p:nvGrpSpPr>
        <p:grpSpPr>
          <a:xfrm>
            <a:off x="1285920" y="5572080"/>
            <a:ext cx="7428960" cy="642600"/>
            <a:chOff x="1285920" y="5572080"/>
            <a:chExt cx="7428960" cy="642600"/>
          </a:xfrm>
        </p:grpSpPr>
        <p:sp>
          <p:nvSpPr>
            <p:cNvPr id="125" name="Rounded Rectangle 4"/>
            <p:cNvSpPr/>
            <p:nvPr/>
          </p:nvSpPr>
          <p:spPr>
            <a:xfrm>
              <a:off x="1285920" y="5572080"/>
              <a:ext cx="1356840" cy="6426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ar-SA" sz="1800" spc="-1" strike="noStrike">
                  <a:solidFill>
                    <a:schemeClr val="lt1"/>
                  </a:solidFill>
                  <a:latin typeface="Century Schoolbook"/>
                </a:rPr>
                <a:t>إدخال</a:t>
              </a:r>
              <a:r>
                <a:rPr b="0" lang="en-US" sz="1800" spc="-1" strike="noStrike">
                  <a:solidFill>
                    <a:schemeClr val="lt1"/>
                  </a:solidFill>
                  <a:latin typeface="Century Schoolbook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ight Arrow 5"/>
            <p:cNvSpPr/>
            <p:nvPr/>
          </p:nvSpPr>
          <p:spPr>
            <a:xfrm>
              <a:off x="2643120" y="5715000"/>
              <a:ext cx="713880" cy="356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sp>
          <p:nvSpPr>
            <p:cNvPr id="127" name="Rounded Rectangle 6"/>
            <p:cNvSpPr/>
            <p:nvPr/>
          </p:nvSpPr>
          <p:spPr>
            <a:xfrm>
              <a:off x="3357720" y="5572080"/>
              <a:ext cx="1356840" cy="6426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ar-SA" sz="1800" spc="-1" strike="noStrike">
                  <a:solidFill>
                    <a:schemeClr val="lt1"/>
                  </a:solidFill>
                  <a:latin typeface="Century Schoolbook"/>
                </a:rPr>
                <a:t>معالج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ight Arrow 7"/>
            <p:cNvSpPr/>
            <p:nvPr/>
          </p:nvSpPr>
          <p:spPr>
            <a:xfrm>
              <a:off x="4714920" y="5715000"/>
              <a:ext cx="642600" cy="356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sp>
          <p:nvSpPr>
            <p:cNvPr id="129" name="Rounded Rectangle 8"/>
            <p:cNvSpPr/>
            <p:nvPr/>
          </p:nvSpPr>
          <p:spPr>
            <a:xfrm>
              <a:off x="5357880" y="5572080"/>
              <a:ext cx="1356840" cy="6426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ar-SA" sz="1800" spc="-1" strike="noStrike">
                  <a:solidFill>
                    <a:schemeClr val="lt1"/>
                  </a:solidFill>
                  <a:latin typeface="Century Schoolbook"/>
                </a:rPr>
                <a:t>إخرا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ight Arrow 9"/>
            <p:cNvSpPr/>
            <p:nvPr/>
          </p:nvSpPr>
          <p:spPr>
            <a:xfrm>
              <a:off x="6715080" y="5715000"/>
              <a:ext cx="642600" cy="356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sp>
          <p:nvSpPr>
            <p:cNvPr id="131" name="Rounded Rectangle 10"/>
            <p:cNvSpPr/>
            <p:nvPr/>
          </p:nvSpPr>
          <p:spPr>
            <a:xfrm>
              <a:off x="7358040" y="5572080"/>
              <a:ext cx="1356840" cy="6426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ar-SA" sz="1800" spc="-1" strike="noStrike">
                  <a:solidFill>
                    <a:schemeClr val="lt1"/>
                  </a:solidFill>
                  <a:latin typeface="Century Schoolbook"/>
                </a:rPr>
                <a:t>تخزي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7072200" y="1214280"/>
            <a:ext cx="2071440" cy="1996560"/>
          </a:xfrm>
          <a:prstGeom prst="rect">
            <a:avLst/>
          </a:prstGeom>
          <a:ln w="9525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98580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5400" spc="-1" strike="noStrike" cap="small">
                <a:solidFill>
                  <a:srgbClr val="000000"/>
                </a:solidFill>
                <a:latin typeface="Times New Roman Backslanted"/>
                <a:cs typeface="MCS Gulf S_U normal."/>
              </a:rPr>
              <a:t>أنواع الحواسيب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85920"/>
            <a:ext cx="73576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-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الحاسوب الكبير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infra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-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حاسوب الفائق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per Compu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-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حاسوب الصغير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ni Compu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-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حاسوب المتصل بالشبك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-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حاسوب المحمول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rtable Computer (Laptop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-"/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حاسوب الشخصي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sonal Computer (PC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40080" indent="0" algn="r" rtl="1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7572240" y="5000760"/>
            <a:ext cx="1571400" cy="1285560"/>
          </a:xfrm>
          <a:prstGeom prst="rect">
            <a:avLst/>
          </a:prstGeom>
          <a:ln w="9525">
            <a:noFill/>
          </a:ln>
        </p:spPr>
      </p:pic>
      <p:sp>
        <p:nvSpPr>
          <p:cNvPr id="136" name="PlaceHolder 3"/>
          <p:cNvSpPr>
            <a:spLocks noGrp="1"/>
          </p:cNvSpPr>
          <p:nvPr>
            <p:ph type="sldNum" idx="11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0024236-1767-4E31-9C0D-8D801B8D5FF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200" spc="-1" strike="noStrike" cap="small">
                <a:solidFill>
                  <a:srgbClr val="1f497d"/>
                </a:solidFill>
                <a:latin typeface="Century Schoolbook"/>
                <a:cs typeface="Mudir MT"/>
              </a:rPr>
              <a:t>التمييز بين أنواع الحاسوب من حيث </a:t>
            </a:r>
            <a:br>
              <a:rPr sz="3200"/>
            </a:br>
            <a:r>
              <a:rPr b="1" lang="ar-SA" sz="3200" spc="-1" strike="noStrike" cap="small">
                <a:solidFill>
                  <a:srgbClr val="1f497d"/>
                </a:solidFill>
                <a:latin typeface="Century Schoolbook"/>
                <a:cs typeface="Mudir MT"/>
              </a:rPr>
              <a:t>السعة والسرعة والسعر والمستخدمي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6500520" cy="52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حواسيب الكبير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Symbol"/>
              <a:buChar char="-"/>
            </a:pPr>
            <a:r>
              <a:rPr b="0" lang="ar-SA" sz="2100" spc="-1" strike="noStrike">
                <a:solidFill>
                  <a:srgbClr val="1f497d"/>
                </a:solidFill>
                <a:latin typeface="Century Schoolbook"/>
              </a:rPr>
              <a:t>ذات إمكانيات عالية جدًا</a:t>
            </a: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Symbol"/>
              <a:buChar char="-"/>
            </a:pPr>
            <a:r>
              <a:rPr b="0" lang="ar-SA" sz="2100" spc="-1" strike="noStrike">
                <a:solidFill>
                  <a:srgbClr val="1f497d"/>
                </a:solidFill>
                <a:latin typeface="Century Schoolbook"/>
                <a:cs typeface="Arial"/>
              </a:rPr>
              <a:t>تستخدمها الهيئات الكبيرة مثل البنوك للتحكم في سير العمل بالكامل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Symbol"/>
              <a:buChar char="-"/>
            </a:pPr>
            <a:r>
              <a:rPr b="0" lang="ar-SA" sz="2100" spc="-1" strike="noStrike">
                <a:solidFill>
                  <a:srgbClr val="1f497d"/>
                </a:solidFill>
                <a:latin typeface="Century Schoolbook"/>
                <a:cs typeface="Arial"/>
              </a:rPr>
              <a:t>مرتفعة الثمن جدًا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Symbol"/>
              <a:buChar char="·"/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حواسيب الشخص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Symbol"/>
              <a:buChar char="-"/>
            </a:pPr>
            <a:r>
              <a:rPr b="0" lang="ar-SA" sz="2100" spc="-1" strike="noStrike">
                <a:solidFill>
                  <a:srgbClr val="1f497d"/>
                </a:solidFill>
                <a:latin typeface="Century Schoolbook"/>
                <a:cs typeface="Arial"/>
              </a:rPr>
              <a:t>رخيصة وسهلة الاستخدام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Symbol"/>
              <a:buChar char="-"/>
            </a:pP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 تستخدم عادةً كحواسيب مستقلة أو في شبك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just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Symbol"/>
              <a:buChar char="-"/>
            </a:pPr>
            <a:r>
              <a:rPr b="0" lang="en-US" sz="2100" spc="-1" strike="noStrike">
                <a:solidFill>
                  <a:srgbClr val="1f497d"/>
                </a:solidFill>
                <a:latin typeface="Century Schoolbook"/>
              </a:rPr>
              <a:t> من الممكن توصيلها بحواسيب كبيرة رئيسية داخل الشركات الكبير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6572160" y="1714680"/>
            <a:ext cx="2571480" cy="1898280"/>
          </a:xfrm>
          <a:prstGeom prst="rect">
            <a:avLst/>
          </a:prstGeom>
          <a:ln w="9525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7134120" y="3962520"/>
            <a:ext cx="1485720" cy="2252160"/>
          </a:xfrm>
          <a:prstGeom prst="rect">
            <a:avLst/>
          </a:prstGeom>
          <a:ln w="9525">
            <a:noFill/>
          </a:ln>
        </p:spPr>
      </p:pic>
      <p:sp>
        <p:nvSpPr>
          <p:cNvPr id="141" name="PlaceHolder 3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A111714-414A-4A3D-BC07-1818980C82C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3000" spc="-1" strike="noStrike" cap="small">
                <a:solidFill>
                  <a:srgbClr val="1f497d"/>
                </a:solidFill>
                <a:latin typeface="Century Schoolbook"/>
              </a:rPr>
              <a:t>مكونات نظام الحاسوب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685764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أولاً: المعدات (المكونات المادية)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  <a:cs typeface="Arial"/>
              </a:rPr>
              <a:t>هي الأجزاء الملموسة من الحاسوب مثل الشاشة والطابعة ولوحة المفاتيح .... الخ. ولا فائدة منها دون برمجيات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ثانياً: البرمجيات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  <a:cs typeface="Arial"/>
              </a:rPr>
              <a:t>مجموعة التعليمات التي تتحكم في عمل الحاسوب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ثالثا: المستخدم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ar-SA" sz="21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مستخدم شخص يشغل البرامج على الحاسوب لانجاز مهام محددة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13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B8C8E06-0576-48AF-8417-D2AF3F2609E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7143840" y="1000080"/>
            <a:ext cx="1872720" cy="2071440"/>
          </a:xfrm>
          <a:prstGeom prst="rect">
            <a:avLst/>
          </a:prstGeom>
          <a:ln w="9525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2"/>
          <a:stretch/>
        </p:blipFill>
        <p:spPr>
          <a:xfrm>
            <a:off x="7215120" y="3508200"/>
            <a:ext cx="1285560" cy="1634760"/>
          </a:xfrm>
          <a:prstGeom prst="rect">
            <a:avLst/>
          </a:prstGeom>
          <a:ln w="50800">
            <a:noFill/>
          </a:ln>
        </p:spPr>
      </p:pic>
      <p:sp>
        <p:nvSpPr>
          <p:cNvPr id="147" name="Smiley Face 6"/>
          <p:cNvSpPr/>
          <p:nvPr/>
        </p:nvSpPr>
        <p:spPr>
          <a:xfrm>
            <a:off x="7500960" y="5500800"/>
            <a:ext cx="1071360" cy="999720"/>
          </a:xfrm>
          <a:prstGeom prst="smileyFace">
            <a:avLst>
              <a:gd name="adj" fmla="val 4653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e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e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785</TotalTime>
  <Application>LibreOffice/7.4.7.2$Linux_X86_64 LibreOffice_project/40$Build-2</Application>
  <AppVersion>15.0000</AppVersion>
  <Words>1659</Words>
  <Paragraphs>2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EME</dc:creator>
  <dc:description/>
  <dc:language>en-US</dc:language>
  <cp:lastModifiedBy>jawish</cp:lastModifiedBy>
  <dcterms:modified xsi:type="dcterms:W3CDTF">2021-05-25T06:40:26Z</dcterms:modified>
  <cp:revision>521</cp:revision>
  <dc:subject/>
  <dc:title>المحاضرة الأولى الحاسبات وأنواعها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30</vt:r8>
  </property>
</Properties>
</file>