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B03-8003-43D3-AFD2-2E86AC0E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440-A79F-45BD-8FFB-6BC2FBC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4A8-E51F-4AF3-B4E7-388A17DA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943-AA51-439A-A92F-96844D59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A24F2-3158-4D7A-882B-EB2FC50A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41A0-6B03-4DEE-A75C-FE9353F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C2E2-69B3-4977-B93B-310158BA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74194-3449-4D96-8E31-03285CD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29F32-05FC-497B-A1F4-A516075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3127B-AE06-45EF-AE4D-F880BD1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D0AAC-AAA4-4E6F-B400-A026EDC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DF8-3009-4BF9-BC54-8555E21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CFB99-3407-4CE6-8573-FFCE3E2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5C451-BD02-4028-9506-9ED7176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8CC2C-DB69-4A9A-9EF7-D4713FA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FE559-C164-4380-9604-9CCA781A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27D0-287B-452B-80C0-E62DAE5C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5E1-BD07-4E23-9E43-8E50B37D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950-3A75-433C-97AA-FE6D327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4CD-98B4-48EA-8E9F-A5AEC38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610-C203-4CC4-9567-0631D8E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080-71A3-4CAF-AF7C-58F458A3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942-EEFE-47E9-B843-02638B4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69E-CF58-4BA2-A819-A269491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4f81bd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4f81bd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4f81bd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4f81bd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5ED34C-CEF2-4F3F-B0A6-F38CC7B28C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4f81bd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4f81bd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4f81bd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1f497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 algn="r" rtl="1">
              <a:lnSpc>
                <a:spcPct val="100000"/>
              </a:lnSpc>
              <a:spcBef>
                <a:spcPts val="420"/>
              </a:spcBef>
              <a:buClr>
                <a:srgbClr val="4f81bd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 algn="r" rtl="1">
              <a:lnSpc>
                <a:spcPct val="100000"/>
              </a:lnSpc>
              <a:spcBef>
                <a:spcPts val="360"/>
              </a:spcBef>
              <a:buClr>
                <a:srgbClr val="4571a6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 algn="r" rtl="1">
              <a:lnSpc>
                <a:spcPct val="100000"/>
              </a:lnSpc>
              <a:spcBef>
                <a:spcPts val="360"/>
              </a:spcBef>
              <a:buClr>
                <a:srgbClr val="b2c0da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 algn="r" rtl="1">
              <a:lnSpc>
                <a:spcPct val="100000"/>
              </a:lnSpc>
              <a:spcBef>
                <a:spcPts val="320"/>
              </a:spcBef>
              <a:buClr>
                <a:srgbClr val="dcb2b2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571B71-4FB2-4D65-A83C-CCCF71BABE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327672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المحاضرة 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10</a:t>
            </a:r>
            <a:r>
              <a:rPr b="1" lang="en-US" sz="3600" spc="-1" strike="noStrike" cap="small">
                <a:solidFill>
                  <a:srgbClr val="1f497d"/>
                </a:solidFill>
                <a:latin typeface="Century Schoolbook"/>
              </a:rPr>
              <a:t> </a:t>
            </a:r>
            <a:br>
              <a:rPr sz="3600"/>
            </a:br>
            <a:br>
              <a:rPr sz="3600"/>
            </a:br>
            <a:r>
              <a:rPr b="1" lang="ar-SA" sz="3600" spc="-1" strike="noStrike" cap="small">
                <a:solidFill>
                  <a:srgbClr val="1f497d"/>
                </a:solidFill>
                <a:latin typeface="Century Schoolbook"/>
              </a:rPr>
              <a:t>تابع الانترن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76320"/>
            <a:ext cx="9143640" cy="91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الكيبل/الكابل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سرعات الاتصال: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يمكن أن تختلف سرعات الكيبل اعتمادًا على مزود الكابل ، ومدى جودة خطوطهم ، ومدى جودة اتصالهم بالإنترنت. تتراوح السرعات من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512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كيلو بايت في الثانية إلى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52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ميغابت في الثان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التوفر: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تكتسب خدمة الإنترنت عبر الكابل شعبية ، ولكنها لا تزال غير متوفرة على نطاق واسع مثل خدمة الطلب الهاتفي العاد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4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شهريا حسب الاتفاق مع مزود الخدمة (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ISP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0" y="1080"/>
            <a:ext cx="9143640" cy="9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igital Subscriber Line: 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هي عبارة طريقة خدمة للاتصال بالانترنت، حيث تقدم خدمة الاتصال عبر طرق مختلف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ynchronous Digital Subscriber Line: S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synchronous Digital Subscriber Line: A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grated Services Digital Network Digital Subscriber Lin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:I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1080"/>
            <a:ext cx="9143640" cy="10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، هو الخيار الأفضل من بين الخيارات المتاحة لخدمة التوصيل عبر 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عادةً ما يكون الحصول على خدمات الانترنت عبر هذه الطريقة  أسرع من بقية الطرق الأخرى، كما ان ميزته الرئيسية هي أن سرعة التحم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p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مساوية لسرعة التنز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own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0" y="1080"/>
            <a:ext cx="9143640" cy="9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خط المشترك الرقمي غير المتزامن، هو الخيار الأكثر انتشاراً من بين الخيارات المتاحة لخدمة التوصيل عبر خط المشترك الرقمي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S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لاتصال بالا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يتمثل عيبه الرئيسي في أن سرعة تحميل الملف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p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يست مساوية لسرع تنزيل الملفات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ownload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1080"/>
            <a:ext cx="9143640" cy="9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DSL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خط المشترك الرقمي للخدمات الرقمية المتكاملة هي طريقة قديمة للوصول إلى الإنترنت التي تتطلب خط هاتف رقمي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يشبه خط المشترك الرقمي للخدمات الرقمية المتكاملة مزيجاً من الاثنين، حيث يقدم خدمة خط المشترك الرقمي على خط الهاتف الرقمي المتكامل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الجانب السلبي هو أنك تحتاج إلى خط هاتف ثانٍ لـلحصول على خدمة خط المشترك الرقمي للخدمات الرقمية المتكامل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1080"/>
            <a:ext cx="9143640" cy="83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مكن أن تختلف سرعات الاتصال اختلافًا كبيرًا بين مخدمي الخدمة وحتى مستخدمي نفس مقدم الخد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خط المشترك الرقمي لديه سرعات مختلفة في أي مكان تتراوح مابين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512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كيلو بايت في الثانية إلى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ميغابت في الثانية، على الرغم من أن سرعة عملية التحميل عبر الخط المشترك الرقمي غير المتزامن عادة ما تكون أقل بكثير من سرعة التنز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بلغ الحد الأقصى لسرعة خط المشترك الرقمي للشبكة الرقمية للخدمات المتكاملة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44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كيلو بايت في الث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1080"/>
            <a:ext cx="9143640" cy="9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يتوفر خط المشترك الرقمي غير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على نطاق واسع ، حيث تقدم معظم شركات الهاتف المحلية الخدمة عبره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خط المشترك الرقمي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 ليس متاحاً مثل خط المشترك الرقمي غير المتزامن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، وعادةً ما تستهدف به الشركات والمؤسسات  أكثر من الأفر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لا يحدد العديد من موفري خط المشترك الرقمي ما إذا كانت خدمتهم عبارة عن خط مشترك رقمي غير متزامن أو مشترك رقمي متزامن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قد يطلقون عليها فقط "خط المشترك الرقمي" ، ولكن عادةً ما تكون حزمة المستهلك اتصال مشترك رقمي غير متزا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1080"/>
            <a:ext cx="9143640" cy="84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خط المشترك الرقمي 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إذا كنت تفكر في اتصال خط المشترك الرقمي ، تأكد من سؤال الشركة عما إذا كانت تقدم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أو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أو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DSL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ختلف التكلفة بين مقدمي خدمات خدمات الانترنت عبر خط المشترك الرقمي، ولكن عادةً ما يتم تحديد تكلفة شهرية للتنافس مع مقدمي خدمة الاتصال عبر الكيبل/الكاب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إذا لم يكن هناك خدمة إنترنت عبر الكبيل/الكابل متاحة في  أي منطقةٍ ما ، عادةً ما يكون سعر خدمة خط المشترك الرقمي عالياً نسب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0" y="1080"/>
            <a:ext cx="914364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5120" indent="-465120"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ocal Area Network-LAN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تستخدم طريقة اتصال الشبكة المحلية جهاز توجيه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out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للاتصال بجهاز توجيه آخر لدى مزود خدمة الإنترنت عبر خط عالي السرعة ، والذي بدوره يتصل ب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عادةً ما تستخدم الشركات/والمؤسسات طريقة الاتصال عبر الشبكة المحلية عبر مقدمي خدمة الانترنت وذلك بغرض تقديم الخدمة للعاملين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0" y="1080"/>
            <a:ext cx="9143640" cy="11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5120" indent="-465120" algn="just" rtl="1">
              <a:lnSpc>
                <a:spcPct val="10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Local Area Network-LAN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توفر طريق الاتصال عبر الشبكة المحلية سرعة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1.54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ميغابت في الثانية وأكث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كما أنها تمثل طريقة اتصال للشركات/والمؤسسات موثوق بها من الطرق الأخرى كما أنها تحافظ على سرعة ثابتة لتلقى الخدم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تتوفر خدمة الاتصال عبر الشبكات المحلية لدى المراكز الكبير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</a:rPr>
              <a:t>تختلف تكاليف الاتصال عبر الشبكة المحلية وذلك وفقًا لحجم حركة المرور (النطاق الترددي) الذي تستخدمه المؤسسة/الشركة، كما يمكن أنه تختلف الأسعار شهريا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6999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2133720" y="0"/>
            <a:ext cx="7009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85800" y="1600200"/>
            <a:ext cx="76957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وم بنية الانترنت من ناحية تصميمية على مفهومين أساسيين هم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لامركزية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ecentralization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edundancy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838080"/>
            <a:ext cx="9143640" cy="9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هناك العديد من البروتوكولات التي يمكن اتباعها بغرض الاتصال بالانترنت ومن ثم تلقي الخدمات المختلفة، وتشمل بروتكولات الانترنت العامة/المشتركة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mmon protocol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/I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(Transmission Control Protocol/Internet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: بروتوكول التحكم في الإرسال / بروتوكول الإنترن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DP  (User Datagram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مخطط بيانات المستخد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TP  (HyperText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نص التشع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TP  (File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ملف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838080"/>
            <a:ext cx="9143640" cy="77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/I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(Transmission Control Protocol/Internet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: بروتوكول التحكم في الإرسال / بروتوكول الإنترن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عبارة عن بروتوكول تدفق بيانات، وهذا يعني أنه يتم التفاوض على اتصال بين العمي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en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والخادم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rv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بغرض جعل بيانات تنتقل بين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وكذلك يسمى أيضاً بروتوكول نظير إلى نظ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838080"/>
            <a:ext cx="914364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D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User Datagram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مخطط بيانات المستخد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برتوكول مخطط بيانات المستخدم هو بروتوكول اتصالات يسهل تبادل الرسائل بين أجهزة الحاسبوب في الشبكة. أي يمكن أن يكون بديلاً لبروتوكول التحكم في الإرسال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CP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838080"/>
            <a:ext cx="9143640" cy="79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TT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HyperText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نص التشعب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هو البروتوكول المستخدم لنقل جميع البيانات الموجودة على الشبكة العالمية. وهذا يشمل النص والوسائط المتعددة والرسومات. إنه البروتوكول المستخدم لنقل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، وهي اللغة التي تصنع جميع الزخارف الفاخرة في متصفح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 إنترنت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838080"/>
            <a:ext cx="914364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TP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(File Transfer Protocol)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روتوكول نقل الملف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بروتوكول نقل الملفات هو بروتوكول يعمل على تسهيل عملية نقل ملف من جهاز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ent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 الى جهاز آخر (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rver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1562400" y="0"/>
            <a:ext cx="6752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عنوان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838080"/>
            <a:ext cx="914364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ستخدم عنوان بروتوكول الإنترنت بغرض اتصال الحاسبات فيما بينها على الانترنت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كتب عنوان بروتوكول الإنترنت باستخدام النظام الثنائي حيث يتألف العنوان من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32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ثنائي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bit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 في حال استخدام بروتوكول الانترنت الإصدارة الرابع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IPV4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يكتب العنوان على النحو التالي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xxxxxxxxxxxxxxxxxxxxxxxxxxxxxxxx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700" spc="-1" strike="noStrike">
                <a:solidFill>
                  <a:srgbClr val="000000"/>
                </a:solidFill>
                <a:latin typeface="Century Schoolbook"/>
              </a:rPr>
              <a:t>كما يمكن أن يتألف العنوان من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64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ثنائية فى حال استخدام بروتوكول الانترنت الإصدارة الرابعة (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IPV6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1562400" y="0"/>
            <a:ext cx="67525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عنوان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بروتوكول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838080"/>
            <a:ext cx="9143640" cy="64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مثيل عنوان بروتوكول الانترنت باستخدام الثنئيات أمر يصعب تذكره، ولذلك كان لابد من وجود آلية أخر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تقسيم العنوان الى أربعة مجموعات ثنائية كل مجموعة تحتوى على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ثنائيات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بت لكل منها) ، ثم حوّل كل جزء إلى الرقم العشري المقابل له مع فصلها عن بعضها باستخدام بالنقطة (.)، مث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</a:rPr>
              <a:t>العنوان الثنائي التالي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xxxxxxxxxxxxxxxxxxxxxxxxxx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يمكن كتابته على النظام العشري كما يلي: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.xxx.xxx.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حيث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xxx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رقم عش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9360"/>
            <a:ext cx="9143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كذلك قد يصعب تذكر العنوان على صورته العشرية لكثير من مستخدمي الانترنت،  ولذلك كان لابد من وجود آلية أخرى اكثر سهولة وقابلة للحف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فكان البديل للعنوان على صورة الرقم لعشري هو استخدام الحروف الهجائية مثل: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sudanet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85800" y="1143000"/>
            <a:ext cx="7924320" cy="74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لامركزية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ecentralization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وم الانترنت على مفهوم اللامركزية وذلك لتقليل احتمالات انقطاع خدمات الانترن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بحيث أن هنالك عدد من مخدمات الانترنت منتشرة في مواقع مختلفة يمكن لواحد منها تقديم خدمة الانترنت دون اعتبار للمخدمات ال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57200" y="1143000"/>
            <a:ext cx="8305560" cy="83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edundancy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تكرار يعني وجود نفس الشيئ على الانترت أكثر مما هو مطلوب أو يحتاج الي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مثلاً يمكن أن يكون هنالك أكثر من جهاز حاسوب وفي مواقع مختلفة تؤدي نفس الوظيفة، كما يمكن أن يكون هنالك أكثر من صفحة وبنفس المحتوي موجودة في اكثر من جها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5400" spc="-1" strike="noStrike">
                <a:solidFill>
                  <a:srgbClr val="000000"/>
                </a:solidFill>
                <a:latin typeface="Century Schoolbook"/>
              </a:rPr>
              <a:t>مفاهيم أساسية</a:t>
            </a: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143000"/>
            <a:ext cx="914364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التكرار (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عتبر أمر التكرار وبهذه الصورة جيداً لأنه في فقد الخدمة ب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فيمكن الحصول عليها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كما انه في حالة عدم الحصول على صفحة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،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فإنه يمكن الحصول عليها من الجهاز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0"/>
            <a:ext cx="914364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A" sz="4400" spc="-1" strike="noStrike">
                <a:solidFill>
                  <a:srgbClr val="000000"/>
                </a:solidFill>
                <a:latin typeface="Century Schoolbook"/>
              </a:rPr>
              <a:t>طرق الاتصال بالإنترن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6001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nternet Connec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6320" y="1447920"/>
            <a:ext cx="9143640" cy="73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Century Schoolbook"/>
              </a:rPr>
              <a:t>هنالك أكثر من طريقة يمكن اتباعها للاتصال بالانترنت ومن ثم امكانية المشاركة في الخدمات المتاحة بالانترنت، نذكر منها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طلب تلفوني/هاتفي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كيبل/الكابل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خط المشترك الرقمي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Digital Subscriber Line-D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465120" algn="just" rtl="1">
              <a:lnSpc>
                <a:spcPct val="15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الشبكة المحلية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Local Area Network-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76320"/>
            <a:ext cx="91436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طلب تلفوني/هاتفي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يُعد الطلب الهاتفي أحد أقدم الطرق التي يتصل بها المستخدمون بالإنترنت ، وهي لا تزال الأكثر شع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يعتبرلحد ما أبطأ أنواع الاتصال وذلك لأن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5120" algn="just" rtl="1">
              <a:lnSpc>
                <a:spcPct val="150000"/>
              </a:lnSpc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</a:rPr>
              <a:t>يتم استخدام خطوط الهاتف التناظرية لنقل واستقبال البيان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0" y="76320"/>
            <a:ext cx="9143640" cy="84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طلب تلفوني/هاتفي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al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سرعات الاتصال: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السرعة الفعلية من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8.8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أو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33.3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إلى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كيلو بايت وتعتمد السرعة على حالة خطوط الهاتف ومزود خدمة الاتصال الهاتفي وكل شيء آخر بينهما يمكن أن يؤثر على الاتص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وفر: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خدمة الطلب الهاتفي هي أكثر طريقة متاحة على نطاق واسع للاتصال بالإنترن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</a:pPr>
            <a:r>
              <a:rPr b="1" lang="ar-SA" sz="3200" spc="-1" strike="noStrike">
                <a:solidFill>
                  <a:srgbClr val="ff0000"/>
                </a:solidFill>
                <a:latin typeface="Century Schoolbook"/>
              </a:rPr>
              <a:t>التكلفة: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تعتمد التكلفة على قيمة جهاز المودم الهاتفي، وكذلك قيمة خدمة الطلب الهاتفي، بالاضافة لقيمة الاشتراك الشه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76320"/>
            <a:ext cx="914364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 rtl="1">
              <a:lnSpc>
                <a:spcPct val="100000"/>
              </a:lnSpc>
            </a:pPr>
            <a:r>
              <a:rPr b="1" lang="ar-SA" sz="3600" spc="-1" strike="noStrike">
                <a:solidFill>
                  <a:srgbClr val="ff0000"/>
                </a:solidFill>
                <a:latin typeface="Century Schoolbook"/>
              </a:rPr>
              <a:t>طريقة الاتصال عبر الكيبل/الكابل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تقدم العديد من شركات الكابلات الآن إمكانية الوصول إلى الإنترنت عبر خطوط الكابل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</a:rPr>
              <a:t>عادة ما تكون العملية سهلة إلى حد ما للحصول على إعدادات الوصول إلى الإنترنت عبر الكابل في المنازل وأي مواقع أخرى، إذا كان هنالك خدمة تلفزيون متوفرةعبرالكاب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83</TotalTime>
  <Application>LibreOffice/7.4.7.2$Linux_X86_64 LibreOffice_project/40$Build-2</Application>
  <AppVersion>15.0000</AppVersion>
  <Words>1430</Words>
  <Paragraphs>1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EME</dc:creator>
  <dc:description/>
  <dc:language>en-US</dc:language>
  <cp:lastModifiedBy>jawish</cp:lastModifiedBy>
  <dcterms:modified xsi:type="dcterms:W3CDTF">2021-05-25T06:53:44Z</dcterms:modified>
  <cp:revision>519</cp:revision>
  <dc:subject/>
  <dc:title>المحاضرة الأولى الحاسبات وأنواعها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