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BA400E-22AF-46A6-B6B2-C663DC5F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3EA98-FABA-46D1-8C82-EF97CAC86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3F081-A41B-4E57-94B1-24EFC733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148A6E-5939-482D-9B91-213375858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AA1-7DF9-42D8-A49D-86B933AC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53A-FAC0-467D-95A9-6F3129AD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58A-C3D7-4FA7-BA19-E6DE2DA6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427-4943-40F6-A24E-912EB45A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75FA1-1454-4FED-817E-49DEF694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50E74-5CC7-4273-89E4-3B9D592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F0844-015C-4820-88F5-9020438C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F75E-876C-4189-AF25-09450EC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E3AF-0B3C-4136-9228-BAE4CBAF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4F6BB-FF52-42F7-B9E8-A35BD1D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1558E-FF2F-44D6-9B22-69D87B8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05C-CFED-4A93-A1D3-FFFA666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92000-07B1-4106-9415-5DD0AB9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E79EF-4786-4921-9E0D-E8A5691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BB4DB-B1D7-4BC6-8153-A55B3B54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90ED4-D33F-4730-B707-3DC1E77D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FEC40-2FFB-44E8-89CA-595262FD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764-7DCC-4857-97C4-BED6EA23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86A-D9B4-40F3-BA33-31DC6BB9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6B7-2B40-45B8-B2B0-E06DEAA6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DF2-7198-4ECA-AC47-648FDC93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620-EC3A-481C-AB83-F34F72A9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E15-3813-45E3-A2BB-A5E53FE8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0C7-68A9-41B9-BFD6-D198321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E4A4B8-D4DF-4F31-A42D-A3E9CA44DB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0B929F-B258-4FAC-8AE1-C764F99F17B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www.bondo.co.uk/blog/wp-content/uploads/2008/07/browsers.jpg&amp;imgrefurl=http://www.bondo.co.uk/blog/?tag%3Dwoosabi&amp;usg=__1uG0PvqsEb5Wu9HOLb7XiVsTD3c=&amp;h=270&amp;w=280&amp;sz=59&amp;hl=en&amp;start=20&amp;tbnid=texgT3aijCkuKM:&amp;tbnh=110&amp;tbnw=114&amp;prev=/images?q%3Dweb%2Bbrowsers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327672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9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انترن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How HTTP works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1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</a:rPr>
              <a:t>يقوم المتصفح بإنشاء </a:t>
            </a:r>
            <a:r>
              <a:rPr b="0" lang="ar-SA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طلب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لرؤية صفحة ويب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1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</a:rPr>
              <a:t>يصل الطلب إلى الخادم ثم </a:t>
            </a:r>
            <a:r>
              <a:rPr b="0" lang="ar-SA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يرد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بإرسال الصفحة بصيغة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ASCI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1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</a:rPr>
              <a:t>يستلم المتصفح الصفحة و يفسرها من صيغة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SCII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إلى خطوط و ألوان و تنسيقات مفهومة للبشر و يظهرها على الشاشة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1B2D9E-4C05-4760-9B2E-F7E7553F8C84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j0300520"/>
          <p:cNvPicPr/>
          <p:nvPr/>
        </p:nvPicPr>
        <p:blipFill>
          <a:blip r:embed="rId1"/>
          <a:stretch/>
        </p:blipFill>
        <p:spPr>
          <a:xfrm>
            <a:off x="1523880" y="4419720"/>
            <a:ext cx="16380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IP numbe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811656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رقم 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هو إختصار لـ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net protocol numbe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رقم مميز و فريد يتم تعريف المستخدم بواسطته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يتم نزويد هذا الرقم للمستخدم من قبل مزود خدمة الإنترنت (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S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لذلك فيمكن أن يتغير في كل مرة تتصل بها بشبكة الانترن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لمواقع المنشورة على الإنترنت يكون لها رقم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P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ثابت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Century Schoolbook"/>
              </a:rPr>
              <a:t>(لماذا؟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B1FDED-B755-4A35-A587-C93777DE8CC3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MPj0424388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2133720"/>
            <a:ext cx="7314840" cy="4419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D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15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وهو أختصار لـ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main name 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و هو نظام مكون من قاعدة بيانات ضخمة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يتم تخزين فيها رقم 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لكل مواقع العال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مهمة الرئيسية لهذا النظام هو تحويل اسم الموقع الى رقم 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الخاص به من أجل تحديد مكان الخادم الذي يحوي هذا الموق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15000"/>
              </a:lnSpc>
              <a:spcBef>
                <a:spcPts val="40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000" spc="-1" strike="noStrike">
                <a:solidFill>
                  <a:srgbClr val="000000"/>
                </a:solidFill>
                <a:latin typeface="Century Schoolbook"/>
              </a:rPr>
              <a:t>مثال : الرقم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50.41.12.7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هو لموقع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DB2541-58F2-4F7B-929A-76DF96CF5FE9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URL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 هو إختصار لـ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niform Resource Loc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عبارة عن معرف الموقع و هو عنوان الموقع الالكتروني أو صفحة الويب على شبكة الانترنت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Tahoma"/>
              </a:rPr>
              <a:t>له عدة أجزاء (البروتوكول, الاسم, المسار, اسم الملف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2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AFFCF7-2C2C-4308-AF96-F44E7104FDC7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TL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op-level domain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 = commer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v = gover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u = educatio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t = networ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g = other organizations (often nonprofit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l = military installa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1560" indent="-257760" algn="r" rtl="1">
              <a:lnSpc>
                <a:spcPct val="95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-letter country codes for geographic sit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9320" indent="-171720" algn="r" rtl="1">
              <a:lnSpc>
                <a:spcPct val="95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u (Australia), .uk (United Kingdon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ae (United Arab Emirates), .jo (Jorda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2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768626-3E32-49F6-8B05-0020AA5D73A5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726912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تصفح الانترنت  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Browsing the Web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10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60F20B-F467-477E-A54D-C99415215526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MCj02380700000[1]"/>
          <p:cNvPicPr/>
          <p:nvPr/>
        </p:nvPicPr>
        <p:blipFill>
          <a:blip r:embed="rId1"/>
          <a:stretch/>
        </p:blipFill>
        <p:spPr>
          <a:xfrm>
            <a:off x="3809880" y="3276720"/>
            <a:ext cx="2369880" cy="24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 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Browser</a:t>
            </a: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المتصفح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96428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5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هو برنامج حاسوبي صمم لإرسال طلبات عرض المعلومات من قبل المستخدم, تشمل هذه المعلومات مواقع الانترنت و بعدها يقوم البرنامج باستقبال الردود و تفسيرها لشكل نصي أو صوري يفهمه المستخد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65031C-DAAF-4D6F-B64C-1B20BA105B9D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brows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114800"/>
            <a:ext cx="2209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كيف يبدأ التصفح؟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كتابة عنوان الموقع المراد تصفحة في صندوق العناوين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4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بعض الأزرار المفيدة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499760" cy="699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38000" cy="81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3505320" y="4952880"/>
            <a:ext cx="929880" cy="99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2122200" cy="8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تصفح الانترنت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كيف يمكن إعادة زيارة موقع انترنت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6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Majalla UI"/>
              </a:rPr>
              <a:t>قائمة المفضل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30000"/>
              </a:lnSpc>
              <a:spcBef>
                <a:spcPts val="420"/>
              </a:spcBef>
              <a:buClr>
                <a:srgbClr val="4f81bd"/>
              </a:buClr>
              <a:buSzPct val="6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Majalla UI"/>
              </a:rPr>
              <a:t>قائمة تاريخ التصف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r" rtl="1">
              <a:lnSpc>
                <a:spcPct val="13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Majalla UI"/>
              </a:rPr>
              <a:t>سؤال: كيف يتم التحكم بالخيارين السابقين؟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04450D-DEBF-42D6-AF28-289C01AE8B64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Servers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: </a:t>
            </a: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الخوادم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16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أجهزة حاسوب خاصة بقدرات معالجة كبيرة و مساحات تخزينية واسع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خوادم يمكنها أن تؤدي العديد من المهام بشكل متتالي و متوازي و ترسل المعلومات بشكل أسرع على الشبكة سواء المحلية أو (الانترنت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3A944D-CA7B-417E-8844-3B9972AF9814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MCj04247900000[1]"/>
          <p:cNvPicPr/>
          <p:nvPr/>
        </p:nvPicPr>
        <p:blipFill>
          <a:blip r:embed="rId1"/>
          <a:stretch/>
        </p:blipFill>
        <p:spPr>
          <a:xfrm>
            <a:off x="1143000" y="4343400"/>
            <a:ext cx="17078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3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أجهزة المستخدم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ent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017800"/>
            <a:ext cx="80402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نه الجهاز الذي نستخدمه يومي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عادة هو أقل قوة من أجهزة الخواد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ن الاختلاف التقني الوحيد هو أن الخادم يشغل بعض البرامج التي لا يشغلها المستخدم و في الغالب يختلف نظام التشغي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3313889-4908-44F0-852E-D270FC003870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9997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Building Servic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services on the net are built us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rtl="1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 contacts the server and they exchange information following s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C64EE07-8106-40B5-9135-546AAF315B17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ما هو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HTTP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2017800"/>
            <a:ext cx="79642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كلمة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هي إختصار لـ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er Text Transfer Protoc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3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ahoma"/>
              </a:rPr>
              <a:t>يستخدم هذا البروتوكول ليعلم متصفحك كيفية عرض المعلومات من مواقع الانترنت و كيفية ارسالها و استقباله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b5a78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A27C74-C79F-4DE1-BC72-07DFE2044427}" type="slidenum">
              <a:rPr b="1" lang="en-US" sz="1400" spc="-1" strike="noStrike">
                <a:solidFill>
                  <a:srgbClr val="b5a78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0</TotalTime>
  <Application>LibreOffice/7.4.7.2$Linux_X86_64 LibreOffice_project/40$Build-2</Application>
  <AppVersion>15.0000</AppVersion>
  <Words>477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50:40Z</dcterms:modified>
  <cp:revision>517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