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B8E2-220B-4ABC-BE87-6A8A51BB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BB46-A718-4B34-A6B7-18514FB2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AF61-7BC6-4214-9C65-79944BA1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269-0496-47A5-AAD7-850EC41F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7B3A3-CF8A-4162-B29E-1FB57260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95CB4-BAB4-4821-AC8E-3EA9CAC5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6552A-6E01-45FE-A86E-DF2612C3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7E561-8737-4130-96DA-6FB36747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9F176-0DE4-43B9-89F1-51A7112A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147C5-8F81-4AAC-8C54-74B3E520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0168A-D7CC-4984-AAC5-8BBDA263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6B43-C80B-418B-976F-2188AFDF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08761-CF24-4EDF-8B3F-B9D18942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B3072-2247-492C-A324-8A8D7E3C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BD949-5C39-4D2C-AB45-0A95DB2D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98394-CB74-4792-B9F1-74D98518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9CE65-BE83-49D9-99A7-29AF3ABB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E8B7-5F39-41D3-ACF0-F8E5330D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A54E-B003-4341-BDC6-82918F19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38EF-DED0-4604-8234-658C47C0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5CDF-1A2D-4F27-9FD2-8060485F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2204-9C77-4390-82C5-78619EF7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F349-629D-4316-89A7-3C5F2205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4D8C-3E7E-4087-8FAB-D451D11B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4f81bd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Rectangle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Oval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4f81bd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000" spc="-1" strike="noStrike" cap="small">
                <a:solidFill>
                  <a:srgbClr val="1f497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Rectangle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Straight Connector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Straight Connector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4f81bd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Straight Connector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Straight Connector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4f81bd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Straight Connector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Straight Connector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Rectangle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Oval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4f81bd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4f81bd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Oval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4f81bd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Oval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4f81bd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A48A33F-E2CF-453C-A08D-9D37F8D3A71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4f81bd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4f81bd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cond leve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 algn="r" rtl="1">
              <a:lnSpc>
                <a:spcPct val="100000"/>
              </a:lnSpc>
              <a:spcBef>
                <a:spcPts val="360"/>
              </a:spcBef>
              <a:buClr>
                <a:srgbClr val="4571a6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 algn="r" rtl="1">
              <a:lnSpc>
                <a:spcPct val="100000"/>
              </a:lnSpc>
              <a:spcBef>
                <a:spcPts val="360"/>
              </a:spcBef>
              <a:buClr>
                <a:srgbClr val="b2c0da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 algn="r" rtl="1">
              <a:lnSpc>
                <a:spcPct val="100000"/>
              </a:lnSpc>
              <a:spcBef>
                <a:spcPts val="320"/>
              </a:spcBef>
              <a:buClr>
                <a:srgbClr val="dcb2b2"/>
              </a:buClr>
              <a:buSzPct val="68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D35CE8D-20A4-4E14-AF93-786E97D82DC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800" y="1371600"/>
            <a:ext cx="68576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SA" sz="3600" spc="-1" strike="noStrike" cap="small">
                <a:solidFill>
                  <a:srgbClr val="1f497d"/>
                </a:solidFill>
                <a:latin typeface="Century Schoolbook"/>
              </a:rPr>
              <a:t>المحاضرة </a:t>
            </a: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11</a:t>
            </a: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 </a:t>
            </a:r>
            <a:br>
              <a:rPr sz="3600"/>
            </a:br>
            <a:br>
              <a:rPr sz="3600"/>
            </a:br>
            <a:r>
              <a:rPr b="1" lang="ar-SA" sz="3600" spc="-1" strike="noStrike" cap="small">
                <a:solidFill>
                  <a:srgbClr val="1f497d"/>
                </a:solidFill>
                <a:latin typeface="Century Schoolbook"/>
              </a:rPr>
              <a:t>تابع الانترنت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0"/>
            <a:ext cx="9143640" cy="77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SimSun"/>
              </a:rPr>
              <a:t>: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SimSun"/>
              </a:rPr>
              <a:t>Hypertext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SimSu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نص المتشعّب يعني أن بعض النصوص في مستند لغة ترميز النص المتشعّب تحمل رابطاً إلى موقع مختلف، والذي يمكن أن يكون في نفس الصفحة أو صفحة أخر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SimSun"/>
              </a:rPr>
              <a:t>Markup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SimSun"/>
              </a:rPr>
              <a:t>: 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عني أن أجزاء معينة من المستند يتم ترميزها للإشارة إلى كيفية عرضها بواسطة متصفح الويب على جهاز المستخد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تألف لغة ترميز النص المتشعب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  <a:ea typeface="SimSun"/>
              </a:rPr>
              <a:t>HTML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  <a:ea typeface="SimSun"/>
              </a:rPr>
              <a:t>) من مجموعة علامات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  <a:ea typeface="SimSun"/>
              </a:rPr>
              <a:t>tags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  <a:ea typeface="SimSun"/>
              </a:rPr>
              <a:t>) توضع حول العناصر المكونة لمستند لغة ترميز النص المتشعّ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0" y="0"/>
            <a:ext cx="9143640" cy="77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 startAt="2"/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JavaScript / Jscript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هي لغة برمجة تسخدم لتطوير برمجيات انترنت تعمل بصورة عامة على مستوى متصفح الويب. كما انه يمكن استخدامها على مستوى مخدم/خادم الوي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 startAt="2"/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جافا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Java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: هي لغة برمجة قوية للغاية تستخدم على الإنترنت في شكل تطبيقات صغيرة مضمنة في صفحة الرئيسية المصممة بواسطة الـ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TM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 startAt="2"/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SP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ctive Server Pages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: صفحات الخادم النشطة هي تقنية تم الترويج لها بواسطة مايكروسفت. تستخدم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SP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بعض العلامات الخاصة ، والتي يمكن تضمينها في تعليمات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TM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البرمجية ، لإنشاء صفحات ويب تفاعل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0" y="0"/>
            <a:ext cx="9143640" cy="45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 startAt="5"/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XM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(eXtensible Markup Language)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لغة الترميز القابلة للتوسعة: هي عبارة عن لغة مطورة لصفحة ويب تمكن المطورين من إنشاء علامات ترميز بصورة مختصر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 startAt="5"/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PHP (Personal Home Page)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: هي عبارة عن بيئة تطوير مفتوحة المصدر، تم استخدامها كبديل للـ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SP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، وذلك لتطوير صفحات ويب تفاع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0"/>
            <a:ext cx="9143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ff0000"/>
                </a:solidFill>
                <a:latin typeface="Century Schoolbook"/>
              </a:rPr>
              <a:t>أنواع صفحات الوي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0" y="878040"/>
            <a:ext cx="9143640" cy="65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Century Schoolbook"/>
              </a:rPr>
              <a:t>تنقسم صفحات الويب الى قسمين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50976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Century Schoolbook"/>
              </a:rPr>
              <a:t>صفحات ثابتة (</a:t>
            </a:r>
            <a:r>
              <a:rPr b="1" lang="en-US" sz="2900" spc="-1" strike="noStrike">
                <a:solidFill>
                  <a:srgbClr val="000000"/>
                </a:solidFill>
                <a:latin typeface="Century Schoolbook"/>
              </a:rPr>
              <a:t>Static Web Page</a:t>
            </a:r>
            <a:r>
              <a:rPr b="1" lang="en-US" sz="29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50976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Century Schoolbook"/>
              </a:rPr>
              <a:t>صفحات تفاعلية (</a:t>
            </a:r>
            <a:r>
              <a:rPr b="1" lang="en-US" sz="2900" spc="-1" strike="noStrike">
                <a:solidFill>
                  <a:srgbClr val="000000"/>
                </a:solidFill>
                <a:latin typeface="Century Schoolbook"/>
              </a:rPr>
              <a:t>Dynamic Web Page</a:t>
            </a:r>
            <a:r>
              <a:rPr b="1" lang="en-US" sz="29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509760" algn="just" rtl="1">
              <a:lnSpc>
                <a:spcPct val="150000"/>
              </a:lnSpc>
              <a:tabLst>
                <a:tab algn="l" pos="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46512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Century Schoolbook"/>
              </a:rPr>
              <a:t>الصفحة الثابتة (</a:t>
            </a:r>
            <a:r>
              <a:rPr b="1" lang="en-US" sz="2900" spc="-1" strike="noStrike">
                <a:solidFill>
                  <a:srgbClr val="000000"/>
                </a:solidFill>
                <a:latin typeface="Century Schoolbook"/>
              </a:rPr>
              <a:t>Static Web Page</a:t>
            </a:r>
            <a:r>
              <a:rPr b="1" lang="en-US" sz="2900" spc="-1" strike="noStrike">
                <a:solidFill>
                  <a:srgbClr val="000000"/>
                </a:solidFill>
                <a:latin typeface="Century Schoolbook"/>
              </a:rPr>
              <a:t>) هي عبارة عن أي صفحة ويب يتعامل معها متصفح الانترنت كما تم تخزينها، دون إمكانية تعديلها في اللحظة المحددة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46512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46512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Century Schoolbook"/>
              </a:rPr>
              <a:t>الصفحة التفاعلية (</a:t>
            </a:r>
            <a:r>
              <a:rPr b="1" lang="en-US" sz="2900" spc="-1" strike="noStrike">
                <a:solidFill>
                  <a:srgbClr val="000000"/>
                </a:solidFill>
                <a:latin typeface="Century Schoolbook"/>
              </a:rPr>
              <a:t>Dynamic Web Page</a:t>
            </a:r>
            <a:r>
              <a:rPr b="1" lang="en-US" sz="2900" spc="-1" strike="noStrike">
                <a:solidFill>
                  <a:srgbClr val="000000"/>
                </a:solidFill>
                <a:latin typeface="Century Schoolbook"/>
              </a:rPr>
              <a:t>) هي عبارة عن أي صفحة ويب  يتم إنشاؤها بواسطة تطبيق ويب، بحيث يسمح بتغيير محتواها في أي لحظة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0"/>
            <a:ext cx="9143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ff0000"/>
                </a:solidFill>
                <a:latin typeface="Century Schoolbook"/>
              </a:rPr>
              <a:t>أنواع صفحات الوي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878040"/>
            <a:ext cx="9143640" cy="84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465120" algn="just" rtl="1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صفحات ثابتة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tatic Web Page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entury Schoolbook"/>
              </a:rPr>
              <a:t>تتميز صفحات الويب الثابتة بالآتي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509760" indent="404640" algn="just" rtl="1">
              <a:lnSpc>
                <a:spcPts val="57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entury Schoolbook"/>
              </a:rPr>
              <a:t>تعرض صفحات الويب الثابتة نفس المعلومات لجميع المستخدمين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49280" algn="just" rtl="1">
              <a:lnSpc>
                <a:spcPts val="57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entury Schoolbook"/>
              </a:rPr>
              <a:t>صفحات الويب الثابتة هي عبارة مستندات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HTML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  يتم تخزينها كملفات ويتم إتاحتها بواسطة خادم الويب عبر بروتوكول نقل النص التشعبي (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HTTP</a:t>
            </a:r>
            <a:r>
              <a:rPr b="1" lang="en-US" sz="26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49280" algn="just" rtl="1">
              <a:lnSpc>
                <a:spcPts val="57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entury Schoolbook"/>
              </a:rPr>
              <a:t>صفحات الويب الثابتة بسيطة للغاية في التصميم وغنية بالمعلومات. ويتطلب إنشاء محتوى المواقع الثابتة على مستوى عالٍ من الخبرة الفني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49280" algn="just" rtl="1">
              <a:lnSpc>
                <a:spcPts val="57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entury Schoolbook"/>
              </a:rPr>
              <a:t>تصميم صفحات الويب الثابتة لاتحتاج الى مهارة برمجية عالي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0" y="0"/>
            <a:ext cx="9143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ff0000"/>
                </a:solidFill>
                <a:latin typeface="Century Schoolbook"/>
              </a:rPr>
              <a:t>أنواع صفحات الوي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878040"/>
            <a:ext cx="9143640" cy="59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46512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 startAt="2"/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الصفحات التفاعلية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Dynamic Web Page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5000"/>
              </a:lnSpc>
              <a:tabLst>
                <a:tab algn="l" pos="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entury Schoolbook"/>
              </a:rPr>
              <a:t>تتميز صفحات الويب التفاعلية بالآتي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0" indent="-449280" algn="just" rtl="1">
              <a:lnSpc>
                <a:spcPts val="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entury Schoolbook"/>
              </a:rPr>
              <a:t>محتوى صفحات الويب التفاعلية متجدد (المحتوى/التخطيط)، ويتم عرضه بصورة مختلفة من مستخدم لآخ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0" indent="-449280" algn="just" rtl="1">
              <a:lnSpc>
                <a:spcPts val="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entury Schoolbook"/>
              </a:rPr>
              <a:t>يتم تحديث محتوى صفحات الويب بصورة مرنة من حسب الحاجة لتغيير محتوى الصحف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0" indent="-449280" algn="just" rtl="1">
              <a:lnSpc>
                <a:spcPts val="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entury Schoolbook"/>
              </a:rPr>
              <a:t>سهولة تحديث محتوى الصفحات التفاعلية من أي موقع يسهل فيه الوصول للإنترن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0" y="76320"/>
            <a:ext cx="8842680" cy="16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3300" spc="-1" strike="noStrike">
                <a:solidFill>
                  <a:srgbClr val="ff0000"/>
                </a:solidFill>
                <a:latin typeface="Century Schoolbook"/>
              </a:rPr>
              <a:t>تطوير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3300" spc="-1" strike="noStrike">
                <a:solidFill>
                  <a:srgbClr val="ff0000"/>
                </a:solidFill>
                <a:latin typeface="Century Schoolbook"/>
              </a:rPr>
              <a:t>صفحات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3300" spc="-1" strike="noStrike">
                <a:solidFill>
                  <a:srgbClr val="ff0000"/>
                </a:solidFill>
                <a:latin typeface="Century Schoolbook"/>
              </a:rPr>
              <a:t>الويب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3300" spc="-1" strike="noStrike">
                <a:solidFill>
                  <a:srgbClr val="ff0000"/>
                </a:solidFill>
                <a:latin typeface="Century Schoolbook"/>
              </a:rPr>
              <a:t>باستخدام تقنية لغة ترميز النص المتشعّب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1253160"/>
            <a:ext cx="9143640" cy="71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ملف لغة ترميز النص المتشعّب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TM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 عبارة عن ملف نصي يحتوي على مجموعة من علامات التمييز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ags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تدل علامات التمريز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ags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 على كيفية عرض الصفحة بواسطة متصفح الوي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يمكن إنشاء ملف لغة ترميز النص المتشعّب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TM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 باستخدام أي محرر نصوص (على سبيل المثال المفكرة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notepad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يجب أن ينتهي ملف لغة ترميز النص المتشعّب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TM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 بـاسم امتداد للملف عبارة عن"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tm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" أو"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tm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47520" y="-570600"/>
            <a:ext cx="9067320" cy="754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 rtl="1">
              <a:lnSpc>
                <a:spcPct val="100000"/>
              </a:lnSpc>
            </a:pPr>
            <a:r>
              <a:rPr b="1" lang="ar-SA" sz="3600" spc="-1" strike="noStrike">
                <a:solidFill>
                  <a:srgbClr val="ff0066"/>
                </a:solidFill>
                <a:latin typeface="Times New Roman"/>
                <a:cs typeface="Times New Roman"/>
              </a:rPr>
              <a:t>بنية (شكل) ملف لغة ترميز النص المتشعّب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HTML Fil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5301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كون بنية (شكل) ملف لغة ترميز النص المتشعب على النحو التا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SimSun"/>
              </a:rPr>
              <a:t>&lt;html&gt;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5301"/>
              </a:lnSpc>
              <a:tabLst>
                <a:tab algn="l" pos="465120"/>
              </a:tabLst>
            </a:pPr>
            <a:r>
              <a:rPr b="1" i="1" lang="en-US" sz="3200" spc="-1" strike="noStrike">
                <a:solidFill>
                  <a:srgbClr val="6600ff"/>
                </a:solidFill>
                <a:latin typeface="Times New Roman"/>
                <a:ea typeface="SimSun"/>
              </a:rPr>
              <a:t>	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  <a:ea typeface="SimSun"/>
              </a:rPr>
              <a:t>&lt;head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5301"/>
              </a:lnSpc>
              <a:tabLst>
                <a:tab algn="l" pos="914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SimSun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SimSun"/>
              </a:rPr>
              <a:t>&lt;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  <a:ea typeface="SimSun"/>
              </a:rPr>
              <a:t>title&gt;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Title of the page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SimSun"/>
              </a:rPr>
              <a:t>&lt;/title&gt;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5301"/>
              </a:lnSpc>
              <a:tabLst>
                <a:tab algn="l" pos="465120"/>
              </a:tabLst>
            </a:pPr>
            <a:r>
              <a:rPr b="1" i="1" lang="en-US" sz="3200" spc="-1" strike="noStrike">
                <a:solidFill>
                  <a:srgbClr val="6600ff"/>
                </a:solidFill>
                <a:latin typeface="Times New Roman"/>
                <a:ea typeface="SimSun"/>
              </a:rPr>
              <a:t>	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  <a:ea typeface="SimSun"/>
              </a:rPr>
              <a:t>&lt;/head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5301"/>
              </a:lnSpc>
              <a:tabLst>
                <a:tab algn="l" pos="4651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&lt;body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this is my homep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5301"/>
              </a:lnSpc>
              <a:tabLst>
                <a:tab algn="l" pos="465120"/>
              </a:tabLst>
            </a:pPr>
            <a:r>
              <a:rPr b="1" i="1" lang="en-US" sz="3200" spc="-1" strike="noStrike">
                <a:solidFill>
                  <a:srgbClr val="6600ff"/>
                </a:solidFill>
                <a:latin typeface="Times New Roman"/>
                <a:ea typeface="SimSun"/>
              </a:rPr>
              <a:t>	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  <a:ea typeface="SimSun"/>
              </a:rPr>
              <a:t>	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  <a:ea typeface="SimSun"/>
              </a:rPr>
              <a:t>&lt;b&gt;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SimSun"/>
              </a:rPr>
              <a:t>This text is bold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  <a:ea typeface="SimSun"/>
              </a:rPr>
              <a:t>&lt;/b&gt;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5301"/>
              </a:lnSpc>
              <a:tabLst>
                <a:tab algn="l" pos="46512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SimSu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46512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SimSun"/>
              </a:rPr>
              <a:t>&lt;/htm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SimSun"/>
              </a:rPr>
              <a:t>&gt;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6477120" y="2286000"/>
            <a:ext cx="2452320" cy="2369880"/>
            <a:chOff x="6477120" y="2286000"/>
            <a:chExt cx="2452320" cy="2369880"/>
          </a:xfrm>
        </p:grpSpPr>
        <p:sp>
          <p:nvSpPr>
            <p:cNvPr id="140" name="Right Brace 8"/>
            <p:cNvSpPr/>
            <p:nvPr/>
          </p:nvSpPr>
          <p:spPr>
            <a:xfrm>
              <a:off x="6477120" y="2286000"/>
              <a:ext cx="761760" cy="1752120"/>
            </a:xfrm>
            <a:prstGeom prst="rightBrace">
              <a:avLst>
                <a:gd name="adj1" fmla="val 8333"/>
                <a:gd name="adj2" fmla="val 50000"/>
              </a:avLst>
            </a:prstGeom>
            <a:solidFill>
              <a:schemeClr val="bg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6872400" y="2371680"/>
              <a:ext cx="205704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يشمل معلومات لا يتم عرض على كجزء من محتويات صفحة الوي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0"/>
          <p:cNvSpPr/>
          <p:nvPr/>
        </p:nvSpPr>
        <p:spPr>
          <a:xfrm>
            <a:off x="1905120" y="1404000"/>
            <a:ext cx="7238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دل علامة الترميز هذه لبداية ملف ال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1828800" y="5943600"/>
            <a:ext cx="73148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دل على نهاية محتوى ملف لغة ترميز النص المتش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2590920" y="3080520"/>
            <a:ext cx="37335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رض عنوان الصفحة الذي في أعلى الصفح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4"/>
          <p:cNvGrpSpPr/>
          <p:nvPr/>
        </p:nvGrpSpPr>
        <p:grpSpPr>
          <a:xfrm>
            <a:off x="5867280" y="4222080"/>
            <a:ext cx="3047760" cy="2416680"/>
            <a:chOff x="5867280" y="4222080"/>
            <a:chExt cx="3047760" cy="2416680"/>
          </a:xfrm>
        </p:grpSpPr>
        <p:sp>
          <p:nvSpPr>
            <p:cNvPr id="146" name="Right Brace 14"/>
            <p:cNvSpPr/>
            <p:nvPr/>
          </p:nvSpPr>
          <p:spPr>
            <a:xfrm>
              <a:off x="5867280" y="4222080"/>
              <a:ext cx="862920" cy="1492560"/>
            </a:xfrm>
            <a:prstGeom prst="rightBrace">
              <a:avLst>
                <a:gd name="adj1" fmla="val 8333"/>
                <a:gd name="adj2" fmla="val 50000"/>
              </a:avLst>
            </a:prstGeom>
            <a:solidFill>
              <a:schemeClr val="bg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15"/>
            <p:cNvSpPr/>
            <p:nvPr/>
          </p:nvSpPr>
          <p:spPr>
            <a:xfrm>
              <a:off x="6584760" y="4354560"/>
              <a:ext cx="233028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شمل المحتويات التي يتم عرضها كمحتوى لصفحة الوي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514800" y="0"/>
            <a:ext cx="95338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ff0000"/>
                </a:solidFill>
                <a:latin typeface="Century Schoolbook"/>
              </a:rPr>
              <a:t>تطوير صفحات الويب وكيفية عمله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0" y="909360"/>
            <a:ext cx="9143640" cy="71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تتم معّيرة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standardization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 تقنيات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الويب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من قبل تجمع/اتحاد شبكة الويب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العالمية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World Wide Web Consortium – W3C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، وذلك من خلال التوصية باستخدام أدوات قياسية لتطوير صفحات الوي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تتضمن توصية تجمع/اتحاد شبكة الويب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العالمية استخدا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لغة ترميز النص المتشعّب الموسعة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XHTM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نمط تنسيق الصفحات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CSS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لغة ترميز النص المتشعّب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TM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. (تعتبر الآن تقنية "قديمة"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لغة الترميز الموسعة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XM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0"/>
            <a:ext cx="9143640" cy="78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50000"/>
              </a:lnSpc>
            </a:pPr>
            <a:r>
              <a:rPr b="1" lang="ar-SA" sz="3100" spc="-1" strike="noStrike">
                <a:solidFill>
                  <a:srgbClr val="ff0000"/>
                </a:solidFill>
                <a:latin typeface="Century Schoolbook"/>
              </a:rPr>
              <a:t>محتوى الويب </a:t>
            </a:r>
            <a:r>
              <a:rPr b="1" lang="ar-SA" sz="3100" spc="-1" strike="noStrike">
                <a:solidFill>
                  <a:srgbClr val="000000"/>
                </a:solidFill>
                <a:latin typeface="Century Schoolbook"/>
              </a:rPr>
              <a:t>عبارة عن محتوى نصي أو مرئي أو سمعي وغيرها من أشكال تمثيل البيانات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1" lang="ar-SA" sz="3100" spc="-1" strike="noStrike">
                <a:solidFill>
                  <a:srgbClr val="000000"/>
                </a:solidFill>
                <a:latin typeface="Century Schoolbook"/>
              </a:rPr>
              <a:t>هنالك بعض التعاريفات الهامة المرتبطة بصحفات الويب وكيفية عملها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100" spc="-1" strike="noStrike">
                <a:solidFill>
                  <a:srgbClr val="ff0000"/>
                </a:solidFill>
                <a:latin typeface="Century Schoolbook"/>
              </a:rPr>
              <a:t>صفحة الويب</a:t>
            </a:r>
            <a:r>
              <a:rPr b="1" lang="en-US" sz="3100" spc="-1" strike="noStrike">
                <a:solidFill>
                  <a:srgbClr val="000000"/>
                </a:solidFill>
                <a:latin typeface="Century Schoolbook"/>
              </a:rPr>
              <a:t>: ملف نصي بسيط لا يحتوي فقط على نص ، ولكن يحتوي أيضاً مجموعة من علامات </a:t>
            </a:r>
            <a:r>
              <a:rPr b="1" lang="en-US" sz="3100" spc="-1" strike="noStrike">
                <a:solidFill>
                  <a:srgbClr val="000000"/>
                </a:solidFill>
                <a:latin typeface="Century Schoolbook"/>
              </a:rPr>
              <a:t> لغة ترميز النص المتشعّب (</a:t>
            </a:r>
            <a:r>
              <a:rPr b="1" lang="en-US" sz="3100" spc="-1" strike="noStrike">
                <a:solidFill>
                  <a:srgbClr val="000000"/>
                </a:solidFill>
                <a:latin typeface="Century Schoolbook"/>
              </a:rPr>
              <a:t>tags</a:t>
            </a:r>
            <a:r>
              <a:rPr b="1" lang="en-US" sz="3100" spc="-1" strike="noStrike">
                <a:solidFill>
                  <a:srgbClr val="000000"/>
                </a:solidFill>
                <a:latin typeface="Century Schoolbook"/>
              </a:rPr>
              <a:t>) التي تصف كيفية تنسيق النص عند عرضه على الشاشة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en-US" sz="3100" spc="-1" strike="noStrike">
                <a:solidFill>
                  <a:srgbClr val="ff0000"/>
                </a:solidFill>
                <a:latin typeface="Century Schoolbook"/>
              </a:rPr>
              <a:t>HTML</a:t>
            </a:r>
            <a:r>
              <a:rPr b="1" lang="en-US" sz="3100" spc="-1" strike="noStrike">
                <a:solidFill>
                  <a:srgbClr val="000000"/>
                </a:solidFill>
                <a:latin typeface="Century Schoolbook"/>
              </a:rPr>
              <a:t>: "لغة ترميز النص المتشعّب" هي لغة برمجة حاوسوب بسيطة تسخدم علامات (</a:t>
            </a:r>
            <a:r>
              <a:rPr b="1" lang="en-US" sz="3100" spc="-1" strike="noStrike">
                <a:solidFill>
                  <a:srgbClr val="000000"/>
                </a:solidFill>
                <a:latin typeface="Century Schoolbook"/>
              </a:rPr>
              <a:t>tags</a:t>
            </a:r>
            <a:r>
              <a:rPr b="1" lang="en-US" sz="3100" spc="-1" strike="noStrike">
                <a:solidFill>
                  <a:srgbClr val="000000"/>
                </a:solidFill>
                <a:latin typeface="Century Schoolbook"/>
              </a:rPr>
              <a:t>) تصف كيفية تنسيق محتوى الصفحة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0" y="0"/>
            <a:ext cx="9143640" cy="81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ar-SA" sz="3200" spc="-1" strike="noStrike">
                <a:solidFill>
                  <a:srgbClr val="ff0000"/>
                </a:solidFill>
                <a:latin typeface="Century Schoolbook"/>
              </a:rPr>
              <a:t>متصفح الويب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هو برنامج كمبيوتر يسمح للمستخدم بتصفح صفحات الويب مثل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Netscape 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،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ozilla Firefox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،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Google Chrome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و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icrosoft Internet Explorer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، ويقوم متصف الويب بعمل الآت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/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الاتصال بمخدم ويب على الإنترنت ومن ثم طلب صفحة معين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/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ترجمة مجموعة علامات لغة ترميز النص المتشعّب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ags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 داخل الصفحة المطلوبة ومن ثم عرضها حسب التنسيق المحدد وفقاً لمجموعة العلامات المستخد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0" y="0"/>
            <a:ext cx="914364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ar-SA" sz="3200" spc="-1" strike="noStrike">
                <a:solidFill>
                  <a:srgbClr val="ff0000"/>
                </a:solidFill>
                <a:latin typeface="Century Schoolbook"/>
              </a:rPr>
              <a:t>مخدم/خادم الويب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هو برنامج كمبيوتر يوجد بالمخدم يستجيب لطلب متصفح الويب بالبحث عن الصفحة المطلوبة ومن ثم ارسالها إلى متصفح الويب عبر الإنترن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1035360" y="0"/>
            <a:ext cx="69080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ff0000"/>
                </a:solidFill>
                <a:latin typeface="Century Schoolbook"/>
              </a:rPr>
              <a:t>كيف تعمل صفحات الوي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742320"/>
            <a:ext cx="9143640" cy="74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تعمل صفحات الويب وفقاً للخطوات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/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يقوم المستخدم على جهازه بكتابة عنوان الصفحة المطلو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/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يقوم متصفح الويب على جهاز المستخدم بارسال طلب الصفحة الى مخدم الوي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/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يقوم مخدم الويب بالموجود بالمخدم بالبحث عن الصفحة المطلوبة ومن ثم يقوم بارسال الرد على الطلب إما بارسال محتوى الصفحة المطلوبة أو يرد بعدم وجود الصفحة المطلو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1035360" y="0"/>
            <a:ext cx="69080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ff0000"/>
                </a:solidFill>
                <a:latin typeface="Century Schoolbook"/>
              </a:rPr>
              <a:t>كيف تعمل صفحات الوي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0" y="742320"/>
            <a:ext cx="9143640" cy="71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 startAt="4"/>
            </a:pPr>
            <a:r>
              <a:rPr b="1" lang="ar-SA" sz="3100" spc="-1" strike="noStrike">
                <a:solidFill>
                  <a:srgbClr val="000000"/>
                </a:solidFill>
                <a:latin typeface="Century Schoolbook"/>
              </a:rPr>
              <a:t>يقوم المتصفح باستلام الرد من المخدم (وفي حالة استلام محتوى الصفحة)، يعمل على ترجمة مجموعة علامات لغة النص المتشعّب (</a:t>
            </a:r>
            <a:r>
              <a:rPr b="1" lang="en-US" sz="3100" spc="-1" strike="noStrike">
                <a:solidFill>
                  <a:srgbClr val="000000"/>
                </a:solidFill>
                <a:latin typeface="Century Schoolbook"/>
              </a:rPr>
              <a:t>tags</a:t>
            </a:r>
            <a:r>
              <a:rPr b="1" lang="en-US" sz="3100" spc="-1" strike="noStrike">
                <a:solidFill>
                  <a:srgbClr val="000000"/>
                </a:solidFill>
                <a:latin typeface="Century Schoolbook"/>
              </a:rPr>
              <a:t>) داخل الصفحة المطلوبة ومن ثم عرضها حسب التنسيق المحدد وفقاً لمجموعة العلامات المستخدمة على جهاز المستخد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50000"/>
              </a:lnSpc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100" spc="-1" strike="noStrike">
                <a:solidFill>
                  <a:srgbClr val="000000"/>
                </a:solidFill>
                <a:latin typeface="Century Schoolbook"/>
              </a:rPr>
              <a:t>يمكن توضيح كيفية عمل صفحات الويب كما في الشكل التالي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0" y="914400"/>
            <a:ext cx="9143640" cy="2029680"/>
          </a:xfrm>
          <a:prstGeom prst="rect">
            <a:avLst/>
          </a:prstGeom>
          <a:ln w="9525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3048120" y="2362320"/>
            <a:ext cx="3220920" cy="533160"/>
          </a:xfrm>
          <a:prstGeom prst="rect">
            <a:avLst/>
          </a:prstGeom>
          <a:ln w="9525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0" y="2803320"/>
            <a:ext cx="2495160" cy="834480"/>
          </a:xfrm>
          <a:prstGeom prst="rect">
            <a:avLst/>
          </a:prstGeom>
          <a:ln w="9525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4"/>
          <a:stretch/>
        </p:blipFill>
        <p:spPr>
          <a:xfrm>
            <a:off x="3048120" y="990720"/>
            <a:ext cx="3046320" cy="552240"/>
          </a:xfrm>
          <a:prstGeom prst="rect">
            <a:avLst/>
          </a:prstGeom>
          <a:ln w="9525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5"/>
          <a:stretch/>
        </p:blipFill>
        <p:spPr>
          <a:xfrm>
            <a:off x="6877080" y="2909520"/>
            <a:ext cx="2266560" cy="637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-202320" y="0"/>
            <a:ext cx="95050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ff0000"/>
                </a:solidFill>
                <a:latin typeface="Century Schoolbook"/>
              </a:rPr>
              <a:t>لغات الانترنت </a:t>
            </a:r>
            <a:r>
              <a:rPr b="1" lang="en-US" sz="4400" spc="-1" strike="noStrike">
                <a:solidFill>
                  <a:srgbClr val="ff0000"/>
                </a:solidFill>
                <a:latin typeface="Century Schoolbook"/>
              </a:rPr>
              <a:t>Internet Langu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0" y="742320"/>
            <a:ext cx="9143640" cy="74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تم تحسين وتوسيع قدرات الإنترنت باستخدام لغات البرمجة إلى جانب لغة ترميز النص المتشعّ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من بين هذه اللغات، قد يكون أهمها حالياً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Java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و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TML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و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JavaScript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و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XML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وغيرها، وذلك حسب توصية تجمع/اتحاد شبكة الويب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العالمي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:(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SimSun"/>
              </a:rPr>
              <a:t>H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SimSun"/>
              </a:rPr>
              <a:t>yper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SimSun"/>
              </a:rPr>
              <a:t>T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SimSun"/>
              </a:rPr>
              <a:t>ext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SimSun"/>
              </a:rPr>
              <a:t>M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SimSun"/>
              </a:rPr>
              <a:t>arkup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SimSun"/>
              </a:rPr>
              <a:t>L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SimSun"/>
              </a:rPr>
              <a:t>anguage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  <a:ea typeface="SimSu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  <a:ea typeface="SimSun"/>
              </a:rPr>
              <a:t>HTML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  <a:ea typeface="SimSun"/>
              </a:rPr>
              <a:t> لغة ترميز النص المتشعّب وهي اللغة الرئيسية المستخدمة لتطوير صفحات الويب.للإنترن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riel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el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784</TotalTime>
  <Application>LibreOffice/7.4.7.2$Linux_X86_64 LibreOffice_project/40$Build-2</Application>
  <AppVersion>15.0000</AppVersion>
  <Words>1025</Words>
  <Paragraphs>8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EME</dc:creator>
  <dc:description/>
  <dc:language>en-US</dc:language>
  <cp:lastModifiedBy>jawish</cp:lastModifiedBy>
  <dcterms:modified xsi:type="dcterms:W3CDTF">2021-05-25T06:54:41Z</dcterms:modified>
  <cp:revision>521</cp:revision>
  <dc:subject/>
  <dc:title>المحاضرة الأولى الحاسبات وأنواعها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7</vt:r8>
  </property>
</Properties>
</file>